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6B9-2866-4443-87BE-543C1051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B42-16D2-4C55-9E7E-0ABDDC27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3BA-6D0D-4841-8132-A306CB35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395-3612-4261-BFCC-9C3BC0CE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D06-80F7-42AF-83E4-54BB157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F6F-6D3A-4850-AACF-F4ACDE36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6F7-D6B5-49F6-A92C-583CA6E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98C-3261-4E25-B67C-30F98B0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433-1099-4125-A00F-96F19DA0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91C-D656-402B-B63D-FFC94F7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A56-8A35-42C7-8A71-0C844A9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710-A5C6-4B64-ADD9-5588789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C4FF-DE4F-45BE-90FD-6FED2AE35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3505320"/>
            <a:ext cx="228600" cy="2057400"/>
          </a:xfrm>
          <a:prstGeom prst="can">
            <a:avLst>
              <a:gd name="adj" fmla="val 771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4495680"/>
            <a:ext cx="1371600" cy="137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4724280"/>
            <a:ext cx="152280" cy="4572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4724280"/>
            <a:ext cx="152640" cy="4572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181480"/>
            <a:ext cx="914400" cy="45720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0"/>
                </a:moveTo>
                <a:lnTo>
                  <a:pt x="144" y="192"/>
                </a:lnTo>
                <a:lnTo>
                  <a:pt x="336" y="240"/>
                </a:lnTo>
                <a:lnTo>
                  <a:pt x="432" y="240"/>
                </a:lnTo>
                <a:lnTo>
                  <a:pt x="624" y="192"/>
                </a:lnTo>
                <a:lnTo>
                  <a:pt x="76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38440" y="2529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3505320"/>
            <a:ext cx="2209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CB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505320"/>
            <a:ext cx="228600" cy="2057400"/>
          </a:xfrm>
          <a:prstGeom prst="can">
            <a:avLst>
              <a:gd name="adj" fmla="val 771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4419720"/>
            <a:ext cx="2057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TIF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5:27:34Z</dcterms:created>
  <dc:creator>Upinder S. Bhalla</dc:creator>
  <dc:description/>
  <dc:language>en-US</dc:language>
  <cp:lastModifiedBy>Upinder S. Bhalla</cp:lastModifiedBy>
  <dcterms:modified xsi:type="dcterms:W3CDTF">2002-09-05T05:27:44Z</dcterms:modified>
  <cp:revision>1</cp:revision>
  <dc:subject/>
  <dc:title>PowerPoint Presentation</dc:title>
</cp:coreProperties>
</file>