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3B3-6B52-448B-9850-FF89A54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C6E-3ED5-4736-831A-BE570594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E77-6D02-45EE-B614-640E2A92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188-E909-4F5C-B3DF-D80291B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D35-44B8-434D-9627-68D0948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B89-7D4F-4E37-B9B7-903C4FF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203-6591-4AEF-8FDD-09364B9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9F7-E076-425B-9D7A-717F58B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E7D-CADC-4A7A-BCE4-89B0C15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13D-140E-4BE8-A29F-2B6ECAB1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018-52C8-4CC5-BEE4-CAACC07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FBE-8F1C-4B22-B5C3-C31B3AF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F3A-5142-4BDD-A78F-2DEAA8C04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urrent flow through a chann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038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(V –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ern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current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= Voltage across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ern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Nernst potential of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Conductance of channel (may itself be voltage-dependen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8195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666880"/>
            <a:ext cx="380880" cy="304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2590920"/>
            <a:ext cx="228600" cy="4572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590920"/>
            <a:ext cx="228600" cy="4572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2096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981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4382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3526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28600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114800"/>
            <a:ext cx="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5780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19920" y="4890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8000" y="3733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267080" y="4114440"/>
            <a:ext cx="2057400" cy="16765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52880" y="53341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49440" y="6262560"/>
            <a:ext cx="20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rsal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360" y="28954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257800"/>
            <a:ext cx="1015920" cy="216000"/>
          </a:xfrm>
          <a:custGeom>
            <a:avLst/>
            <a:gdLst/>
            <a:ahLst/>
            <a:rect l="l" t="t" r="r" b="b"/>
            <a:pathLst>
              <a:path w="1696" h="817">
                <a:moveTo>
                  <a:pt x="1696" y="0"/>
                </a:moveTo>
                <a:cubicBezTo>
                  <a:pt x="1618" y="117"/>
                  <a:pt x="1558" y="292"/>
                  <a:pt x="1475" y="389"/>
                </a:cubicBezTo>
                <a:cubicBezTo>
                  <a:pt x="1406" y="467"/>
                  <a:pt x="1393" y="495"/>
                  <a:pt x="1320" y="544"/>
                </a:cubicBezTo>
                <a:cubicBezTo>
                  <a:pt x="1278" y="573"/>
                  <a:pt x="1184" y="661"/>
                  <a:pt x="1143" y="700"/>
                </a:cubicBezTo>
                <a:cubicBezTo>
                  <a:pt x="1074" y="768"/>
                  <a:pt x="936" y="816"/>
                  <a:pt x="936" y="816"/>
                </a:cubicBezTo>
                <a:cubicBezTo>
                  <a:pt x="840" y="792"/>
                  <a:pt x="774" y="817"/>
                  <a:pt x="701" y="778"/>
                </a:cubicBezTo>
                <a:cubicBezTo>
                  <a:pt x="627" y="739"/>
                  <a:pt x="479" y="623"/>
                  <a:pt x="479" y="623"/>
                </a:cubicBezTo>
                <a:cubicBezTo>
                  <a:pt x="430" y="558"/>
                  <a:pt x="415" y="500"/>
                  <a:pt x="384" y="448"/>
                </a:cubicBezTo>
                <a:cubicBezTo>
                  <a:pt x="353" y="396"/>
                  <a:pt x="359" y="386"/>
                  <a:pt x="295" y="311"/>
                </a:cubicBezTo>
                <a:cubicBezTo>
                  <a:pt x="166" y="136"/>
                  <a:pt x="161" y="0"/>
                  <a:pt x="0" y="0"/>
                </a:cubicBezTo>
              </a:path>
            </a:pathLst>
          </a:custGeom>
          <a:noFill/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5800" y="41292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800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3400" y="396252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hm’s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duc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 is a protein pore in a membra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pen or clo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highly selective for a given 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flow rates for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n flow depends on concentration gradient and potent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ion has a 'reversal potential' at which the effect of conc and potential are equal and opposite, and no ions fl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channels will inactivate after a certain period of op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s can be phosphorylated, or bind to regul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ly 5 subun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433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hR: Nicotinic Acetylcholine 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ore, passes most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ential ~ -5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ably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nAChR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1082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R: Glutamate recep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A and Kainate sub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s  mostly Na ions, some K, some forms pass a little 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ligand-gated excitatory channel for mammalian nervou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: tau &lt; 1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ential ~ 0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DAR: N-Methyl D-Aspartate Receptor (another Glutamate recep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receptor for memory. Passes Na ions, and also Ca when voltage stimulus is present simultaneously. This gives ASSOCIA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l ~0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: ~100 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A-A receptor: Gamma-amino butyric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inhibitory neurotransmitter in mammalian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al potl ~ -70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speed, ~10 m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ACh: Ligand arrives intracellularly. Possibly Gi_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by GPCRs, including mACh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(but fast for GPCRs: 300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al potl ~ -70 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G channels: Cyclic Nucleotide-Gated channels. (cGMP, c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 arrives intracell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conductance, some also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3R: Inositol Trisphosphate Recep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on intracellular stores: 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 arrives intracell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conduc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ance modulated by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in response to voltag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quite fast: &lt; 1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inactivate after long ope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obey Hodgkin-Huxley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after major 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have 4 subunits of 6 transmembrane dom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: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 Chann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5019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types. 4 subunits on different peptide chains, per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electr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inward rectifier: opposes Na channel in action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: Opening depends both on V and [C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Kchan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3498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2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: input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: Na and C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have all 4 subunits as part of one big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ai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ast, rising phase of action po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vates quickly (&lt; 5 mse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in neuro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s voltage signals to Ca and thus interacts with signall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ormous concentration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nM inside, 1 mM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arge dynamic range of Ca responses: 100 nM to 10 or even 100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ast responses: mediated by channels, even protein interactions are 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link between electrical and chemical signa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Homeosta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057400"/>
            <a:ext cx="6019920" cy="411480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1828800"/>
            <a:ext cx="304560" cy="380880"/>
          </a:xfrm>
          <a:prstGeom prst="can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19810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828800"/>
            <a:ext cx="30456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1676520"/>
            <a:ext cx="228600" cy="228600"/>
          </a:xfrm>
          <a:prstGeom prst="diamond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16765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6002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0400" y="17521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733920"/>
            <a:ext cx="1523880" cy="9144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14600" y="358056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3526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429000"/>
            <a:ext cx="304560" cy="533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3276720"/>
            <a:ext cx="228600" cy="228600"/>
          </a:xfrm>
          <a:prstGeom prst="diamond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429000" y="3200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295280" y="4038480"/>
            <a:ext cx="304920" cy="457200"/>
          </a:xfrm>
          <a:prstGeom prst="can">
            <a:avLst>
              <a:gd name="adj" fmla="val 25000"/>
            </a:avLst>
          </a:prstGeom>
          <a:solidFill>
            <a:srgbClr val="644f8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267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160" y="3809880"/>
            <a:ext cx="838440" cy="228600"/>
          </a:xfrm>
          <a:custGeom>
            <a:avLst/>
            <a:gdLst>
              <a:gd name="textAreaLeft" fmla="*/ 146160 w 838440"/>
              <a:gd name="textAreaRight" fmla="*/ 60768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5146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5146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2743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33526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3434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1911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26708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4290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5909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6483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8195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36576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7432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4114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4197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4956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2590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362320"/>
            <a:ext cx="304560" cy="53316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1337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2895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67652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9051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1828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828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676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1600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19810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19810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9051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9720" y="443376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-ope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040" y="198108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 p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9760" y="18288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-g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1981080"/>
            <a:ext cx="304920" cy="381240"/>
          </a:xfrm>
          <a:prstGeom prst="can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18288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971800"/>
            <a:ext cx="3049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3120" y="2819520"/>
            <a:ext cx="228600" cy="228600"/>
          </a:xfrm>
          <a:prstGeom prst="diamond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27432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666880"/>
            <a:ext cx="9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520" y="48150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ings that influence Ca lev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-gated Ion channels in cel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-gated ion channels in cel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-gated ion channels in ER and other Ca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-gated ion channels (CI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pumps from cytosol to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pumps from cytosol to 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pacitative' calcium entry system, SO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s calcium levels in stores. If low, then somehow opens a channel in the plasma membrane (!). Ca comes into cytosol, and then pumped into 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buffers in cytosol, nucleus and 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signalling following a stimulu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9200" y="16765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stimulus: Ca comes in from V-gated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stimul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 comes in via ligand-gated channel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CR-&gt;Gq-&gt;PLCbeta-&gt;IP3-&gt;IP3R-&gt;Ca from ER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K-&gt;PLCgamma-&gt;IP3-&gt;IP3R-&gt;Ca from 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may activate further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CR from IP3R or R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-&gt;PLC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C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&gt; I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 soak up huge amounts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CaM is present at ~80 uM in some t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mps activated, both in plasma membrane and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tores are depleted, SOCC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s and GPC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4257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common signal transduc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CRs  (G-protein coupled receptors) are 7-transmembrane heli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factory GPCRs alone account for over 1000 known genes: 3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proteins named because all of them hydrolyze GTP, but slow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GPCR_str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3544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s and GPC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230" name="GPCR1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5325840" cy="5521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76920" y="1614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 +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9760" y="327672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 + R.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5600" y="160020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8920" y="32767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.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5400" y="3886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5400" y="45720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52720" y="5119560"/>
            <a:ext cx="107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TP.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48720" y="365760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0" y="4102200"/>
            <a:ext cx="279360" cy="698400"/>
          </a:xfrm>
          <a:custGeom>
            <a:avLst/>
            <a:gdLst/>
            <a:ahLst/>
            <a:rect l="l" t="t" r="r" b="b"/>
            <a:pathLst>
              <a:path w="176" h="496">
                <a:moveTo>
                  <a:pt x="8" y="0"/>
                </a:moveTo>
                <a:cubicBezTo>
                  <a:pt x="34" y="9"/>
                  <a:pt x="54" y="23"/>
                  <a:pt x="80" y="32"/>
                </a:cubicBezTo>
                <a:cubicBezTo>
                  <a:pt x="106" y="71"/>
                  <a:pt x="133" y="109"/>
                  <a:pt x="152" y="152"/>
                </a:cubicBezTo>
                <a:cubicBezTo>
                  <a:pt x="159" y="167"/>
                  <a:pt x="163" y="184"/>
                  <a:pt x="168" y="200"/>
                </a:cubicBezTo>
                <a:cubicBezTo>
                  <a:pt x="171" y="208"/>
                  <a:pt x="176" y="224"/>
                  <a:pt x="176" y="224"/>
                </a:cubicBezTo>
                <a:cubicBezTo>
                  <a:pt x="167" y="305"/>
                  <a:pt x="163" y="392"/>
                  <a:pt x="96" y="448"/>
                </a:cubicBezTo>
                <a:cubicBezTo>
                  <a:pt x="68" y="472"/>
                  <a:pt x="32" y="480"/>
                  <a:pt x="0" y="49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61320" y="1955880"/>
            <a:ext cx="582480" cy="2592360"/>
          </a:xfrm>
          <a:custGeom>
            <a:avLst/>
            <a:gdLst/>
            <a:ahLst/>
            <a:rect l="l" t="t" r="r" b="b"/>
            <a:pathLst>
              <a:path w="367" h="1633">
                <a:moveTo>
                  <a:pt x="0" y="1544"/>
                </a:moveTo>
                <a:cubicBezTo>
                  <a:pt x="24" y="1593"/>
                  <a:pt x="43" y="1619"/>
                  <a:pt x="96" y="1632"/>
                </a:cubicBezTo>
                <a:cubicBezTo>
                  <a:pt x="164" y="1623"/>
                  <a:pt x="191" y="1633"/>
                  <a:pt x="240" y="1584"/>
                </a:cubicBezTo>
                <a:cubicBezTo>
                  <a:pt x="285" y="1463"/>
                  <a:pt x="310" y="1359"/>
                  <a:pt x="328" y="1232"/>
                </a:cubicBezTo>
                <a:cubicBezTo>
                  <a:pt x="335" y="1184"/>
                  <a:pt x="352" y="1088"/>
                  <a:pt x="352" y="1088"/>
                </a:cubicBezTo>
                <a:cubicBezTo>
                  <a:pt x="367" y="822"/>
                  <a:pt x="361" y="1052"/>
                  <a:pt x="352" y="848"/>
                </a:cubicBezTo>
                <a:cubicBezTo>
                  <a:pt x="348" y="755"/>
                  <a:pt x="349" y="661"/>
                  <a:pt x="344" y="568"/>
                </a:cubicBezTo>
                <a:cubicBezTo>
                  <a:pt x="342" y="533"/>
                  <a:pt x="319" y="479"/>
                  <a:pt x="312" y="448"/>
                </a:cubicBezTo>
                <a:cubicBezTo>
                  <a:pt x="295" y="368"/>
                  <a:pt x="294" y="286"/>
                  <a:pt x="272" y="208"/>
                </a:cubicBezTo>
                <a:cubicBezTo>
                  <a:pt x="254" y="144"/>
                  <a:pt x="268" y="88"/>
                  <a:pt x="208" y="48"/>
                </a:cubicBezTo>
                <a:cubicBezTo>
                  <a:pt x="197" y="32"/>
                  <a:pt x="176" y="0"/>
                  <a:pt x="176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20574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50532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198108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1828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7120" y="2376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70880" y="2590920"/>
            <a:ext cx="177840" cy="368280"/>
          </a:xfrm>
          <a:custGeom>
            <a:avLst/>
            <a:gdLst/>
            <a:ahLst/>
            <a:rect l="l" t="t" r="r" b="b"/>
            <a:pathLst>
              <a:path w="112" h="232">
                <a:moveTo>
                  <a:pt x="0" y="0"/>
                </a:moveTo>
                <a:cubicBezTo>
                  <a:pt x="68" y="23"/>
                  <a:pt x="112" y="161"/>
                  <a:pt x="112" y="2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644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0200" y="2576520"/>
            <a:ext cx="177840" cy="368280"/>
          </a:xfrm>
          <a:custGeom>
            <a:avLst/>
            <a:gdLst/>
            <a:ahLst/>
            <a:rect l="l" t="t" r="r" b="b"/>
            <a:pathLst>
              <a:path w="112" h="232">
                <a:moveTo>
                  <a:pt x="0" y="0"/>
                </a:moveTo>
                <a:cubicBezTo>
                  <a:pt x="68" y="23"/>
                  <a:pt x="112" y="161"/>
                  <a:pt x="112" y="2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GPCR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2136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53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signall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ctive only in the GTP-bound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drolysis of GTP increases when it binds the target.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urned on and stays on till it activates target then its clock starts running and a precis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rget is said to be a GAP:             GTPase Activating Pro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nciple we can get many permutations and combinations of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eptor Tyrosine Kin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3419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bu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transmembrane hel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ion by dimerization and cross-phosphory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RTK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394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2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tage and voltage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proteins and GPC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ptor Tyrosine Kin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ation of RT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256" name="PDGF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788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TK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124080"/>
            <a:ext cx="601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2743200"/>
            <a:ext cx="304920" cy="914400"/>
            <a:chOff x="1371600" y="2743200"/>
            <a:chExt cx="304920" cy="914400"/>
          </a:xfrm>
        </p:grpSpPr>
        <p:sp>
          <p:nvSpPr>
            <p:cNvPr id="260" name=""/>
            <p:cNvSpPr/>
            <p:nvPr/>
          </p:nvSpPr>
          <p:spPr>
            <a:xfrm>
              <a:off x="137160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362320" y="2743200"/>
            <a:ext cx="304560" cy="914400"/>
            <a:chOff x="2362320" y="2743200"/>
            <a:chExt cx="304560" cy="914400"/>
          </a:xfrm>
        </p:grpSpPr>
        <p:sp>
          <p:nvSpPr>
            <p:cNvPr id="263" name=""/>
            <p:cNvSpPr/>
            <p:nvPr/>
          </p:nvSpPr>
          <p:spPr>
            <a:xfrm flipH="1">
              <a:off x="2362320" y="2743200"/>
              <a:ext cx="30456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623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752480" y="2057400"/>
            <a:ext cx="457200" cy="457200"/>
          </a:xfrm>
          <a:prstGeom prst="diamond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76160" y="25909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59092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352680" y="2743200"/>
            <a:ext cx="304920" cy="914400"/>
            <a:chOff x="3352680" y="2743200"/>
            <a:chExt cx="304920" cy="914400"/>
          </a:xfrm>
        </p:grpSpPr>
        <p:sp>
          <p:nvSpPr>
            <p:cNvPr id="269" name=""/>
            <p:cNvSpPr/>
            <p:nvPr/>
          </p:nvSpPr>
          <p:spPr>
            <a:xfrm>
              <a:off x="335268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60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09520" y="2743200"/>
            <a:ext cx="304920" cy="914400"/>
            <a:chOff x="3809520" y="2743200"/>
            <a:chExt cx="304920" cy="914400"/>
          </a:xfrm>
        </p:grpSpPr>
        <p:sp>
          <p:nvSpPr>
            <p:cNvPr id="272" name=""/>
            <p:cNvSpPr/>
            <p:nvPr/>
          </p:nvSpPr>
          <p:spPr>
            <a:xfrm flipH="1">
              <a:off x="380952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5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05320" y="2514600"/>
            <a:ext cx="457200" cy="457200"/>
          </a:xfrm>
          <a:prstGeom prst="diamond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429000"/>
            <a:ext cx="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429000"/>
            <a:ext cx="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4191120"/>
            <a:ext cx="685800" cy="91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C-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952880" y="2514600"/>
            <a:ext cx="761760" cy="1143000"/>
            <a:chOff x="4952880" y="2514600"/>
            <a:chExt cx="761760" cy="1143000"/>
          </a:xfrm>
        </p:grpSpPr>
        <p:grpSp>
          <p:nvGrpSpPr>
            <p:cNvPr id="279" name=""/>
            <p:cNvGrpSpPr/>
            <p:nvPr/>
          </p:nvGrpSpPr>
          <p:grpSpPr>
            <a:xfrm>
              <a:off x="4952880" y="2743200"/>
              <a:ext cx="304920" cy="914400"/>
              <a:chOff x="4952880" y="2743200"/>
              <a:chExt cx="304920" cy="914400"/>
            </a:xfrm>
          </p:grpSpPr>
          <p:sp>
            <p:nvSpPr>
              <p:cNvPr id="280" name=""/>
              <p:cNvSpPr/>
              <p:nvPr/>
            </p:nvSpPr>
            <p:spPr>
              <a:xfrm>
                <a:off x="4952880" y="2743200"/>
                <a:ext cx="30492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57800" y="30481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409720" y="2743200"/>
              <a:ext cx="304920" cy="914400"/>
              <a:chOff x="5409720" y="2743200"/>
              <a:chExt cx="304920" cy="91440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5409720" y="2743200"/>
                <a:ext cx="30492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9720" y="30481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05520" y="2514600"/>
              <a:ext cx="457200" cy="457200"/>
            </a:xfrm>
            <a:prstGeom prst="diamond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34290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0080" y="34290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410080" y="3352680"/>
            <a:ext cx="609840" cy="609840"/>
          </a:xfrm>
          <a:prstGeom prst="parallelogram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809880"/>
            <a:ext cx="609840" cy="762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4648320"/>
            <a:ext cx="1218960" cy="685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5638680"/>
            <a:ext cx="609480" cy="3812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638680"/>
            <a:ext cx="609480" cy="3812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3733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428640" y="5181480"/>
            <a:ext cx="15228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5181480"/>
            <a:ext cx="1522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83560" y="3086280"/>
            <a:ext cx="1689120" cy="1688760"/>
          </a:xfrm>
          <a:custGeom>
            <a:avLst/>
            <a:gdLst/>
            <a:ahLst/>
            <a:rect l="l" t="t" r="r" b="b"/>
            <a:pathLst>
              <a:path w="1064" h="1064">
                <a:moveTo>
                  <a:pt x="0" y="26"/>
                </a:moveTo>
                <a:cubicBezTo>
                  <a:pt x="53" y="29"/>
                  <a:pt x="109" y="19"/>
                  <a:pt x="160" y="34"/>
                </a:cubicBezTo>
                <a:cubicBezTo>
                  <a:pt x="177" y="39"/>
                  <a:pt x="218" y="133"/>
                  <a:pt x="232" y="154"/>
                </a:cubicBezTo>
                <a:cubicBezTo>
                  <a:pt x="271" y="312"/>
                  <a:pt x="228" y="602"/>
                  <a:pt x="184" y="778"/>
                </a:cubicBezTo>
                <a:cubicBezTo>
                  <a:pt x="189" y="826"/>
                  <a:pt x="191" y="874"/>
                  <a:pt x="200" y="922"/>
                </a:cubicBezTo>
                <a:cubicBezTo>
                  <a:pt x="212" y="986"/>
                  <a:pt x="359" y="1028"/>
                  <a:pt x="408" y="1034"/>
                </a:cubicBezTo>
                <a:cubicBezTo>
                  <a:pt x="607" y="1028"/>
                  <a:pt x="761" y="1064"/>
                  <a:pt x="856" y="874"/>
                </a:cubicBezTo>
                <a:cubicBezTo>
                  <a:pt x="867" y="797"/>
                  <a:pt x="871" y="719"/>
                  <a:pt x="880" y="642"/>
                </a:cubicBezTo>
                <a:cubicBezTo>
                  <a:pt x="858" y="552"/>
                  <a:pt x="859" y="522"/>
                  <a:pt x="784" y="466"/>
                </a:cubicBezTo>
                <a:cubicBezTo>
                  <a:pt x="781" y="458"/>
                  <a:pt x="780" y="450"/>
                  <a:pt x="776" y="442"/>
                </a:cubicBezTo>
                <a:cubicBezTo>
                  <a:pt x="772" y="433"/>
                  <a:pt x="763" y="427"/>
                  <a:pt x="760" y="418"/>
                </a:cubicBezTo>
                <a:cubicBezTo>
                  <a:pt x="748" y="384"/>
                  <a:pt x="737" y="335"/>
                  <a:pt x="728" y="298"/>
                </a:cubicBezTo>
                <a:cubicBezTo>
                  <a:pt x="732" y="243"/>
                  <a:pt x="726" y="124"/>
                  <a:pt x="776" y="74"/>
                </a:cubicBezTo>
                <a:cubicBezTo>
                  <a:pt x="801" y="49"/>
                  <a:pt x="840" y="45"/>
                  <a:pt x="872" y="34"/>
                </a:cubicBezTo>
                <a:cubicBezTo>
                  <a:pt x="888" y="29"/>
                  <a:pt x="920" y="18"/>
                  <a:pt x="920" y="18"/>
                </a:cubicBezTo>
                <a:cubicBezTo>
                  <a:pt x="974" y="32"/>
                  <a:pt x="958" y="7"/>
                  <a:pt x="1008" y="2"/>
                </a:cubicBezTo>
                <a:cubicBezTo>
                  <a:pt x="1027" y="0"/>
                  <a:pt x="1045" y="2"/>
                  <a:pt x="1064" y="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40760" y="4102200"/>
            <a:ext cx="761400" cy="1143000"/>
            <a:chOff x="7340760" y="4102200"/>
            <a:chExt cx="761400" cy="1143000"/>
          </a:xfrm>
        </p:grpSpPr>
        <p:grpSp>
          <p:nvGrpSpPr>
            <p:cNvPr id="298" name=""/>
            <p:cNvGrpSpPr/>
            <p:nvPr/>
          </p:nvGrpSpPr>
          <p:grpSpPr>
            <a:xfrm>
              <a:off x="7340760" y="4330800"/>
              <a:ext cx="304560" cy="914400"/>
              <a:chOff x="7340760" y="4330800"/>
              <a:chExt cx="30456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7340760" y="4330800"/>
                <a:ext cx="30456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45320" y="46357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797600" y="4330800"/>
              <a:ext cx="304560" cy="914400"/>
              <a:chOff x="7797600" y="4330800"/>
              <a:chExt cx="304560" cy="91440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7797600" y="4330800"/>
                <a:ext cx="30456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97600" y="46357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7493040" y="4102200"/>
              <a:ext cx="456840" cy="457200"/>
            </a:xfrm>
            <a:prstGeom prst="diamond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45320" y="50166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97600" y="50166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258680" y="27068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6307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-gate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protein sign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ptor Tyrosine 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artmental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666880"/>
            <a:ext cx="5105520" cy="3429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3360" y="207180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side = extracellula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2680" y="2514600"/>
            <a:ext cx="128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29040" y="336708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ide = cyt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886200"/>
            <a:ext cx="1447920" cy="1828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3095640"/>
            <a:ext cx="4217760" cy="2911320"/>
          </a:xfrm>
          <a:custGeom>
            <a:avLst/>
            <a:gdLst/>
            <a:ahLst/>
            <a:rect l="l" t="t" r="r" b="b"/>
            <a:pathLst>
              <a:path w="2657" h="1834">
                <a:moveTo>
                  <a:pt x="2008" y="842"/>
                </a:moveTo>
                <a:cubicBezTo>
                  <a:pt x="1937" y="771"/>
                  <a:pt x="1932" y="641"/>
                  <a:pt x="1920" y="546"/>
                </a:cubicBezTo>
                <a:cubicBezTo>
                  <a:pt x="1932" y="297"/>
                  <a:pt x="1914" y="369"/>
                  <a:pt x="2208" y="378"/>
                </a:cubicBezTo>
                <a:cubicBezTo>
                  <a:pt x="2291" y="461"/>
                  <a:pt x="2263" y="486"/>
                  <a:pt x="2272" y="618"/>
                </a:cubicBezTo>
                <a:cubicBezTo>
                  <a:pt x="2277" y="685"/>
                  <a:pt x="2266" y="715"/>
                  <a:pt x="2328" y="730"/>
                </a:cubicBezTo>
                <a:cubicBezTo>
                  <a:pt x="2354" y="670"/>
                  <a:pt x="2373" y="611"/>
                  <a:pt x="2384" y="546"/>
                </a:cubicBezTo>
                <a:cubicBezTo>
                  <a:pt x="2378" y="521"/>
                  <a:pt x="2355" y="486"/>
                  <a:pt x="2384" y="466"/>
                </a:cubicBezTo>
                <a:cubicBezTo>
                  <a:pt x="2393" y="460"/>
                  <a:pt x="2405" y="461"/>
                  <a:pt x="2416" y="458"/>
                </a:cubicBezTo>
                <a:cubicBezTo>
                  <a:pt x="2448" y="469"/>
                  <a:pt x="2461" y="482"/>
                  <a:pt x="2472" y="514"/>
                </a:cubicBezTo>
                <a:cubicBezTo>
                  <a:pt x="2465" y="569"/>
                  <a:pt x="2452" y="620"/>
                  <a:pt x="2440" y="674"/>
                </a:cubicBezTo>
                <a:cubicBezTo>
                  <a:pt x="2435" y="696"/>
                  <a:pt x="2424" y="738"/>
                  <a:pt x="2424" y="738"/>
                </a:cubicBezTo>
                <a:cubicBezTo>
                  <a:pt x="2427" y="762"/>
                  <a:pt x="2423" y="788"/>
                  <a:pt x="2432" y="810"/>
                </a:cubicBezTo>
                <a:cubicBezTo>
                  <a:pt x="2435" y="818"/>
                  <a:pt x="2448" y="818"/>
                  <a:pt x="2456" y="818"/>
                </a:cubicBezTo>
                <a:cubicBezTo>
                  <a:pt x="2490" y="818"/>
                  <a:pt x="2557" y="798"/>
                  <a:pt x="2592" y="794"/>
                </a:cubicBezTo>
                <a:cubicBezTo>
                  <a:pt x="2626" y="845"/>
                  <a:pt x="2594" y="884"/>
                  <a:pt x="2640" y="930"/>
                </a:cubicBezTo>
                <a:cubicBezTo>
                  <a:pt x="2657" y="999"/>
                  <a:pt x="2657" y="1060"/>
                  <a:pt x="2640" y="1130"/>
                </a:cubicBezTo>
                <a:cubicBezTo>
                  <a:pt x="2636" y="1146"/>
                  <a:pt x="2639" y="1170"/>
                  <a:pt x="2624" y="1178"/>
                </a:cubicBezTo>
                <a:cubicBezTo>
                  <a:pt x="2601" y="1192"/>
                  <a:pt x="2571" y="1183"/>
                  <a:pt x="2544" y="1186"/>
                </a:cubicBezTo>
                <a:cubicBezTo>
                  <a:pt x="2465" y="1179"/>
                  <a:pt x="2397" y="1169"/>
                  <a:pt x="2320" y="1154"/>
                </a:cubicBezTo>
                <a:cubicBezTo>
                  <a:pt x="2276" y="1110"/>
                  <a:pt x="2277" y="1113"/>
                  <a:pt x="2208" y="1122"/>
                </a:cubicBezTo>
                <a:cubicBezTo>
                  <a:pt x="2203" y="1133"/>
                  <a:pt x="2193" y="1142"/>
                  <a:pt x="2192" y="1154"/>
                </a:cubicBezTo>
                <a:cubicBezTo>
                  <a:pt x="2185" y="1258"/>
                  <a:pt x="2212" y="1366"/>
                  <a:pt x="2184" y="1466"/>
                </a:cubicBezTo>
                <a:cubicBezTo>
                  <a:pt x="2177" y="1492"/>
                  <a:pt x="2131" y="1471"/>
                  <a:pt x="2104" y="1474"/>
                </a:cubicBezTo>
                <a:cubicBezTo>
                  <a:pt x="2063" y="1447"/>
                  <a:pt x="2060" y="1438"/>
                  <a:pt x="2024" y="1474"/>
                </a:cubicBezTo>
                <a:cubicBezTo>
                  <a:pt x="2011" y="1550"/>
                  <a:pt x="1982" y="1600"/>
                  <a:pt x="1904" y="1626"/>
                </a:cubicBezTo>
                <a:cubicBezTo>
                  <a:pt x="1892" y="1625"/>
                  <a:pt x="1784" y="1607"/>
                  <a:pt x="1768" y="1626"/>
                </a:cubicBezTo>
                <a:cubicBezTo>
                  <a:pt x="1751" y="1647"/>
                  <a:pt x="1769" y="1681"/>
                  <a:pt x="1760" y="1706"/>
                </a:cubicBezTo>
                <a:cubicBezTo>
                  <a:pt x="1757" y="1714"/>
                  <a:pt x="1744" y="1712"/>
                  <a:pt x="1736" y="1714"/>
                </a:cubicBezTo>
                <a:cubicBezTo>
                  <a:pt x="1686" y="1725"/>
                  <a:pt x="1635" y="1732"/>
                  <a:pt x="1584" y="1738"/>
                </a:cubicBezTo>
                <a:cubicBezTo>
                  <a:pt x="1532" y="1755"/>
                  <a:pt x="1492" y="1802"/>
                  <a:pt x="1440" y="1818"/>
                </a:cubicBezTo>
                <a:cubicBezTo>
                  <a:pt x="1389" y="1834"/>
                  <a:pt x="1333" y="1829"/>
                  <a:pt x="1280" y="1834"/>
                </a:cubicBezTo>
                <a:cubicBezTo>
                  <a:pt x="1235" y="1818"/>
                  <a:pt x="1184" y="1812"/>
                  <a:pt x="1144" y="1786"/>
                </a:cubicBezTo>
                <a:cubicBezTo>
                  <a:pt x="1115" y="1768"/>
                  <a:pt x="1104" y="1730"/>
                  <a:pt x="1080" y="1706"/>
                </a:cubicBezTo>
                <a:cubicBezTo>
                  <a:pt x="1061" y="1687"/>
                  <a:pt x="1037" y="1674"/>
                  <a:pt x="1016" y="1658"/>
                </a:cubicBezTo>
                <a:cubicBezTo>
                  <a:pt x="988" y="1573"/>
                  <a:pt x="983" y="1483"/>
                  <a:pt x="968" y="1394"/>
                </a:cubicBezTo>
                <a:cubicBezTo>
                  <a:pt x="904" y="1397"/>
                  <a:pt x="838" y="1386"/>
                  <a:pt x="776" y="1402"/>
                </a:cubicBezTo>
                <a:cubicBezTo>
                  <a:pt x="739" y="1411"/>
                  <a:pt x="714" y="1449"/>
                  <a:pt x="680" y="1466"/>
                </a:cubicBezTo>
                <a:cubicBezTo>
                  <a:pt x="660" y="1476"/>
                  <a:pt x="637" y="1477"/>
                  <a:pt x="616" y="1482"/>
                </a:cubicBezTo>
                <a:cubicBezTo>
                  <a:pt x="608" y="1487"/>
                  <a:pt x="596" y="1507"/>
                  <a:pt x="592" y="1498"/>
                </a:cubicBezTo>
                <a:cubicBezTo>
                  <a:pt x="575" y="1464"/>
                  <a:pt x="578" y="1423"/>
                  <a:pt x="568" y="1386"/>
                </a:cubicBezTo>
                <a:cubicBezTo>
                  <a:pt x="554" y="1332"/>
                  <a:pt x="536" y="1279"/>
                  <a:pt x="520" y="1226"/>
                </a:cubicBezTo>
                <a:cubicBezTo>
                  <a:pt x="508" y="1090"/>
                  <a:pt x="521" y="1002"/>
                  <a:pt x="424" y="890"/>
                </a:cubicBezTo>
                <a:cubicBezTo>
                  <a:pt x="406" y="869"/>
                  <a:pt x="371" y="874"/>
                  <a:pt x="344" y="866"/>
                </a:cubicBezTo>
                <a:cubicBezTo>
                  <a:pt x="225" y="906"/>
                  <a:pt x="149" y="1013"/>
                  <a:pt x="72" y="1106"/>
                </a:cubicBezTo>
                <a:cubicBezTo>
                  <a:pt x="65" y="1134"/>
                  <a:pt x="35" y="1215"/>
                  <a:pt x="72" y="1242"/>
                </a:cubicBezTo>
                <a:cubicBezTo>
                  <a:pt x="98" y="1261"/>
                  <a:pt x="136" y="1247"/>
                  <a:pt x="168" y="1250"/>
                </a:cubicBezTo>
                <a:cubicBezTo>
                  <a:pt x="211" y="1245"/>
                  <a:pt x="257" y="1251"/>
                  <a:pt x="296" y="1234"/>
                </a:cubicBezTo>
                <a:cubicBezTo>
                  <a:pt x="311" y="1227"/>
                  <a:pt x="308" y="1202"/>
                  <a:pt x="312" y="1186"/>
                </a:cubicBezTo>
                <a:cubicBezTo>
                  <a:pt x="321" y="1146"/>
                  <a:pt x="339" y="1014"/>
                  <a:pt x="344" y="978"/>
                </a:cubicBezTo>
                <a:cubicBezTo>
                  <a:pt x="236" y="960"/>
                  <a:pt x="240" y="972"/>
                  <a:pt x="184" y="1066"/>
                </a:cubicBezTo>
                <a:cubicBezTo>
                  <a:pt x="161" y="1226"/>
                  <a:pt x="174" y="1141"/>
                  <a:pt x="144" y="1322"/>
                </a:cubicBezTo>
                <a:cubicBezTo>
                  <a:pt x="141" y="1338"/>
                  <a:pt x="136" y="1370"/>
                  <a:pt x="136" y="1370"/>
                </a:cubicBezTo>
                <a:cubicBezTo>
                  <a:pt x="112" y="1365"/>
                  <a:pt x="84" y="1368"/>
                  <a:pt x="64" y="1354"/>
                </a:cubicBezTo>
                <a:cubicBezTo>
                  <a:pt x="0" y="1310"/>
                  <a:pt x="33" y="1128"/>
                  <a:pt x="40" y="1074"/>
                </a:cubicBezTo>
                <a:cubicBezTo>
                  <a:pt x="41" y="1064"/>
                  <a:pt x="55" y="1062"/>
                  <a:pt x="64" y="1058"/>
                </a:cubicBezTo>
                <a:cubicBezTo>
                  <a:pt x="95" y="1045"/>
                  <a:pt x="160" y="1026"/>
                  <a:pt x="160" y="1026"/>
                </a:cubicBezTo>
                <a:cubicBezTo>
                  <a:pt x="168" y="1005"/>
                  <a:pt x="183" y="985"/>
                  <a:pt x="184" y="962"/>
                </a:cubicBezTo>
                <a:cubicBezTo>
                  <a:pt x="189" y="849"/>
                  <a:pt x="249" y="647"/>
                  <a:pt x="104" y="618"/>
                </a:cubicBezTo>
                <a:cubicBezTo>
                  <a:pt x="73" y="612"/>
                  <a:pt x="40" y="613"/>
                  <a:pt x="8" y="610"/>
                </a:cubicBezTo>
                <a:cubicBezTo>
                  <a:pt x="20" y="539"/>
                  <a:pt x="21" y="434"/>
                  <a:pt x="88" y="386"/>
                </a:cubicBezTo>
                <a:cubicBezTo>
                  <a:pt x="106" y="373"/>
                  <a:pt x="131" y="375"/>
                  <a:pt x="152" y="370"/>
                </a:cubicBezTo>
                <a:cubicBezTo>
                  <a:pt x="181" y="373"/>
                  <a:pt x="222" y="355"/>
                  <a:pt x="240" y="378"/>
                </a:cubicBezTo>
                <a:cubicBezTo>
                  <a:pt x="266" y="412"/>
                  <a:pt x="239" y="466"/>
                  <a:pt x="256" y="506"/>
                </a:cubicBezTo>
                <a:cubicBezTo>
                  <a:pt x="272" y="543"/>
                  <a:pt x="288" y="581"/>
                  <a:pt x="304" y="618"/>
                </a:cubicBezTo>
                <a:cubicBezTo>
                  <a:pt x="307" y="639"/>
                  <a:pt x="304" y="662"/>
                  <a:pt x="312" y="682"/>
                </a:cubicBezTo>
                <a:cubicBezTo>
                  <a:pt x="325" y="715"/>
                  <a:pt x="381" y="703"/>
                  <a:pt x="416" y="706"/>
                </a:cubicBezTo>
                <a:cubicBezTo>
                  <a:pt x="508" y="714"/>
                  <a:pt x="650" y="724"/>
                  <a:pt x="728" y="730"/>
                </a:cubicBezTo>
                <a:cubicBezTo>
                  <a:pt x="733" y="751"/>
                  <a:pt x="734" y="774"/>
                  <a:pt x="744" y="794"/>
                </a:cubicBezTo>
                <a:cubicBezTo>
                  <a:pt x="748" y="803"/>
                  <a:pt x="761" y="817"/>
                  <a:pt x="768" y="810"/>
                </a:cubicBezTo>
                <a:cubicBezTo>
                  <a:pt x="788" y="790"/>
                  <a:pt x="784" y="754"/>
                  <a:pt x="800" y="730"/>
                </a:cubicBezTo>
                <a:cubicBezTo>
                  <a:pt x="810" y="660"/>
                  <a:pt x="800" y="573"/>
                  <a:pt x="864" y="530"/>
                </a:cubicBezTo>
                <a:cubicBezTo>
                  <a:pt x="849" y="408"/>
                  <a:pt x="852" y="472"/>
                  <a:pt x="872" y="274"/>
                </a:cubicBezTo>
                <a:cubicBezTo>
                  <a:pt x="874" y="258"/>
                  <a:pt x="867" y="235"/>
                  <a:pt x="880" y="226"/>
                </a:cubicBezTo>
                <a:cubicBezTo>
                  <a:pt x="907" y="207"/>
                  <a:pt x="944" y="210"/>
                  <a:pt x="976" y="202"/>
                </a:cubicBezTo>
                <a:cubicBezTo>
                  <a:pt x="1051" y="214"/>
                  <a:pt x="1101" y="214"/>
                  <a:pt x="1160" y="258"/>
                </a:cubicBezTo>
                <a:cubicBezTo>
                  <a:pt x="1187" y="255"/>
                  <a:pt x="1215" y="261"/>
                  <a:pt x="1240" y="250"/>
                </a:cubicBezTo>
                <a:cubicBezTo>
                  <a:pt x="1310" y="219"/>
                  <a:pt x="1275" y="157"/>
                  <a:pt x="1328" y="122"/>
                </a:cubicBezTo>
                <a:cubicBezTo>
                  <a:pt x="1346" y="177"/>
                  <a:pt x="1385" y="254"/>
                  <a:pt x="1440" y="282"/>
                </a:cubicBezTo>
                <a:cubicBezTo>
                  <a:pt x="1459" y="292"/>
                  <a:pt x="1483" y="287"/>
                  <a:pt x="1504" y="290"/>
                </a:cubicBezTo>
                <a:cubicBezTo>
                  <a:pt x="1617" y="281"/>
                  <a:pt x="1625" y="262"/>
                  <a:pt x="1736" y="282"/>
                </a:cubicBezTo>
                <a:cubicBezTo>
                  <a:pt x="1747" y="293"/>
                  <a:pt x="1753" y="310"/>
                  <a:pt x="1768" y="314"/>
                </a:cubicBezTo>
                <a:cubicBezTo>
                  <a:pt x="1780" y="317"/>
                  <a:pt x="1789" y="301"/>
                  <a:pt x="1800" y="298"/>
                </a:cubicBezTo>
                <a:cubicBezTo>
                  <a:pt x="1816" y="293"/>
                  <a:pt x="1832" y="293"/>
                  <a:pt x="1848" y="290"/>
                </a:cubicBezTo>
                <a:cubicBezTo>
                  <a:pt x="1904" y="234"/>
                  <a:pt x="1924" y="194"/>
                  <a:pt x="1944" y="114"/>
                </a:cubicBezTo>
                <a:cubicBezTo>
                  <a:pt x="1872" y="42"/>
                  <a:pt x="1850" y="44"/>
                  <a:pt x="1736" y="82"/>
                </a:cubicBezTo>
                <a:cubicBezTo>
                  <a:pt x="1715" y="144"/>
                  <a:pt x="1758" y="129"/>
                  <a:pt x="1800" y="122"/>
                </a:cubicBezTo>
                <a:cubicBezTo>
                  <a:pt x="1808" y="117"/>
                  <a:pt x="1834" y="107"/>
                  <a:pt x="1824" y="106"/>
                </a:cubicBezTo>
                <a:cubicBezTo>
                  <a:pt x="1771" y="103"/>
                  <a:pt x="1717" y="115"/>
                  <a:pt x="1664" y="114"/>
                </a:cubicBezTo>
                <a:cubicBezTo>
                  <a:pt x="1581" y="112"/>
                  <a:pt x="1529" y="102"/>
                  <a:pt x="1456" y="90"/>
                </a:cubicBezTo>
                <a:cubicBezTo>
                  <a:pt x="1365" y="30"/>
                  <a:pt x="1171" y="83"/>
                  <a:pt x="1056" y="90"/>
                </a:cubicBezTo>
                <a:cubicBezTo>
                  <a:pt x="981" y="87"/>
                  <a:pt x="904" y="103"/>
                  <a:pt x="832" y="82"/>
                </a:cubicBezTo>
                <a:cubicBezTo>
                  <a:pt x="811" y="76"/>
                  <a:pt x="826" y="38"/>
                  <a:pt x="816" y="18"/>
                </a:cubicBezTo>
                <a:cubicBezTo>
                  <a:pt x="812" y="9"/>
                  <a:pt x="801" y="6"/>
                  <a:pt x="792" y="2"/>
                </a:cubicBezTo>
                <a:cubicBezTo>
                  <a:pt x="789" y="0"/>
                  <a:pt x="797" y="7"/>
                  <a:pt x="800" y="1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4480" y="48909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267080"/>
            <a:ext cx="685800" cy="38124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4680" y="4305240"/>
            <a:ext cx="565200" cy="266760"/>
          </a:xfrm>
          <a:custGeom>
            <a:avLst/>
            <a:gdLst/>
            <a:ahLst/>
            <a:rect l="l" t="t" r="r" b="b"/>
            <a:pathLst>
              <a:path w="356" h="168">
                <a:moveTo>
                  <a:pt x="11" y="160"/>
                </a:moveTo>
                <a:cubicBezTo>
                  <a:pt x="0" y="127"/>
                  <a:pt x="8" y="117"/>
                  <a:pt x="27" y="88"/>
                </a:cubicBezTo>
                <a:cubicBezTo>
                  <a:pt x="35" y="91"/>
                  <a:pt x="46" y="89"/>
                  <a:pt x="51" y="96"/>
                </a:cubicBezTo>
                <a:cubicBezTo>
                  <a:pt x="66" y="117"/>
                  <a:pt x="68" y="146"/>
                  <a:pt x="83" y="168"/>
                </a:cubicBezTo>
                <a:cubicBezTo>
                  <a:pt x="115" y="120"/>
                  <a:pt x="98" y="72"/>
                  <a:pt x="147" y="40"/>
                </a:cubicBezTo>
                <a:cubicBezTo>
                  <a:pt x="177" y="85"/>
                  <a:pt x="167" y="123"/>
                  <a:pt x="211" y="152"/>
                </a:cubicBezTo>
                <a:cubicBezTo>
                  <a:pt x="250" y="94"/>
                  <a:pt x="184" y="45"/>
                  <a:pt x="251" y="0"/>
                </a:cubicBezTo>
                <a:cubicBezTo>
                  <a:pt x="305" y="54"/>
                  <a:pt x="262" y="111"/>
                  <a:pt x="323" y="152"/>
                </a:cubicBezTo>
                <a:cubicBezTo>
                  <a:pt x="356" y="103"/>
                  <a:pt x="339" y="112"/>
                  <a:pt x="339" y="5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080" y="3962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200400"/>
            <a:ext cx="15264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6576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1148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7600" y="26812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u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9" name="brownianmotion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943080" cy="3943440"/>
          </a:xfrm>
          <a:prstGeom prst="rect">
            <a:avLst/>
          </a:prstGeom>
          <a:ln w="0">
            <a:noFill/>
          </a:ln>
        </p:spPr>
      </p:pic>
      <p:pic>
        <p:nvPicPr>
          <p:cNvPr id="70" name="diffusion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79040" y="5715000"/>
            <a:ext cx="50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ypically 1 micron/0.5msec for small mole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100 microns / 5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onconctable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10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flow and balanc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nst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(RT/zF) ln (Co/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= Vin – V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Ga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Temperature in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Faraday’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= ionic va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, Ci: outside and insid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8480" y="16146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6240" y="4876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30481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297180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2895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3124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3124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28195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0481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37339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9625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038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7339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1800" y="3276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2000" y="2681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pump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11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d energy to move ion across membrane against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either from other ion gradients, or from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3pumps" descr=""/>
          <p:cNvPicPr/>
          <p:nvPr/>
        </p:nvPicPr>
        <p:blipFill>
          <a:blip r:embed="rId1"/>
          <a:stretch/>
        </p:blipFill>
        <p:spPr>
          <a:xfrm>
            <a:off x="3897360" y="2133720"/>
            <a:ext cx="52466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pumps: Na/K ATP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2" name="Na_K_ATPase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908680" cy="3132000"/>
          </a:xfrm>
          <a:prstGeom prst="rect">
            <a:avLst/>
          </a:prstGeom>
          <a:ln w="0">
            <a:noFill/>
          </a:ln>
        </p:spPr>
      </p:pic>
      <p:pic>
        <p:nvPicPr>
          <p:cNvPr id="103" name="3pump_str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422440" cy="424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040" y="181944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utiful molecular mo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7:59:45Z</dcterms:modified>
  <cp:revision>26370</cp:revision>
  <dc:subject/>
  <dc:title>Interfacing the brain</dc:title>
</cp:coreProperties>
</file>