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8.wmf" ContentType="image/x-wmf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253163" cy="9609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7FA-54B9-44A3-9444-1E18338E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C24-0088-436E-A867-B3ABDD38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580-B541-4052-8FB3-C7F4C58D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7792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700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884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7792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700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B04-9A83-47B2-9623-5F58A4DA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A34-E67F-4D76-8AD0-B00DB170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0DE-F74F-46BD-9985-E9E56F51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CC3-DE07-4ED9-ABE9-60343B7E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D81-A6EA-4493-894E-D903CE65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6160" y="228240"/>
            <a:ext cx="697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C262-62DD-4B35-8C98-631444DD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E1E-1B2A-4590-80E2-0A23A15E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165-E4F6-4EC1-B32D-E4739CD0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BBC-1F48-4C49-919A-37624F13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D393-F055-4918-8BF7-C4F0F87CE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mputational analysis of cellular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inder S. Bhalla, NC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us and L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troduction, Signalling as information flow and co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ignalling, genes, and cell bi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as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delling Cellular signa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1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xperiments, literature, model building and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ject demonstration and eval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alog comput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or -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linea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ra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sho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200400" y="4724280"/>
            <a:ext cx="5715000" cy="1676520"/>
            <a:chOff x="3200400" y="4724280"/>
            <a:chExt cx="5715000" cy="1676520"/>
          </a:xfrm>
        </p:grpSpPr>
        <p:sp>
          <p:nvSpPr>
            <p:cNvPr id="312" name=""/>
            <p:cNvSpPr/>
            <p:nvPr/>
          </p:nvSpPr>
          <p:spPr>
            <a:xfrm>
              <a:off x="4800600" y="4952880"/>
              <a:ext cx="990360" cy="4572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C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5638680"/>
              <a:ext cx="990360" cy="45720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C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5334120"/>
              <a:ext cx="1143000" cy="533160"/>
            </a:xfrm>
            <a:prstGeom prst="ellipse">
              <a:avLst/>
            </a:prstGeom>
            <a:solidFill>
              <a:srgbClr val="9900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M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24680" y="5410080"/>
              <a:ext cx="990720" cy="457200"/>
            </a:xfrm>
            <a:prstGeom prst="rect">
              <a:avLst/>
            </a:prstGeom>
            <a:solidFill>
              <a:srgbClr val="9900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K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90960" y="5257800"/>
              <a:ext cx="5335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790960" y="5714640"/>
              <a:ext cx="5335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67480" y="56386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86200" y="533412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G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4724280"/>
              <a:ext cx="1218960" cy="5335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76360" y="5943600"/>
              <a:ext cx="1067040" cy="45720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K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19360" y="5029200"/>
              <a:ext cx="38124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419360" y="525744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19360" y="571500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343400" y="6019560"/>
              <a:ext cx="45720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ogic comput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8101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 + threshol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AND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2209680"/>
            <a:ext cx="838080" cy="5335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52880" y="251460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866920" y="2133720"/>
            <a:ext cx="1676880" cy="761760"/>
            <a:chOff x="5866920" y="2133720"/>
            <a:chExt cx="1676880" cy="761760"/>
          </a:xfrm>
        </p:grpSpPr>
        <p:sp>
          <p:nvSpPr>
            <p:cNvPr id="331" name=""/>
            <p:cNvSpPr/>
            <p:nvPr/>
          </p:nvSpPr>
          <p:spPr>
            <a:xfrm rot="5400000">
              <a:off x="5905080" y="2095200"/>
              <a:ext cx="761760" cy="838440"/>
            </a:xfrm>
            <a:prstGeom prst="triangle">
              <a:avLst>
                <a:gd name="adj" fmla="val 50000"/>
              </a:avLst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362320"/>
              <a:ext cx="304920" cy="3045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05720" y="2514600"/>
              <a:ext cx="83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605360" y="230040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52680" y="350532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419112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0" y="3886200"/>
            <a:ext cx="1143000" cy="533520"/>
          </a:xfrm>
          <a:prstGeom prst="ellipse">
            <a:avLst/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38480" y="3809880"/>
            <a:ext cx="53352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038480" y="4266720"/>
            <a:ext cx="53352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447920" y="5029200"/>
            <a:ext cx="5715000" cy="1676520"/>
            <a:chOff x="1447920" y="5029200"/>
            <a:chExt cx="5715000" cy="1676520"/>
          </a:xfrm>
        </p:grpSpPr>
        <p:sp>
          <p:nvSpPr>
            <p:cNvPr id="341" name=""/>
            <p:cNvSpPr/>
            <p:nvPr/>
          </p:nvSpPr>
          <p:spPr>
            <a:xfrm>
              <a:off x="3048120" y="5257800"/>
              <a:ext cx="990360" cy="4572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C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48120" y="5943600"/>
              <a:ext cx="990360" cy="45720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C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2000" y="5639040"/>
              <a:ext cx="1143000" cy="533160"/>
            </a:xfrm>
            <a:prstGeom prst="ellipse">
              <a:avLst/>
            </a:prstGeom>
            <a:solidFill>
              <a:srgbClr val="9900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M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72200" y="5715000"/>
              <a:ext cx="990720" cy="457200"/>
            </a:xfrm>
            <a:prstGeom prst="rect">
              <a:avLst/>
            </a:prstGeom>
            <a:solidFill>
              <a:srgbClr val="9900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K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38480" y="5562720"/>
              <a:ext cx="5335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4038480" y="6019560"/>
              <a:ext cx="5335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15000" y="5943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33720" y="563904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G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47920" y="5029200"/>
              <a:ext cx="1218960" cy="5335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3880" y="6248520"/>
              <a:ext cx="1067040" cy="45720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K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66880" y="5334120"/>
              <a:ext cx="38124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666880" y="556236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66880" y="601992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90920" y="6324480"/>
              <a:ext cx="45720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95520" y="3200400"/>
            <a:ext cx="1676880" cy="761760"/>
            <a:chOff x="6095520" y="3200400"/>
            <a:chExt cx="1676880" cy="761760"/>
          </a:xfrm>
        </p:grpSpPr>
        <p:sp>
          <p:nvSpPr>
            <p:cNvPr id="356" name=""/>
            <p:cNvSpPr/>
            <p:nvPr/>
          </p:nvSpPr>
          <p:spPr>
            <a:xfrm rot="5400000">
              <a:off x="6133680" y="3161880"/>
              <a:ext cx="761760" cy="838440"/>
            </a:xfrm>
            <a:prstGeom prst="triangle">
              <a:avLst>
                <a:gd name="adj" fmla="val 50000"/>
              </a:avLst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72200" y="3429000"/>
              <a:ext cx="304920" cy="3045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4320" y="3581280"/>
              <a:ext cx="83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095520" y="4343400"/>
            <a:ext cx="1676880" cy="761760"/>
            <a:chOff x="6095520" y="4343400"/>
            <a:chExt cx="1676880" cy="761760"/>
          </a:xfrm>
        </p:grpSpPr>
        <p:sp>
          <p:nvSpPr>
            <p:cNvPr id="360" name=""/>
            <p:cNvSpPr/>
            <p:nvPr/>
          </p:nvSpPr>
          <p:spPr>
            <a:xfrm rot="5400000">
              <a:off x="6133680" y="4304880"/>
              <a:ext cx="761760" cy="838440"/>
            </a:xfrm>
            <a:prstGeom prst="triangle">
              <a:avLst>
                <a:gd name="adj" fmla="val 50000"/>
              </a:avLst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72200" y="4572000"/>
              <a:ext cx="304920" cy="3045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34320" y="4724280"/>
              <a:ext cx="83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791320" y="35053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1320" y="350532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91320" y="480060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41911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48520" y="35053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48520" y="48006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773480" y="33526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AND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50160" y="44956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O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716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fca"/>
                </a:solidFill>
                <a:latin typeface="Book Antiqua"/>
              </a:rPr>
              <a:t>Signalling block diagrams</a:t>
            </a:r>
            <a:endParaRPr b="0" lang="en-US" sz="4000" spc="-1" strike="noStrike">
              <a:solidFill>
                <a:srgbClr val="00dfca"/>
              </a:solidFill>
              <a:latin typeface="Book Antiqua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34240" y="1066680"/>
            <a:ext cx="8169840" cy="5789160"/>
            <a:chOff x="534240" y="1066680"/>
            <a:chExt cx="8169840" cy="5789160"/>
          </a:xfrm>
        </p:grpSpPr>
        <p:sp>
          <p:nvSpPr>
            <p:cNvPr id="373" name=""/>
            <p:cNvSpPr/>
            <p:nvPr/>
          </p:nvSpPr>
          <p:spPr>
            <a:xfrm>
              <a:off x="1867680" y="2319480"/>
              <a:ext cx="81288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00360" y="231948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6440000">
              <a:off x="2662560" y="5756400"/>
              <a:ext cx="257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789640" y="5709960"/>
              <a:ext cx="97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84520" y="3614760"/>
              <a:ext cx="0" cy="3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66920" y="3692520"/>
              <a:ext cx="341280" cy="22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782880" y="4697280"/>
              <a:ext cx="835560" cy="305640"/>
              <a:chOff x="3782880" y="4697280"/>
              <a:chExt cx="835560" cy="305640"/>
            </a:xfrm>
          </p:grpSpPr>
          <p:sp>
            <p:nvSpPr>
              <p:cNvPr id="380" name=""/>
              <p:cNvSpPr/>
              <p:nvPr/>
            </p:nvSpPr>
            <p:spPr>
              <a:xfrm>
                <a:off x="3782880" y="4703760"/>
                <a:ext cx="8355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004280" y="4697280"/>
                <a:ext cx="432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4934880" y="4697280"/>
              <a:ext cx="838080" cy="305640"/>
              <a:chOff x="4934880" y="4697280"/>
              <a:chExt cx="838080" cy="305640"/>
            </a:xfrm>
          </p:grpSpPr>
          <p:sp>
            <p:nvSpPr>
              <p:cNvPr id="383" name=""/>
              <p:cNvSpPr/>
              <p:nvPr/>
            </p:nvSpPr>
            <p:spPr>
              <a:xfrm>
                <a:off x="4934880" y="4703760"/>
                <a:ext cx="83808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75280" y="4697280"/>
                <a:ext cx="520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D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200200" y="498636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4577400" y="5443560"/>
              <a:ext cx="62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84600" y="6053040"/>
              <a:ext cx="922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507640" y="5008320"/>
              <a:ext cx="0" cy="10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00840" y="4986360"/>
              <a:ext cx="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00840" y="55958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3852360" y="5267160"/>
              <a:ext cx="668160" cy="371520"/>
              <a:chOff x="3852360" y="5267160"/>
              <a:chExt cx="668160" cy="371520"/>
            </a:xfrm>
          </p:grpSpPr>
          <p:sp>
            <p:nvSpPr>
              <p:cNvPr id="392" name=""/>
              <p:cNvSpPr/>
              <p:nvPr/>
            </p:nvSpPr>
            <p:spPr>
              <a:xfrm>
                <a:off x="3852360" y="5267160"/>
                <a:ext cx="655920" cy="3715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937680" y="5338800"/>
                <a:ext cx="582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MP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3782880" y="5916600"/>
              <a:ext cx="835560" cy="305640"/>
              <a:chOff x="3782880" y="5916600"/>
              <a:chExt cx="835560" cy="305640"/>
            </a:xfrm>
          </p:grpSpPr>
          <p:sp>
            <p:nvSpPr>
              <p:cNvPr id="395" name=""/>
              <p:cNvSpPr/>
              <p:nvPr/>
            </p:nvSpPr>
            <p:spPr>
              <a:xfrm>
                <a:off x="3782880" y="5923080"/>
                <a:ext cx="8355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22200" y="5916600"/>
                <a:ext cx="540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K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5507640" y="6053040"/>
              <a:ext cx="768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813640" y="4834080"/>
              <a:ext cx="61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2250720" y="4035600"/>
              <a:ext cx="977040" cy="305640"/>
              <a:chOff x="2250720" y="4035600"/>
              <a:chExt cx="977040" cy="305640"/>
            </a:xfrm>
          </p:grpSpPr>
          <p:sp>
            <p:nvSpPr>
              <p:cNvPr id="400" name=""/>
              <p:cNvSpPr/>
              <p:nvPr/>
            </p:nvSpPr>
            <p:spPr>
              <a:xfrm>
                <a:off x="2250720" y="4041720"/>
                <a:ext cx="93384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69160" y="4035600"/>
                <a:ext cx="85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oS/GE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2741400" y="3691080"/>
              <a:ext cx="0" cy="3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26160" y="4834080"/>
              <a:ext cx="161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19000" y="4884840"/>
              <a:ext cx="633600" cy="19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61920" y="4797360"/>
              <a:ext cx="1831680" cy="1816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860000">
              <a:off x="1185840" y="4908960"/>
              <a:ext cx="2602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1239840" y="4948200"/>
              <a:ext cx="10152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3380000">
              <a:off x="2381400" y="4966920"/>
              <a:ext cx="2296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2412720" y="4963680"/>
              <a:ext cx="11232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620000">
              <a:off x="1349640" y="6428880"/>
              <a:ext cx="23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32080" y="6488280"/>
              <a:ext cx="1353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4740000">
              <a:off x="859320" y="5812920"/>
              <a:ext cx="258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81720" y="5843520"/>
              <a:ext cx="2952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385280" y="4673520"/>
              <a:ext cx="831240" cy="305640"/>
              <a:chOff x="1385280" y="4673520"/>
              <a:chExt cx="831240" cy="305640"/>
            </a:xfrm>
          </p:grpSpPr>
          <p:sp>
            <p:nvSpPr>
              <p:cNvPr id="415" name=""/>
              <p:cNvSpPr/>
              <p:nvPr/>
            </p:nvSpPr>
            <p:spPr>
              <a:xfrm>
                <a:off x="1385280" y="4691160"/>
                <a:ext cx="83124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516320" y="4673520"/>
                <a:ext cx="531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K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51760" y="5500800"/>
              <a:ext cx="466920" cy="550440"/>
              <a:chOff x="851760" y="5500800"/>
              <a:chExt cx="466920" cy="550440"/>
            </a:xfrm>
          </p:grpSpPr>
          <p:sp>
            <p:nvSpPr>
              <p:cNvPr id="418" name=""/>
              <p:cNvSpPr/>
              <p:nvPr/>
            </p:nvSpPr>
            <p:spPr>
              <a:xfrm>
                <a:off x="851760" y="5500800"/>
                <a:ext cx="466920" cy="369720"/>
              </a:xfrm>
              <a:prstGeom prst="ellipse">
                <a:avLst/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71560" y="5532480"/>
                <a:ext cx="4230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358000" y="5100480"/>
              <a:ext cx="835200" cy="305640"/>
              <a:chOff x="2358000" y="5100480"/>
              <a:chExt cx="835200" cy="305640"/>
            </a:xfrm>
          </p:grpSpPr>
          <p:sp>
            <p:nvSpPr>
              <p:cNvPr id="421" name=""/>
              <p:cNvSpPr/>
              <p:nvPr/>
            </p:nvSpPr>
            <p:spPr>
              <a:xfrm>
                <a:off x="2358000" y="511812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558880" y="5100480"/>
                <a:ext cx="453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150280" y="5896080"/>
              <a:ext cx="835560" cy="826920"/>
              <a:chOff x="2150280" y="5896080"/>
              <a:chExt cx="835560" cy="826920"/>
            </a:xfrm>
          </p:grpSpPr>
          <p:sp>
            <p:nvSpPr>
              <p:cNvPr id="424" name=""/>
              <p:cNvSpPr/>
              <p:nvPr/>
            </p:nvSpPr>
            <p:spPr>
              <a:xfrm>
                <a:off x="2150280" y="5896080"/>
                <a:ext cx="835560" cy="826920"/>
              </a:xfrm>
              <a:prstGeom prst="roundRect">
                <a:avLst>
                  <a:gd name="adj" fmla="val 24745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193120" y="6031080"/>
                <a:ext cx="698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AP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170440" y="6238800"/>
                <a:ext cx="741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scad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716400" y="6167520"/>
              <a:ext cx="873360" cy="334800"/>
              <a:chOff x="716400" y="6167520"/>
              <a:chExt cx="873360" cy="334800"/>
            </a:xfrm>
          </p:grpSpPr>
          <p:sp>
            <p:nvSpPr>
              <p:cNvPr id="428" name=""/>
              <p:cNvSpPr/>
              <p:nvPr/>
            </p:nvSpPr>
            <p:spPr>
              <a:xfrm>
                <a:off x="716400" y="6184800"/>
                <a:ext cx="8733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18280" y="6167520"/>
                <a:ext cx="57204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2318040" y="3425760"/>
              <a:ext cx="835560" cy="305640"/>
              <a:chOff x="2318040" y="3425760"/>
              <a:chExt cx="835560" cy="305640"/>
            </a:xfrm>
          </p:grpSpPr>
          <p:sp>
            <p:nvSpPr>
              <p:cNvPr id="431" name=""/>
              <p:cNvSpPr/>
              <p:nvPr/>
            </p:nvSpPr>
            <p:spPr>
              <a:xfrm>
                <a:off x="2318040" y="3432240"/>
                <a:ext cx="8355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86160" y="3425760"/>
                <a:ext cx="462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 flipV="1">
              <a:off x="6199200" y="422424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2920" y="4224240"/>
              <a:ext cx="299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6395400" y="5307120"/>
              <a:ext cx="835200" cy="305640"/>
              <a:chOff x="6395400" y="5307120"/>
              <a:chExt cx="835200" cy="305640"/>
            </a:xfrm>
          </p:grpSpPr>
          <p:sp>
            <p:nvSpPr>
              <p:cNvPr id="436" name=""/>
              <p:cNvSpPr/>
              <p:nvPr/>
            </p:nvSpPr>
            <p:spPr>
              <a:xfrm>
                <a:off x="6395400" y="531324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565680" y="5307120"/>
                <a:ext cx="511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6813000" y="498636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13000" y="55958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98560" y="4834080"/>
              <a:ext cx="38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98560" y="6053040"/>
              <a:ext cx="72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6395400" y="4697280"/>
              <a:ext cx="835200" cy="305640"/>
              <a:chOff x="6395400" y="4697280"/>
              <a:chExt cx="835200" cy="305640"/>
            </a:xfrm>
          </p:grpSpPr>
          <p:sp>
            <p:nvSpPr>
              <p:cNvPr id="443" name=""/>
              <p:cNvSpPr/>
              <p:nvPr/>
            </p:nvSpPr>
            <p:spPr>
              <a:xfrm>
                <a:off x="6395400" y="470376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564960" y="4697280"/>
                <a:ext cx="541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6395400" y="5916600"/>
              <a:ext cx="835200" cy="305640"/>
              <a:chOff x="6395400" y="5916600"/>
              <a:chExt cx="835200" cy="305640"/>
            </a:xfrm>
          </p:grpSpPr>
          <p:sp>
            <p:nvSpPr>
              <p:cNvPr id="446" name=""/>
              <p:cNvSpPr/>
              <p:nvPr/>
            </p:nvSpPr>
            <p:spPr>
              <a:xfrm>
                <a:off x="6395400" y="592308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537600" y="5916600"/>
                <a:ext cx="473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P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8254080" y="4844880"/>
              <a:ext cx="450000" cy="444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4740000">
              <a:off x="8135640" y="4978080"/>
              <a:ext cx="258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58400" y="5008680"/>
              <a:ext cx="2916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624800" y="4697280"/>
              <a:ext cx="835200" cy="305640"/>
              <a:chOff x="7624800" y="4697280"/>
              <a:chExt cx="835200" cy="305640"/>
            </a:xfrm>
          </p:grpSpPr>
          <p:sp>
            <p:nvSpPr>
              <p:cNvPr id="452" name=""/>
              <p:cNvSpPr/>
              <p:nvPr/>
            </p:nvSpPr>
            <p:spPr>
              <a:xfrm>
                <a:off x="7624800" y="470376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641000" y="4697280"/>
                <a:ext cx="788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MKI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4065120" y="4224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74360" y="16336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1502280" y="2014560"/>
              <a:ext cx="704160" cy="336600"/>
              <a:chOff x="1502280" y="2014560"/>
              <a:chExt cx="704160" cy="336600"/>
            </a:xfrm>
          </p:grpSpPr>
          <p:sp>
            <p:nvSpPr>
              <p:cNvPr id="457" name=""/>
              <p:cNvSpPr/>
              <p:nvPr/>
            </p:nvSpPr>
            <p:spPr>
              <a:xfrm>
                <a:off x="1502280" y="2014560"/>
                <a:ext cx="704160" cy="33192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1604520" y="2039760"/>
                <a:ext cx="540000" cy="311400"/>
                <a:chOff x="1604520" y="2039760"/>
                <a:chExt cx="540000" cy="3114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1648800" y="2057400"/>
                  <a:ext cx="453960" cy="270000"/>
                </a:xfrm>
                <a:prstGeom prst="roundRect">
                  <a:avLst>
                    <a:gd name="adj" fmla="val 24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604520" y="2039760"/>
                  <a:ext cx="540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TK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761480" y="2046240"/>
                  <a:ext cx="2988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2" name=""/>
            <p:cNvSpPr/>
            <p:nvPr/>
          </p:nvSpPr>
          <p:spPr>
            <a:xfrm>
              <a:off x="6813000" y="4224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526440" y="3962520"/>
              <a:ext cx="536400" cy="371520"/>
              <a:chOff x="6526440" y="3962520"/>
              <a:chExt cx="536400" cy="3715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35080" y="3962520"/>
                <a:ext cx="527760" cy="371520"/>
              </a:xfrm>
              <a:prstGeom prst="ellipse">
                <a:avLst/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526440" y="4033800"/>
                <a:ext cx="430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1170720" y="3614760"/>
              <a:ext cx="0" cy="3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1298880" y="3692520"/>
              <a:ext cx="341640" cy="22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716400" y="3425760"/>
              <a:ext cx="746640" cy="305640"/>
              <a:chOff x="716400" y="3425760"/>
              <a:chExt cx="746640" cy="305640"/>
            </a:xfrm>
          </p:grpSpPr>
          <p:sp>
            <p:nvSpPr>
              <p:cNvPr id="469" name=""/>
              <p:cNvSpPr/>
              <p:nvPr/>
            </p:nvSpPr>
            <p:spPr>
              <a:xfrm>
                <a:off x="716400" y="3432240"/>
                <a:ext cx="6969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54280" y="3425760"/>
                <a:ext cx="608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1050840" y="4834080"/>
              <a:ext cx="30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84520" y="430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1494720" y="3962520"/>
              <a:ext cx="540720" cy="371520"/>
              <a:chOff x="1494720" y="3962520"/>
              <a:chExt cx="540720" cy="371520"/>
            </a:xfrm>
          </p:grpSpPr>
          <p:sp>
            <p:nvSpPr>
              <p:cNvPr id="474" name=""/>
              <p:cNvSpPr/>
              <p:nvPr/>
            </p:nvSpPr>
            <p:spPr>
              <a:xfrm>
                <a:off x="1508040" y="3962520"/>
                <a:ext cx="527400" cy="37152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494720" y="4033800"/>
                <a:ext cx="5140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A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1054800" y="292896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2690280" y="4319640"/>
              <a:ext cx="107280" cy="785880"/>
              <a:chOff x="2690280" y="4319640"/>
              <a:chExt cx="107280" cy="785880"/>
            </a:xfrm>
          </p:grpSpPr>
          <p:sp>
            <p:nvSpPr>
              <p:cNvPr id="478" name=""/>
              <p:cNvSpPr/>
              <p:nvPr/>
            </p:nvSpPr>
            <p:spPr>
              <a:xfrm>
                <a:off x="2741400" y="4319640"/>
                <a:ext cx="0" cy="457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741400" y="4871880"/>
                <a:ext cx="0" cy="2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2690280" y="4781160"/>
                <a:ext cx="107280" cy="95400"/>
                <a:chOff x="2690280" y="4781160"/>
                <a:chExt cx="107280" cy="954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691360" y="4781520"/>
                  <a:ext cx="1062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16" y="4"/>
                      </a:moveTo>
                      <a:arcTo wR="10800" hR="10800" stAng="-5490446" swAng="54904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16" y="4"/>
                      </a:moveTo>
                      <a:arcTo wR="10800" hR="10800" stAng="-5490446" swAng="5490446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690280" y="4781160"/>
                  <a:ext cx="10584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586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586988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3" name=""/>
            <p:cNvGrpSpPr/>
            <p:nvPr/>
          </p:nvGrpSpPr>
          <p:grpSpPr>
            <a:xfrm>
              <a:off x="1573200" y="3425760"/>
              <a:ext cx="719640" cy="305640"/>
              <a:chOff x="1573200" y="3425760"/>
              <a:chExt cx="719640" cy="305640"/>
            </a:xfrm>
          </p:grpSpPr>
          <p:sp>
            <p:nvSpPr>
              <p:cNvPr id="484" name=""/>
              <p:cNvSpPr/>
              <p:nvPr/>
            </p:nvSpPr>
            <p:spPr>
              <a:xfrm>
                <a:off x="1573200" y="3432240"/>
                <a:ext cx="61344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81200" y="3425760"/>
                <a:ext cx="6116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882720" y="3962520"/>
              <a:ext cx="539280" cy="371520"/>
              <a:chOff x="882720" y="3962520"/>
              <a:chExt cx="539280" cy="371520"/>
            </a:xfrm>
          </p:grpSpPr>
          <p:sp>
            <p:nvSpPr>
              <p:cNvPr id="487" name=""/>
              <p:cNvSpPr/>
              <p:nvPr/>
            </p:nvSpPr>
            <p:spPr>
              <a:xfrm>
                <a:off x="892800" y="3962520"/>
                <a:ext cx="529200" cy="37152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82720" y="4033800"/>
                <a:ext cx="473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P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 flipH="1">
              <a:off x="890280" y="4376880"/>
              <a:ext cx="2044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7760" y="5367240"/>
              <a:ext cx="0" cy="152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83800" y="5977080"/>
              <a:ext cx="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854840" y="5062680"/>
              <a:ext cx="135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7922520" y="5062320"/>
              <a:ext cx="0" cy="9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3072960" y="6510240"/>
              <a:ext cx="27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72960" y="6434280"/>
              <a:ext cx="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3243960" y="6396120"/>
              <a:ext cx="883080" cy="305640"/>
              <a:chOff x="3243960" y="6396120"/>
              <a:chExt cx="883080" cy="305640"/>
            </a:xfrm>
          </p:grpSpPr>
          <p:sp>
            <p:nvSpPr>
              <p:cNvPr id="497" name=""/>
              <p:cNvSpPr/>
              <p:nvPr/>
            </p:nvSpPr>
            <p:spPr>
              <a:xfrm>
                <a:off x="3243960" y="641340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407040" y="6396120"/>
                <a:ext cx="720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KP-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6813000" y="2395440"/>
              <a:ext cx="0" cy="152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80120" y="3081240"/>
              <a:ext cx="0" cy="108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80120" y="4262400"/>
              <a:ext cx="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561480" y="6053040"/>
              <a:ext cx="203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561480" y="529128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3290400" y="5291280"/>
              <a:ext cx="27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90400" y="5214960"/>
              <a:ext cx="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84080" y="376704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534240" y="4648320"/>
              <a:ext cx="536400" cy="371520"/>
              <a:chOff x="534240" y="4648320"/>
              <a:chExt cx="536400" cy="371520"/>
            </a:xfrm>
          </p:grpSpPr>
          <p:sp>
            <p:nvSpPr>
              <p:cNvPr id="508" name=""/>
              <p:cNvSpPr/>
              <p:nvPr/>
            </p:nvSpPr>
            <p:spPr>
              <a:xfrm>
                <a:off x="541440" y="4648320"/>
                <a:ext cx="529200" cy="37152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34240" y="4719600"/>
                <a:ext cx="430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784080" y="506268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3918600" y="2792520"/>
              <a:ext cx="835200" cy="305640"/>
              <a:chOff x="3918600" y="2792520"/>
              <a:chExt cx="835200" cy="305640"/>
            </a:xfrm>
          </p:grpSpPr>
          <p:sp>
            <p:nvSpPr>
              <p:cNvPr id="512" name=""/>
              <p:cNvSpPr/>
              <p:nvPr/>
            </p:nvSpPr>
            <p:spPr>
              <a:xfrm>
                <a:off x="3918600" y="279864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133520" y="2792520"/>
                <a:ext cx="540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s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3019680" y="6129360"/>
              <a:ext cx="27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58440" y="308124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155040" y="3767040"/>
              <a:ext cx="20304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2683800" y="2781360"/>
              <a:ext cx="928080" cy="335880"/>
              <a:chOff x="2683800" y="2781360"/>
              <a:chExt cx="928080" cy="335880"/>
            </a:xfrm>
          </p:grpSpPr>
          <p:sp>
            <p:nvSpPr>
              <p:cNvPr id="518" name=""/>
              <p:cNvSpPr/>
              <p:nvPr/>
            </p:nvSpPr>
            <p:spPr>
              <a:xfrm>
                <a:off x="3144960" y="2781360"/>
                <a:ext cx="466920" cy="33156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3044880" y="2806560"/>
                <a:ext cx="519480" cy="310680"/>
                <a:chOff x="3044880" y="2806560"/>
                <a:chExt cx="519480" cy="31068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3071520" y="2817720"/>
                  <a:ext cx="458280" cy="162000"/>
                </a:xfrm>
                <a:prstGeom prst="roundRect">
                  <a:avLst>
                    <a:gd name="adj" fmla="val 24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044880" y="2806560"/>
                  <a:ext cx="31572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181320" y="2811600"/>
                  <a:ext cx="383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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>
                <a:off x="2683800" y="2781360"/>
                <a:ext cx="465480" cy="33156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764080" y="2817720"/>
                <a:ext cx="456840" cy="162000"/>
              </a:xfrm>
              <a:prstGeom prst="roundRect">
                <a:avLst>
                  <a:gd name="adj" fmla="val 24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747520" y="2806560"/>
                <a:ext cx="402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q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939040" y="2811600"/>
                <a:ext cx="297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 flipH="1">
              <a:off x="1054800" y="2928960"/>
              <a:ext cx="1625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800360" y="3005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87360" y="23194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2686680" y="2014560"/>
              <a:ext cx="828360" cy="324720"/>
              <a:chOff x="2686680" y="2014560"/>
              <a:chExt cx="828360" cy="324720"/>
            </a:xfrm>
          </p:grpSpPr>
          <p:sp>
            <p:nvSpPr>
              <p:cNvPr id="531" name=""/>
              <p:cNvSpPr/>
              <p:nvPr/>
            </p:nvSpPr>
            <p:spPr>
              <a:xfrm>
                <a:off x="2686680" y="2014560"/>
                <a:ext cx="828360" cy="31284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2760840" y="2033640"/>
                <a:ext cx="711000" cy="305640"/>
                <a:chOff x="2760840" y="2033640"/>
                <a:chExt cx="711000" cy="30564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2781000" y="2044800"/>
                  <a:ext cx="535680" cy="150840"/>
                </a:xfrm>
                <a:prstGeom prst="roundRect">
                  <a:avLst>
                    <a:gd name="adj" fmla="val 24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760840" y="2033640"/>
                  <a:ext cx="711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Glu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912040" y="2038320"/>
                  <a:ext cx="351000" cy="17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1715400" y="2851200"/>
              <a:ext cx="154440" cy="154080"/>
              <a:chOff x="1715400" y="2851200"/>
              <a:chExt cx="154440" cy="154080"/>
            </a:xfrm>
          </p:grpSpPr>
          <p:sp>
            <p:nvSpPr>
              <p:cNvPr id="537" name=""/>
              <p:cNvSpPr/>
              <p:nvPr/>
            </p:nvSpPr>
            <p:spPr>
              <a:xfrm>
                <a:off x="1732320" y="2852640"/>
                <a:ext cx="135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1715400" y="2851200"/>
                <a:ext cx="154440" cy="144000"/>
                <a:chOff x="1715400" y="2851200"/>
                <a:chExt cx="154440" cy="1440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1715760" y="2851200"/>
                  <a:ext cx="15408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715400" y="2853000"/>
                  <a:ext cx="15444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1" name=""/>
            <p:cNvGrpSpPr/>
            <p:nvPr/>
          </p:nvGrpSpPr>
          <p:grpSpPr>
            <a:xfrm>
              <a:off x="2206440" y="2839320"/>
              <a:ext cx="229680" cy="211680"/>
              <a:chOff x="2206440" y="2839320"/>
              <a:chExt cx="229680" cy="211680"/>
            </a:xfrm>
          </p:grpSpPr>
          <p:sp>
            <p:nvSpPr>
              <p:cNvPr id="542" name=""/>
              <p:cNvSpPr/>
              <p:nvPr/>
            </p:nvSpPr>
            <p:spPr>
              <a:xfrm rot="18240000">
                <a:off x="2266200" y="2869560"/>
                <a:ext cx="12852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3" name=""/>
              <p:cNvGrpSpPr/>
              <p:nvPr/>
            </p:nvGrpSpPr>
            <p:grpSpPr>
              <a:xfrm>
                <a:off x="2206440" y="2839320"/>
                <a:ext cx="229680" cy="211680"/>
                <a:chOff x="2206440" y="2839320"/>
                <a:chExt cx="229680" cy="211680"/>
              </a:xfrm>
            </p:grpSpPr>
            <p:sp>
              <p:nvSpPr>
                <p:cNvPr id="544" name=""/>
                <p:cNvSpPr/>
                <p:nvPr/>
              </p:nvSpPr>
              <p:spPr>
                <a:xfrm rot="18240000">
                  <a:off x="2258640" y="2865600"/>
                  <a:ext cx="145440" cy="15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65" y="3"/>
                      </a:moveTo>
                      <a:arcTo wR="10800" hR="10800" stAng="-5474722" swAng="54108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65" y="3"/>
                      </a:moveTo>
                      <a:arcTo wR="10800" hR="10800" stAng="-5474722" swAng="5410835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18240000">
                  <a:off x="2237400" y="2868840"/>
                  <a:ext cx="1486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99"/>
                      </a:moveTo>
                      <a:arcTo wR="10800" hR="10800" stAng="-63856" swAng="56127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99"/>
                      </a:moveTo>
                      <a:arcTo wR="10800" hR="10800" stAng="-63856" swAng="5612759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6" name=""/>
            <p:cNvGrpSpPr/>
            <p:nvPr/>
          </p:nvGrpSpPr>
          <p:grpSpPr>
            <a:xfrm>
              <a:off x="4289760" y="4146480"/>
              <a:ext cx="154440" cy="154080"/>
              <a:chOff x="4289760" y="4146480"/>
              <a:chExt cx="154440" cy="154080"/>
            </a:xfrm>
          </p:grpSpPr>
          <p:sp>
            <p:nvSpPr>
              <p:cNvPr id="547" name=""/>
              <p:cNvSpPr/>
              <p:nvPr/>
            </p:nvSpPr>
            <p:spPr>
              <a:xfrm>
                <a:off x="4306680" y="4148280"/>
                <a:ext cx="135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4289760" y="4146480"/>
                <a:ext cx="154440" cy="144000"/>
                <a:chOff x="4289760" y="4146480"/>
                <a:chExt cx="154440" cy="14400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4290120" y="4146480"/>
                  <a:ext cx="15408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289760" y="4148280"/>
                  <a:ext cx="15444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1" name=""/>
            <p:cNvSpPr/>
            <p:nvPr/>
          </p:nvSpPr>
          <p:spPr>
            <a:xfrm>
              <a:off x="4374360" y="23194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3906000" y="2014560"/>
              <a:ext cx="828360" cy="324720"/>
              <a:chOff x="3906000" y="2014560"/>
              <a:chExt cx="828360" cy="324720"/>
            </a:xfrm>
          </p:grpSpPr>
          <p:sp>
            <p:nvSpPr>
              <p:cNvPr id="553" name=""/>
              <p:cNvSpPr/>
              <p:nvPr/>
            </p:nvSpPr>
            <p:spPr>
              <a:xfrm>
                <a:off x="3906000" y="2014560"/>
                <a:ext cx="828360" cy="31284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013280" y="2033640"/>
                <a:ext cx="649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PC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902400" y="1066680"/>
              <a:ext cx="942480" cy="577440"/>
              <a:chOff x="3902400" y="1066680"/>
              <a:chExt cx="942480" cy="577440"/>
            </a:xfrm>
          </p:grpSpPr>
          <p:sp>
            <p:nvSpPr>
              <p:cNvPr id="556" name=""/>
              <p:cNvSpPr/>
              <p:nvPr/>
            </p:nvSpPr>
            <p:spPr>
              <a:xfrm>
                <a:off x="3908880" y="1066680"/>
                <a:ext cx="871920" cy="56700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902400" y="1125360"/>
                <a:ext cx="9424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egulator/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Hormon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1860840" y="1633680"/>
              <a:ext cx="684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1502280" y="1108080"/>
              <a:ext cx="754560" cy="552600"/>
              <a:chOff x="1502280" y="1108080"/>
              <a:chExt cx="754560" cy="552600"/>
            </a:xfrm>
          </p:grpSpPr>
          <p:sp>
            <p:nvSpPr>
              <p:cNvPr id="560" name=""/>
              <p:cNvSpPr/>
              <p:nvPr/>
            </p:nvSpPr>
            <p:spPr>
              <a:xfrm>
                <a:off x="1502280" y="1108080"/>
                <a:ext cx="708120" cy="55260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1" name=""/>
              <p:cNvGrpSpPr/>
              <p:nvPr/>
            </p:nvGrpSpPr>
            <p:grpSpPr>
              <a:xfrm>
                <a:off x="1526040" y="1125360"/>
                <a:ext cx="730800" cy="518760"/>
                <a:chOff x="1526040" y="1125360"/>
                <a:chExt cx="730800" cy="5187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1582560" y="1143000"/>
                  <a:ext cx="456480" cy="270000"/>
                </a:xfrm>
                <a:prstGeom prst="roundRect">
                  <a:avLst>
                    <a:gd name="adj" fmla="val 24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526040" y="1125360"/>
                  <a:ext cx="7308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rowth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Facto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694880" y="1131840"/>
                  <a:ext cx="3006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5" name=""/>
            <p:cNvSpPr/>
            <p:nvPr/>
          </p:nvSpPr>
          <p:spPr>
            <a:xfrm>
              <a:off x="3087360" y="155736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2844720" y="1219320"/>
              <a:ext cx="529200" cy="371520"/>
              <a:chOff x="2844720" y="1219320"/>
              <a:chExt cx="529200" cy="371520"/>
            </a:xfrm>
          </p:grpSpPr>
          <p:sp>
            <p:nvSpPr>
              <p:cNvPr id="567" name=""/>
              <p:cNvSpPr/>
              <p:nvPr/>
            </p:nvSpPr>
            <p:spPr>
              <a:xfrm>
                <a:off x="2844720" y="1219320"/>
                <a:ext cx="529200" cy="37152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862000" y="1290600"/>
                <a:ext cx="489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lu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344640" y="2014560"/>
              <a:ext cx="875160" cy="324720"/>
              <a:chOff x="6344640" y="2014560"/>
              <a:chExt cx="875160" cy="324720"/>
            </a:xfrm>
          </p:grpSpPr>
          <p:sp>
            <p:nvSpPr>
              <p:cNvPr id="570" name=""/>
              <p:cNvSpPr/>
              <p:nvPr/>
            </p:nvSpPr>
            <p:spPr>
              <a:xfrm>
                <a:off x="6344640" y="2014560"/>
                <a:ext cx="828360" cy="31284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39320" y="2044800"/>
                <a:ext cx="535680" cy="150840"/>
              </a:xfrm>
              <a:prstGeom prst="roundRect">
                <a:avLst>
                  <a:gd name="adj" fmla="val 24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73440" y="2033640"/>
                <a:ext cx="846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MD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570360" y="2038320"/>
                <a:ext cx="35100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6813000" y="155736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6570720" y="1219320"/>
              <a:ext cx="528840" cy="371520"/>
              <a:chOff x="6570720" y="1219320"/>
              <a:chExt cx="528840" cy="371520"/>
            </a:xfrm>
          </p:grpSpPr>
          <p:sp>
            <p:nvSpPr>
              <p:cNvPr id="576" name=""/>
              <p:cNvSpPr/>
              <p:nvPr/>
            </p:nvSpPr>
            <p:spPr>
              <a:xfrm>
                <a:off x="6570720" y="1219320"/>
                <a:ext cx="528840" cy="371520"/>
              </a:xfrm>
              <a:prstGeom prst="ellipse">
                <a:avLst/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88000" y="1290600"/>
                <a:ext cx="489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lu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1: Fan in, fan ou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8067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n in: How many inputs can a node rece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n out: How many other nodes can one node dr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aspects to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of a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distinct physical, chemical, or logical input 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is important when interaction is stoichiometric: one upstream molec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ctivate one downstream molecule. e.g., receptor-ligand interactio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inhibitor protein to kin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is less important when interaction involves a messenger or enzy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. e.g., cAMP signalling, phosphoryl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oth cases, physical access to the target is important and may be mu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critical in determining fan in/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629400" y="1905120"/>
            <a:ext cx="1828800" cy="457200"/>
          </a:xfrm>
          <a:prstGeom prst="ellipse">
            <a:avLst/>
          </a:prstGeom>
          <a:solidFill>
            <a:srgbClr val="dc008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tein kin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00800" y="1600200"/>
            <a:ext cx="30492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086600" y="1600200"/>
            <a:ext cx="7632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7924680" y="1600200"/>
            <a:ext cx="15264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8381520" y="1600200"/>
            <a:ext cx="38124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553080" y="2895480"/>
            <a:ext cx="381240" cy="3812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467480" y="2895480"/>
            <a:ext cx="381240" cy="38124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2895480"/>
            <a:ext cx="380880" cy="3812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933960" y="2362320"/>
            <a:ext cx="533160" cy="533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620120" y="23623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772400" y="2362320"/>
            <a:ext cx="533520" cy="533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718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1: Fan in, fan ou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8840" y="1676160"/>
            <a:ext cx="8219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n in: Distinct inputs generally mean distinct chemical signals. Is this limiting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forms: Closely related variants of same signalling protein, with diffe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/output specific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of the molecules we discuss have 10 or more iso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AC: ~10 isoforms, each with many inputs, all feed into cAM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n out: How many downstream pathways may one pathway control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ly specific ones may be a single molecu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g., a MAPKK -&gt; single MAPK isoform in v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g., PKC-&gt; 20 substrates. Ca -&gt; 100s of downstream eff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connectivity ~5: from protein-protein interaction maps, datab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46160" y="228600"/>
            <a:ext cx="6975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2: Crosstalk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595" name="kohn_fig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3263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7620120" y="2590920"/>
            <a:ext cx="1143000" cy="228600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400800" y="2590920"/>
            <a:ext cx="1143000" cy="2286000"/>
          </a:xfrm>
          <a:prstGeom prst="ellipse">
            <a:avLst/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2: Crosstalk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 signalling looks like a network, not linear casc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ic circuit interpretation. Signal is short-circu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ing crosstal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istinct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ompartment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iffusive grad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caff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 point: Networks can do much more interesting computation than linear casc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4191120" y="2895480"/>
            <a:ext cx="685800" cy="1600200"/>
            <a:chOff x="4191120" y="2895480"/>
            <a:chExt cx="685800" cy="1600200"/>
          </a:xfrm>
        </p:grpSpPr>
        <p:sp>
          <p:nvSpPr>
            <p:cNvPr id="601" name=""/>
            <p:cNvSpPr/>
            <p:nvPr/>
          </p:nvSpPr>
          <p:spPr>
            <a:xfrm>
              <a:off x="4267440" y="2895480"/>
              <a:ext cx="457200" cy="45720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91120" y="3505320"/>
              <a:ext cx="685800" cy="380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267440" y="4114800"/>
              <a:ext cx="457200" cy="3808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496040" y="33526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496040" y="3886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952880" y="2895480"/>
            <a:ext cx="685800" cy="1600200"/>
            <a:chOff x="4952880" y="2895480"/>
            <a:chExt cx="685800" cy="1600200"/>
          </a:xfrm>
        </p:grpSpPr>
        <p:sp>
          <p:nvSpPr>
            <p:cNvPr id="607" name=""/>
            <p:cNvSpPr/>
            <p:nvPr/>
          </p:nvSpPr>
          <p:spPr>
            <a:xfrm>
              <a:off x="5029200" y="2895480"/>
              <a:ext cx="457200" cy="45720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52880" y="3505320"/>
              <a:ext cx="685800" cy="380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29200" y="4114800"/>
              <a:ext cx="457200" cy="3808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257800" y="33526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257800" y="3886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629400" y="2895480"/>
            <a:ext cx="685800" cy="1600200"/>
            <a:chOff x="6629400" y="2895480"/>
            <a:chExt cx="685800" cy="1600200"/>
          </a:xfrm>
        </p:grpSpPr>
        <p:sp>
          <p:nvSpPr>
            <p:cNvPr id="613" name=""/>
            <p:cNvSpPr/>
            <p:nvPr/>
          </p:nvSpPr>
          <p:spPr>
            <a:xfrm>
              <a:off x="6705720" y="2895480"/>
              <a:ext cx="457200" cy="45720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29400" y="3505320"/>
              <a:ext cx="685800" cy="380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05720" y="4114800"/>
              <a:ext cx="457200" cy="3808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934320" y="33526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934320" y="3886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7848720" y="2895480"/>
            <a:ext cx="685800" cy="1600200"/>
            <a:chOff x="7848720" y="2895480"/>
            <a:chExt cx="685800" cy="1600200"/>
          </a:xfrm>
        </p:grpSpPr>
        <p:sp>
          <p:nvSpPr>
            <p:cNvPr id="619" name=""/>
            <p:cNvSpPr/>
            <p:nvPr/>
          </p:nvSpPr>
          <p:spPr>
            <a:xfrm>
              <a:off x="7925040" y="2895480"/>
              <a:ext cx="457200" cy="45720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48720" y="3505320"/>
              <a:ext cx="685800" cy="380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25040" y="4114800"/>
              <a:ext cx="457200" cy="3808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153640" y="33526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153640" y="3886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2: Crosstalk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5553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talk can occur thr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ultiple inputs (high fan 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ultiple outputs (high fan ou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gulatory cross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e: Take any one pathway, list 2 examples of each of the above cases of crosstal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238880" y="2362320"/>
            <a:ext cx="685800" cy="1600200"/>
            <a:chOff x="7238880" y="2362320"/>
            <a:chExt cx="685800" cy="1600200"/>
          </a:xfrm>
        </p:grpSpPr>
        <p:sp>
          <p:nvSpPr>
            <p:cNvPr id="627" name=""/>
            <p:cNvSpPr/>
            <p:nvPr/>
          </p:nvSpPr>
          <p:spPr>
            <a:xfrm>
              <a:off x="7315200" y="2362320"/>
              <a:ext cx="457200" cy="45720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2972160"/>
              <a:ext cx="685800" cy="380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15200" y="3581640"/>
              <a:ext cx="457200" cy="3808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43800" y="281952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43800" y="335304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6477120" y="2362320"/>
            <a:ext cx="457200" cy="457200"/>
          </a:xfrm>
          <a:prstGeom prst="rect">
            <a:avLst/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81680" y="28195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342900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3: Amplific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= Gain *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&gt; 1: Output &gt; input: GPCR, MAPK casc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 &lt; Gain &lt; 1: Output &lt; input: Exampl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&lt; -1 : Output is large and neg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 &lt; Gain &lt; 0: Output is small and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cise: Find distinct examples for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GPCR_ampl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9244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fca"/>
                </a:solidFill>
                <a:latin typeface="Book Antiqua"/>
              </a:rPr>
              <a:t>Lecture 1:</a:t>
            </a:r>
            <a:br>
              <a:rPr sz="4000"/>
            </a:br>
            <a:r>
              <a:rPr b="0" lang="en-US" sz="3200" spc="-1" strike="noStrike">
                <a:solidFill>
                  <a:srgbClr val="00dfca"/>
                </a:solidFill>
                <a:latin typeface="Book Antiqua"/>
              </a:rPr>
              <a:t>Signaling as information flow and computation</a:t>
            </a:r>
            <a:endParaRPr b="0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y, D. (1995) Protein molecules as computational elements in living cells. Nature 376, 307-3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halla, U.S. (in press) Understanding complex signaling networks through models and metaph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oud et al. (2001) Numeric Simulation of Plant Signaling Networks. Plant Physiology 126:1430-14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3: Amplific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18840" y="1980720"/>
            <a:ext cx="4638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ampl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turnover enzymes/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s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al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vis_amplif" descr=""/>
          <p:cNvPicPr/>
          <p:nvPr/>
        </p:nvPicPr>
        <p:blipFill>
          <a:blip r:embed="rId1"/>
          <a:srcRect l="0" t="0" r="36932" b="13748"/>
          <a:stretch/>
        </p:blipFill>
        <p:spPr>
          <a:xfrm>
            <a:off x="5638680" y="1600200"/>
            <a:ext cx="2895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3: Amplific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4257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 Gai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gain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, integrating negative feedback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: Find dynamic range of vision, olfaction, au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5400000">
            <a:off x="6210360" y="2781360"/>
            <a:ext cx="1218960" cy="8380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29400" y="1981080"/>
            <a:ext cx="129528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g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32004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8305920" y="22860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924320" y="228600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6095880" y="220968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095880" y="2209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62360" y="2681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78560" y="32767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9920" y="35053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333400" y="32767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4: Negative feedback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04200" y="1981080"/>
            <a:ext cx="3505680" cy="1600200"/>
            <a:chOff x="304200" y="1981080"/>
            <a:chExt cx="3505680" cy="1600200"/>
          </a:xfrm>
        </p:grpSpPr>
        <p:sp>
          <p:nvSpPr>
            <p:cNvPr id="657" name=""/>
            <p:cNvSpPr/>
            <p:nvPr/>
          </p:nvSpPr>
          <p:spPr>
            <a:xfrm rot="5400000">
              <a:off x="1180800" y="2552760"/>
              <a:ext cx="1218960" cy="8380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Ga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09680" y="2971800"/>
              <a:ext cx="160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3276720" y="1981080"/>
              <a:ext cx="0" cy="9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066320" y="1981080"/>
              <a:ext cx="2210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66680" y="198108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66680" y="26668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33160" y="24526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9360" y="30481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90720" y="327672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4200" y="304812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9520" y="1828800"/>
            <a:ext cx="5045400" cy="2209680"/>
            <a:chOff x="3809520" y="1828800"/>
            <a:chExt cx="5045400" cy="2209680"/>
          </a:xfrm>
        </p:grpSpPr>
        <p:sp>
          <p:nvSpPr>
            <p:cNvPr id="668" name=""/>
            <p:cNvSpPr/>
            <p:nvPr/>
          </p:nvSpPr>
          <p:spPr>
            <a:xfrm>
              <a:off x="7711920" y="2209680"/>
              <a:ext cx="1143000" cy="53352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5400000">
              <a:off x="5235120" y="2247840"/>
              <a:ext cx="1828800" cy="1600200"/>
            </a:xfrm>
            <a:prstGeom prst="triangle">
              <a:avLst>
                <a:gd name="adj" fmla="val 50000"/>
              </a:avLst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nzy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11920" y="3505320"/>
              <a:ext cx="1143000" cy="5331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ubstra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45120" y="2438280"/>
              <a:ext cx="766800" cy="1270080"/>
            </a:xfrm>
            <a:custGeom>
              <a:avLst/>
              <a:gdLst/>
              <a:ahLst/>
              <a:rect l="l" t="t" r="r" b="b"/>
              <a:pathLst>
                <a:path w="483" h="800">
                  <a:moveTo>
                    <a:pt x="467" y="800"/>
                  </a:moveTo>
                  <a:cubicBezTo>
                    <a:pt x="388" y="731"/>
                    <a:pt x="0" y="517"/>
                    <a:pt x="3" y="384"/>
                  </a:cubicBezTo>
                  <a:cubicBezTo>
                    <a:pt x="6" y="251"/>
                    <a:pt x="403" y="64"/>
                    <a:pt x="483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8321760" y="18288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739760" y="1828800"/>
              <a:ext cx="358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40120" y="1828800"/>
              <a:ext cx="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40120" y="24382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273640" y="228600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64160" y="365760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09520" y="344340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3962520" y="5410080"/>
            <a:ext cx="1143000" cy="5335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5400000">
            <a:off x="1958400" y="4838400"/>
            <a:ext cx="1828800" cy="1600200"/>
          </a:xfrm>
          <a:prstGeom prst="triangle">
            <a:avLst>
              <a:gd name="adj" fmla="val 50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zy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486400" y="5410080"/>
            <a:ext cx="1143000" cy="5335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6095880" y="441936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1447560" y="4419720"/>
            <a:ext cx="464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63760" y="44197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463760" y="502920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996920" y="48769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387440" y="62485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2800" y="603396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105520" y="56386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Negative feedback: Linearis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562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d amplifier with high 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Negative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is re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is more lin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e timing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1524600" y="4572000"/>
            <a:ext cx="2361240" cy="2089800"/>
            <a:chOff x="1524600" y="4572000"/>
            <a:chExt cx="2361240" cy="2089800"/>
          </a:xfrm>
        </p:grpSpPr>
        <p:sp>
          <p:nvSpPr>
            <p:cNvPr id="694" name=""/>
            <p:cNvSpPr/>
            <p:nvPr/>
          </p:nvSpPr>
          <p:spPr>
            <a:xfrm>
              <a:off x="2133360" y="4724640"/>
              <a:ext cx="0" cy="160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33360" y="6324840"/>
              <a:ext cx="175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33360" y="4572000"/>
              <a:ext cx="1447920" cy="1752840"/>
            </a:xfrm>
            <a:custGeom>
              <a:avLst/>
              <a:gdLst/>
              <a:ahLst/>
              <a:rect l="l" t="t" r="r" b="b"/>
              <a:pathLst>
                <a:path w="912" h="1104">
                  <a:moveTo>
                    <a:pt x="0" y="1104"/>
                  </a:moveTo>
                  <a:cubicBezTo>
                    <a:pt x="28" y="1036"/>
                    <a:pt x="56" y="968"/>
                    <a:pt x="96" y="912"/>
                  </a:cubicBezTo>
                  <a:cubicBezTo>
                    <a:pt x="136" y="856"/>
                    <a:pt x="192" y="832"/>
                    <a:pt x="240" y="768"/>
                  </a:cubicBezTo>
                  <a:cubicBezTo>
                    <a:pt x="288" y="704"/>
                    <a:pt x="328" y="592"/>
                    <a:pt x="384" y="528"/>
                  </a:cubicBezTo>
                  <a:cubicBezTo>
                    <a:pt x="440" y="464"/>
                    <a:pt x="520" y="448"/>
                    <a:pt x="576" y="384"/>
                  </a:cubicBezTo>
                  <a:cubicBezTo>
                    <a:pt x="632" y="320"/>
                    <a:pt x="664" y="208"/>
                    <a:pt x="720" y="144"/>
                  </a:cubicBezTo>
                  <a:cubicBezTo>
                    <a:pt x="776" y="80"/>
                    <a:pt x="844" y="40"/>
                    <a:pt x="912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66520" y="6262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890000" y="6262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24600" y="4572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e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410800" y="4572000"/>
            <a:ext cx="2366640" cy="2135880"/>
            <a:chOff x="5410800" y="4572000"/>
            <a:chExt cx="2366640" cy="2135880"/>
          </a:xfrm>
        </p:grpSpPr>
        <p:sp>
          <p:nvSpPr>
            <p:cNvPr id="701" name=""/>
            <p:cNvSpPr/>
            <p:nvPr/>
          </p:nvSpPr>
          <p:spPr>
            <a:xfrm>
              <a:off x="5943600" y="4724640"/>
              <a:ext cx="0" cy="160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43600" y="6324840"/>
              <a:ext cx="175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10800" y="45720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5943600" y="4800600"/>
              <a:ext cx="1447560" cy="152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8560" y="630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92040" y="630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4419720" y="4876920"/>
            <a:ext cx="761760" cy="990360"/>
          </a:xfrm>
          <a:prstGeom prst="right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Negative feedback: Adapt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8296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s x amount of a biological signal important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it is important when it is turning on or off. If it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dy, who c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sensory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is reason there is a lot of adaptation at the receptor lev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 circuit: GPCR adaptation through arrest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ematical equivalent: differenti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implication: Basal activity can be nulled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Negative feedback: Adapt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711" name="adaptation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604692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Negative FB: Dynamic rang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952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lling response range ~10 or 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ping from wide range of input to small range of sig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tion using slow –ve feedb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: Find dynamic range of various signalling molec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324480" y="18288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324480" y="3429000"/>
            <a:ext cx="1981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324480" y="2743200"/>
            <a:ext cx="19051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324480" y="1816200"/>
            <a:ext cx="1828800" cy="977760"/>
          </a:xfrm>
          <a:custGeom>
            <a:avLst/>
            <a:gdLst/>
            <a:ahLst/>
            <a:rect l="l" t="t" r="r" b="b"/>
            <a:pathLst>
              <a:path w="1152" h="616">
                <a:moveTo>
                  <a:pt x="0" y="584"/>
                </a:moveTo>
                <a:cubicBezTo>
                  <a:pt x="17" y="584"/>
                  <a:pt x="40" y="616"/>
                  <a:pt x="104" y="584"/>
                </a:cubicBezTo>
                <a:cubicBezTo>
                  <a:pt x="168" y="552"/>
                  <a:pt x="306" y="464"/>
                  <a:pt x="384" y="392"/>
                </a:cubicBezTo>
                <a:cubicBezTo>
                  <a:pt x="462" y="320"/>
                  <a:pt x="512" y="208"/>
                  <a:pt x="576" y="152"/>
                </a:cubicBezTo>
                <a:cubicBezTo>
                  <a:pt x="640" y="96"/>
                  <a:pt x="704" y="80"/>
                  <a:pt x="768" y="56"/>
                </a:cubicBezTo>
                <a:cubicBezTo>
                  <a:pt x="832" y="32"/>
                  <a:pt x="896" y="16"/>
                  <a:pt x="960" y="8"/>
                </a:cubicBezTo>
                <a:cubicBezTo>
                  <a:pt x="1024" y="0"/>
                  <a:pt x="1088" y="4"/>
                  <a:pt x="1152" y="8"/>
                </a:cubicBezTo>
              </a:path>
            </a:pathLst>
          </a:custGeom>
          <a:noFill/>
          <a:ln w="28440">
            <a:solidFill>
              <a:srgbClr val="00df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4480" y="2730600"/>
            <a:ext cx="1828800" cy="546120"/>
          </a:xfrm>
          <a:custGeom>
            <a:avLst/>
            <a:gdLst/>
            <a:ahLst/>
            <a:rect l="l" t="t" r="r" b="b"/>
            <a:pathLst>
              <a:path w="1152" h="344">
                <a:moveTo>
                  <a:pt x="0" y="8"/>
                </a:moveTo>
                <a:cubicBezTo>
                  <a:pt x="16" y="8"/>
                  <a:pt x="32" y="8"/>
                  <a:pt x="48" y="8"/>
                </a:cubicBezTo>
                <a:cubicBezTo>
                  <a:pt x="64" y="8"/>
                  <a:pt x="48" y="0"/>
                  <a:pt x="96" y="8"/>
                </a:cubicBezTo>
                <a:cubicBezTo>
                  <a:pt x="144" y="16"/>
                  <a:pt x="272" y="32"/>
                  <a:pt x="336" y="56"/>
                </a:cubicBezTo>
                <a:cubicBezTo>
                  <a:pt x="400" y="80"/>
                  <a:pt x="424" y="112"/>
                  <a:pt x="480" y="152"/>
                </a:cubicBezTo>
                <a:cubicBezTo>
                  <a:pt x="536" y="192"/>
                  <a:pt x="560" y="264"/>
                  <a:pt x="672" y="296"/>
                </a:cubicBezTo>
                <a:cubicBezTo>
                  <a:pt x="784" y="328"/>
                  <a:pt x="968" y="336"/>
                  <a:pt x="1152" y="344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678800" y="184320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5 x ba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756920" y="283356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sal /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19720" y="5181480"/>
            <a:ext cx="0" cy="112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419720" y="6303960"/>
            <a:ext cx="434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15000" y="5257800"/>
            <a:ext cx="1981080" cy="909720"/>
          </a:xfrm>
          <a:custGeom>
            <a:avLst/>
            <a:gdLst/>
            <a:ahLst/>
            <a:rect l="l" t="t" r="r" b="b"/>
            <a:pathLst>
              <a:path w="1248" h="880">
                <a:moveTo>
                  <a:pt x="0" y="872"/>
                </a:moveTo>
                <a:cubicBezTo>
                  <a:pt x="76" y="872"/>
                  <a:pt x="152" y="872"/>
                  <a:pt x="192" y="872"/>
                </a:cubicBezTo>
                <a:cubicBezTo>
                  <a:pt x="232" y="872"/>
                  <a:pt x="216" y="880"/>
                  <a:pt x="240" y="872"/>
                </a:cubicBezTo>
                <a:cubicBezTo>
                  <a:pt x="264" y="864"/>
                  <a:pt x="296" y="872"/>
                  <a:pt x="336" y="824"/>
                </a:cubicBezTo>
                <a:cubicBezTo>
                  <a:pt x="376" y="776"/>
                  <a:pt x="440" y="664"/>
                  <a:pt x="480" y="584"/>
                </a:cubicBezTo>
                <a:cubicBezTo>
                  <a:pt x="520" y="504"/>
                  <a:pt x="536" y="416"/>
                  <a:pt x="576" y="344"/>
                </a:cubicBezTo>
                <a:cubicBezTo>
                  <a:pt x="616" y="272"/>
                  <a:pt x="680" y="192"/>
                  <a:pt x="720" y="152"/>
                </a:cubicBezTo>
                <a:cubicBezTo>
                  <a:pt x="760" y="112"/>
                  <a:pt x="784" y="120"/>
                  <a:pt x="816" y="104"/>
                </a:cubicBezTo>
                <a:cubicBezTo>
                  <a:pt x="848" y="88"/>
                  <a:pt x="872" y="72"/>
                  <a:pt x="912" y="56"/>
                </a:cubicBezTo>
                <a:cubicBezTo>
                  <a:pt x="952" y="40"/>
                  <a:pt x="1000" y="16"/>
                  <a:pt x="1056" y="8"/>
                </a:cubicBezTo>
                <a:cubicBezTo>
                  <a:pt x="1112" y="0"/>
                  <a:pt x="1180" y="4"/>
                  <a:pt x="1248" y="8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630396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4120" y="630396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791320" y="630396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248520" y="630396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725360" y="6303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562720" y="6303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05720" y="629928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162920" y="629928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0120" y="629928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077320" y="629928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53800" y="62992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e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392240" y="62992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e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20120" y="52578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34520" y="629928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306640" y="62992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e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419720" y="3657600"/>
            <a:ext cx="4436280" cy="1521000"/>
            <a:chOff x="4419720" y="3657600"/>
            <a:chExt cx="4436280" cy="1521000"/>
          </a:xfrm>
        </p:grpSpPr>
        <p:sp>
          <p:nvSpPr>
            <p:cNvPr id="740" name=""/>
            <p:cNvSpPr/>
            <p:nvPr/>
          </p:nvSpPr>
          <p:spPr>
            <a:xfrm>
              <a:off x="4419720" y="3657600"/>
              <a:ext cx="0" cy="112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19720" y="4779720"/>
              <a:ext cx="4343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19720" y="3733560"/>
              <a:ext cx="1981080" cy="909720"/>
            </a:xfrm>
            <a:custGeom>
              <a:avLst/>
              <a:gdLst/>
              <a:ahLst/>
              <a:rect l="l" t="t" r="r" b="b"/>
              <a:pathLst>
                <a:path w="1248" h="880">
                  <a:moveTo>
                    <a:pt x="0" y="872"/>
                  </a:moveTo>
                  <a:cubicBezTo>
                    <a:pt x="76" y="872"/>
                    <a:pt x="152" y="872"/>
                    <a:pt x="192" y="872"/>
                  </a:cubicBezTo>
                  <a:cubicBezTo>
                    <a:pt x="232" y="872"/>
                    <a:pt x="216" y="880"/>
                    <a:pt x="240" y="872"/>
                  </a:cubicBezTo>
                  <a:cubicBezTo>
                    <a:pt x="264" y="864"/>
                    <a:pt x="296" y="872"/>
                    <a:pt x="336" y="824"/>
                  </a:cubicBezTo>
                  <a:cubicBezTo>
                    <a:pt x="376" y="776"/>
                    <a:pt x="440" y="664"/>
                    <a:pt x="480" y="584"/>
                  </a:cubicBezTo>
                  <a:cubicBezTo>
                    <a:pt x="520" y="504"/>
                    <a:pt x="536" y="416"/>
                    <a:pt x="576" y="344"/>
                  </a:cubicBezTo>
                  <a:cubicBezTo>
                    <a:pt x="616" y="272"/>
                    <a:pt x="680" y="192"/>
                    <a:pt x="720" y="152"/>
                  </a:cubicBezTo>
                  <a:cubicBezTo>
                    <a:pt x="760" y="112"/>
                    <a:pt x="784" y="120"/>
                    <a:pt x="816" y="104"/>
                  </a:cubicBezTo>
                  <a:cubicBezTo>
                    <a:pt x="848" y="88"/>
                    <a:pt x="872" y="72"/>
                    <a:pt x="912" y="56"/>
                  </a:cubicBezTo>
                  <a:cubicBezTo>
                    <a:pt x="952" y="40"/>
                    <a:pt x="1000" y="16"/>
                    <a:pt x="1056" y="8"/>
                  </a:cubicBezTo>
                  <a:cubicBezTo>
                    <a:pt x="1112" y="0"/>
                    <a:pt x="1180" y="4"/>
                    <a:pt x="1248" y="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76920" y="477972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34120" y="477972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91320" y="477972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48520" y="477972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25360" y="477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62720" y="47797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05720" y="47750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2920" y="47750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20120" y="47750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77320" y="47750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53800" y="47750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e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92240" y="47750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e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248520" y="3733560"/>
              <a:ext cx="243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534520" y="47750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306640" y="47750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e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 flipH="1">
            <a:off x="4419720" y="61722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5: Positive Feedback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60" name=""/>
          <p:cNvSpPr/>
          <p:nvPr/>
        </p:nvSpPr>
        <p:spPr>
          <a:xfrm>
            <a:off x="1295280" y="2286000"/>
            <a:ext cx="167652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MK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02000" y="1554120"/>
            <a:ext cx="1265040" cy="1265400"/>
          </a:xfrm>
          <a:custGeom>
            <a:avLst/>
            <a:gdLst/>
            <a:ahLst/>
            <a:rect l="l" t="t" r="r" b="b"/>
            <a:pathLst>
              <a:path w="797" h="797">
                <a:moveTo>
                  <a:pt x="296" y="797"/>
                </a:moveTo>
                <a:cubicBezTo>
                  <a:pt x="369" y="778"/>
                  <a:pt x="675" y="797"/>
                  <a:pt x="736" y="685"/>
                </a:cubicBezTo>
                <a:cubicBezTo>
                  <a:pt x="797" y="573"/>
                  <a:pt x="760" y="230"/>
                  <a:pt x="664" y="125"/>
                </a:cubicBezTo>
                <a:cubicBezTo>
                  <a:pt x="568" y="20"/>
                  <a:pt x="271" y="0"/>
                  <a:pt x="160" y="53"/>
                </a:cubicBezTo>
                <a:cubicBezTo>
                  <a:pt x="49" y="106"/>
                  <a:pt x="33" y="363"/>
                  <a:pt x="0" y="445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91320" y="2438280"/>
            <a:ext cx="8380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3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238880" y="2362320"/>
            <a:ext cx="990720" cy="68580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+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629400" y="28954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629040" y="251460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95280" y="4114800"/>
            <a:ext cx="1067040" cy="609480"/>
          </a:xfrm>
          <a:prstGeom prst="rect">
            <a:avLst/>
          </a:prstGeom>
          <a:solidFill>
            <a:srgbClr val="47474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K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52680" y="3657600"/>
            <a:ext cx="914400" cy="6094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352680" y="4572000"/>
            <a:ext cx="990720" cy="1523880"/>
          </a:xfrm>
          <a:prstGeom prst="rect">
            <a:avLst/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P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sc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600200" y="5791320"/>
            <a:ext cx="914400" cy="533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47920" y="4952880"/>
            <a:ext cx="838080" cy="4572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362320" y="4038120"/>
            <a:ext cx="9903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4495680"/>
            <a:ext cx="99036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86200" y="4267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2514600" y="601992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1904760" y="5409720"/>
            <a:ext cx="15228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1905120" y="47239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29200" y="4495680"/>
            <a:ext cx="914400" cy="304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943600" y="4495680"/>
            <a:ext cx="1828800" cy="304920"/>
          </a:xfrm>
          <a:prstGeom prst="rect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772400" y="4495680"/>
            <a:ext cx="914400" cy="304920"/>
          </a:xfrm>
          <a:prstGeom prst="rect">
            <a:avLst/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815328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486400" y="4191120"/>
            <a:ext cx="266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86400" y="41911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334120" y="44197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486400" y="48006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486400" y="5105520"/>
            <a:ext cx="266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8153280" y="487656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01000" y="487692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+ve FB: Amplific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er: Output = Gain *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+ve FB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= G * (I + k.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’ = O/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= G * (I/O + 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– kG = G *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’ = O/I = G / (1 – k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ularity when k = 1/G. Below that we get amplification. Above tha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6216120" y="3181320"/>
            <a:ext cx="1409760" cy="1143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892840" y="2590920"/>
            <a:ext cx="2057400" cy="1143000"/>
          </a:xfrm>
          <a:custGeom>
            <a:avLst/>
            <a:gdLst/>
            <a:ahLst/>
            <a:rect l="l" t="t" r="r" b="b"/>
            <a:pathLst>
              <a:path w="1296" h="720">
                <a:moveTo>
                  <a:pt x="1008" y="720"/>
                </a:moveTo>
                <a:lnTo>
                  <a:pt x="1296" y="720"/>
                </a:lnTo>
                <a:lnTo>
                  <a:pt x="1296" y="0"/>
                </a:lnTo>
                <a:lnTo>
                  <a:pt x="0" y="0"/>
                </a:lnTo>
                <a:lnTo>
                  <a:pt x="0" y="672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826160" y="373392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873920" y="373392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254800" y="35053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978080" y="2971800"/>
            <a:ext cx="88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 *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063320" y="35053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+ve FB: Bistabilit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2209680"/>
            <a:ext cx="838080" cy="6098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09680" y="2209680"/>
            <a:ext cx="838440" cy="609840"/>
          </a:xfrm>
          <a:prstGeom prst="ellipse">
            <a:avLst/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447920" y="22860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1447920" y="27432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88920" y="167652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edback circu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" y="3581280"/>
            <a:ext cx="838080" cy="6098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09680" y="3581280"/>
            <a:ext cx="838440" cy="609840"/>
          </a:xfrm>
          <a:prstGeom prst="ellipse">
            <a:avLst/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447920" y="3657600"/>
            <a:ext cx="838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1447920" y="411480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600200" y="3429000"/>
            <a:ext cx="38088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1600200" y="3429000"/>
            <a:ext cx="38088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38480" y="2903400"/>
            <a:ext cx="0" cy="1363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038480" y="4267080"/>
            <a:ext cx="16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038480" y="2971800"/>
            <a:ext cx="1648080" cy="1174680"/>
          </a:xfrm>
          <a:custGeom>
            <a:avLst/>
            <a:gdLst/>
            <a:ahLst/>
            <a:rect l="l" t="t" r="r" b="b"/>
            <a:pathLst>
              <a:path w="1432" h="1075">
                <a:moveTo>
                  <a:pt x="0" y="1072"/>
                </a:moveTo>
                <a:cubicBezTo>
                  <a:pt x="40" y="1069"/>
                  <a:pt x="161" y="1075"/>
                  <a:pt x="232" y="1056"/>
                </a:cubicBezTo>
                <a:cubicBezTo>
                  <a:pt x="303" y="1037"/>
                  <a:pt x="368" y="1016"/>
                  <a:pt x="424" y="960"/>
                </a:cubicBezTo>
                <a:cubicBezTo>
                  <a:pt x="480" y="904"/>
                  <a:pt x="512" y="840"/>
                  <a:pt x="568" y="720"/>
                </a:cubicBezTo>
                <a:cubicBezTo>
                  <a:pt x="624" y="600"/>
                  <a:pt x="696" y="352"/>
                  <a:pt x="760" y="240"/>
                </a:cubicBezTo>
                <a:cubicBezTo>
                  <a:pt x="824" y="128"/>
                  <a:pt x="840" y="88"/>
                  <a:pt x="952" y="48"/>
                </a:cubicBezTo>
                <a:cubicBezTo>
                  <a:pt x="1064" y="8"/>
                  <a:pt x="1248" y="4"/>
                  <a:pt x="1432" y="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23160" y="419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4880" y="2979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" y="5334120"/>
            <a:ext cx="838080" cy="6094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09680" y="5334120"/>
            <a:ext cx="838440" cy="609480"/>
          </a:xfrm>
          <a:prstGeom prst="ellipse">
            <a:avLst/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447920" y="5410080"/>
            <a:ext cx="838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447920" y="586728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52480" y="5715000"/>
            <a:ext cx="38124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1752480" y="5715000"/>
            <a:ext cx="38124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732200"/>
            <a:ext cx="0" cy="1363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038480" y="6095880"/>
            <a:ext cx="16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4800600"/>
            <a:ext cx="1667160" cy="1038240"/>
          </a:xfrm>
          <a:custGeom>
            <a:avLst/>
            <a:gdLst/>
            <a:ahLst/>
            <a:rect l="l" t="t" r="r" b="b"/>
            <a:pathLst>
              <a:path w="1050" h="654">
                <a:moveTo>
                  <a:pt x="0" y="654"/>
                </a:moveTo>
                <a:cubicBezTo>
                  <a:pt x="31" y="649"/>
                  <a:pt x="132" y="637"/>
                  <a:pt x="186" y="624"/>
                </a:cubicBezTo>
                <a:cubicBezTo>
                  <a:pt x="240" y="611"/>
                  <a:pt x="278" y="612"/>
                  <a:pt x="322" y="576"/>
                </a:cubicBezTo>
                <a:cubicBezTo>
                  <a:pt x="366" y="540"/>
                  <a:pt x="406" y="475"/>
                  <a:pt x="450" y="408"/>
                </a:cubicBezTo>
                <a:cubicBezTo>
                  <a:pt x="494" y="341"/>
                  <a:pt x="526" y="239"/>
                  <a:pt x="586" y="176"/>
                </a:cubicBezTo>
                <a:cubicBezTo>
                  <a:pt x="646" y="113"/>
                  <a:pt x="733" y="61"/>
                  <a:pt x="810" y="32"/>
                </a:cubicBezTo>
                <a:cubicBezTo>
                  <a:pt x="887" y="3"/>
                  <a:pt x="1000" y="7"/>
                  <a:pt x="105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122800" y="6027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675240" y="4808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035960" y="1676520"/>
            <a:ext cx="16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se-respo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553080" y="2590920"/>
            <a:ext cx="0" cy="1676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553080" y="4267080"/>
            <a:ext cx="16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553080" y="2971800"/>
            <a:ext cx="1648080" cy="1174680"/>
          </a:xfrm>
          <a:custGeom>
            <a:avLst/>
            <a:gdLst/>
            <a:ahLst/>
            <a:rect l="l" t="t" r="r" b="b"/>
            <a:pathLst>
              <a:path w="1432" h="1075">
                <a:moveTo>
                  <a:pt x="0" y="1072"/>
                </a:moveTo>
                <a:cubicBezTo>
                  <a:pt x="40" y="1069"/>
                  <a:pt x="161" y="1075"/>
                  <a:pt x="232" y="1056"/>
                </a:cubicBezTo>
                <a:cubicBezTo>
                  <a:pt x="303" y="1037"/>
                  <a:pt x="368" y="1016"/>
                  <a:pt x="424" y="960"/>
                </a:cubicBezTo>
                <a:cubicBezTo>
                  <a:pt x="480" y="904"/>
                  <a:pt x="512" y="840"/>
                  <a:pt x="568" y="720"/>
                </a:cubicBezTo>
                <a:cubicBezTo>
                  <a:pt x="624" y="600"/>
                  <a:pt x="696" y="352"/>
                  <a:pt x="760" y="240"/>
                </a:cubicBezTo>
                <a:cubicBezTo>
                  <a:pt x="824" y="128"/>
                  <a:pt x="840" y="88"/>
                  <a:pt x="952" y="48"/>
                </a:cubicBezTo>
                <a:cubicBezTo>
                  <a:pt x="1064" y="8"/>
                  <a:pt x="1248" y="4"/>
                  <a:pt x="1432" y="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637760" y="419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173640" y="2590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rot="5400000">
            <a:off x="6467400" y="2905200"/>
            <a:ext cx="1666800" cy="1038240"/>
          </a:xfrm>
          <a:custGeom>
            <a:avLst/>
            <a:gdLst/>
            <a:ahLst/>
            <a:rect l="l" t="t" r="r" b="b"/>
            <a:pathLst>
              <a:path w="1050" h="654">
                <a:moveTo>
                  <a:pt x="0" y="654"/>
                </a:moveTo>
                <a:cubicBezTo>
                  <a:pt x="31" y="649"/>
                  <a:pt x="132" y="637"/>
                  <a:pt x="186" y="624"/>
                </a:cubicBezTo>
                <a:cubicBezTo>
                  <a:pt x="240" y="611"/>
                  <a:pt x="278" y="612"/>
                  <a:pt x="322" y="576"/>
                </a:cubicBezTo>
                <a:cubicBezTo>
                  <a:pt x="366" y="540"/>
                  <a:pt x="406" y="475"/>
                  <a:pt x="450" y="408"/>
                </a:cubicBezTo>
                <a:cubicBezTo>
                  <a:pt x="494" y="341"/>
                  <a:pt x="526" y="239"/>
                  <a:pt x="586" y="176"/>
                </a:cubicBezTo>
                <a:cubicBezTo>
                  <a:pt x="646" y="113"/>
                  <a:pt x="733" y="61"/>
                  <a:pt x="810" y="32"/>
                </a:cubicBezTo>
                <a:cubicBezTo>
                  <a:pt x="887" y="3"/>
                  <a:pt x="1000" y="7"/>
                  <a:pt x="105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534000" y="1690560"/>
            <a:ext cx="199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ves plotted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e ax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opics for lecture 1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ca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og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lling block dia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n in, fan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ve feedback: Linearization, adaptation, dynamic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ve feedback: Gain, bistability, nested bis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cillators and ti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al network ana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alysis of feedback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834" name=""/>
          <p:cNvSpPr/>
          <p:nvPr/>
        </p:nvSpPr>
        <p:spPr>
          <a:xfrm>
            <a:off x="914400" y="2971800"/>
            <a:ext cx="0" cy="1676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914400" y="4648320"/>
            <a:ext cx="16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14400" y="3429000"/>
            <a:ext cx="1752480" cy="1174680"/>
          </a:xfrm>
          <a:custGeom>
            <a:avLst/>
            <a:gdLst/>
            <a:ahLst/>
            <a:rect l="l" t="t" r="r" b="b"/>
            <a:pathLst>
              <a:path w="1432" h="1075">
                <a:moveTo>
                  <a:pt x="0" y="1072"/>
                </a:moveTo>
                <a:cubicBezTo>
                  <a:pt x="40" y="1069"/>
                  <a:pt x="161" y="1075"/>
                  <a:pt x="232" y="1056"/>
                </a:cubicBezTo>
                <a:cubicBezTo>
                  <a:pt x="303" y="1037"/>
                  <a:pt x="368" y="1016"/>
                  <a:pt x="424" y="960"/>
                </a:cubicBezTo>
                <a:cubicBezTo>
                  <a:pt x="480" y="904"/>
                  <a:pt x="512" y="840"/>
                  <a:pt x="568" y="720"/>
                </a:cubicBezTo>
                <a:cubicBezTo>
                  <a:pt x="624" y="600"/>
                  <a:pt x="696" y="352"/>
                  <a:pt x="760" y="240"/>
                </a:cubicBezTo>
                <a:cubicBezTo>
                  <a:pt x="824" y="128"/>
                  <a:pt x="840" y="88"/>
                  <a:pt x="952" y="48"/>
                </a:cubicBezTo>
                <a:cubicBezTo>
                  <a:pt x="1064" y="8"/>
                  <a:pt x="1248" y="4"/>
                  <a:pt x="1432" y="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999080" y="4579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34960" y="2971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rot="5400000">
            <a:off x="600120" y="3209400"/>
            <a:ext cx="1819080" cy="1038240"/>
          </a:xfrm>
          <a:custGeom>
            <a:avLst/>
            <a:gdLst/>
            <a:ahLst/>
            <a:rect l="l" t="t" r="r" b="b"/>
            <a:pathLst>
              <a:path w="1050" h="654">
                <a:moveTo>
                  <a:pt x="0" y="654"/>
                </a:moveTo>
                <a:cubicBezTo>
                  <a:pt x="31" y="649"/>
                  <a:pt x="132" y="637"/>
                  <a:pt x="186" y="624"/>
                </a:cubicBezTo>
                <a:cubicBezTo>
                  <a:pt x="240" y="611"/>
                  <a:pt x="278" y="612"/>
                  <a:pt x="322" y="576"/>
                </a:cubicBezTo>
                <a:cubicBezTo>
                  <a:pt x="366" y="540"/>
                  <a:pt x="406" y="475"/>
                  <a:pt x="450" y="408"/>
                </a:cubicBezTo>
                <a:cubicBezTo>
                  <a:pt x="494" y="341"/>
                  <a:pt x="526" y="239"/>
                  <a:pt x="586" y="176"/>
                </a:cubicBezTo>
                <a:cubicBezTo>
                  <a:pt x="646" y="113"/>
                  <a:pt x="733" y="61"/>
                  <a:pt x="810" y="32"/>
                </a:cubicBezTo>
                <a:cubicBezTo>
                  <a:pt x="887" y="3"/>
                  <a:pt x="1000" y="7"/>
                  <a:pt x="105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74240" y="1905120"/>
            <a:ext cx="217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table and 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tastable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52280" y="152280"/>
            <a:ext cx="838440" cy="6098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676520" y="152280"/>
            <a:ext cx="838080" cy="609840"/>
          </a:xfrm>
          <a:prstGeom prst="ellipse">
            <a:avLst/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914400" y="2286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914400" y="6858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2971800"/>
            <a:ext cx="0" cy="1676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53080" y="4648320"/>
            <a:ext cx="16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553080" y="3352680"/>
            <a:ext cx="1648080" cy="1175040"/>
          </a:xfrm>
          <a:custGeom>
            <a:avLst/>
            <a:gdLst/>
            <a:ahLst/>
            <a:rect l="l" t="t" r="r" b="b"/>
            <a:pathLst>
              <a:path w="1432" h="1075">
                <a:moveTo>
                  <a:pt x="0" y="1072"/>
                </a:moveTo>
                <a:cubicBezTo>
                  <a:pt x="40" y="1069"/>
                  <a:pt x="161" y="1075"/>
                  <a:pt x="232" y="1056"/>
                </a:cubicBezTo>
                <a:cubicBezTo>
                  <a:pt x="303" y="1037"/>
                  <a:pt x="368" y="1016"/>
                  <a:pt x="424" y="960"/>
                </a:cubicBezTo>
                <a:cubicBezTo>
                  <a:pt x="480" y="904"/>
                  <a:pt x="512" y="840"/>
                  <a:pt x="568" y="720"/>
                </a:cubicBezTo>
                <a:cubicBezTo>
                  <a:pt x="624" y="600"/>
                  <a:pt x="696" y="352"/>
                  <a:pt x="760" y="240"/>
                </a:cubicBezTo>
                <a:cubicBezTo>
                  <a:pt x="824" y="128"/>
                  <a:pt x="840" y="88"/>
                  <a:pt x="952" y="48"/>
                </a:cubicBezTo>
                <a:cubicBezTo>
                  <a:pt x="1064" y="8"/>
                  <a:pt x="1248" y="4"/>
                  <a:pt x="1432" y="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637760" y="4579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173640" y="2971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rot="5400000">
            <a:off x="6467400" y="3286080"/>
            <a:ext cx="1666800" cy="1038240"/>
          </a:xfrm>
          <a:custGeom>
            <a:avLst/>
            <a:gdLst/>
            <a:ahLst/>
            <a:rect l="l" t="t" r="r" b="b"/>
            <a:pathLst>
              <a:path w="1050" h="654">
                <a:moveTo>
                  <a:pt x="0" y="654"/>
                </a:moveTo>
                <a:cubicBezTo>
                  <a:pt x="31" y="649"/>
                  <a:pt x="132" y="637"/>
                  <a:pt x="186" y="624"/>
                </a:cubicBezTo>
                <a:cubicBezTo>
                  <a:pt x="240" y="611"/>
                  <a:pt x="278" y="612"/>
                  <a:pt x="322" y="576"/>
                </a:cubicBezTo>
                <a:cubicBezTo>
                  <a:pt x="366" y="540"/>
                  <a:pt x="406" y="475"/>
                  <a:pt x="450" y="408"/>
                </a:cubicBezTo>
                <a:cubicBezTo>
                  <a:pt x="494" y="341"/>
                  <a:pt x="526" y="239"/>
                  <a:pt x="586" y="176"/>
                </a:cubicBezTo>
                <a:cubicBezTo>
                  <a:pt x="646" y="113"/>
                  <a:pt x="733" y="61"/>
                  <a:pt x="810" y="32"/>
                </a:cubicBezTo>
                <a:cubicBezTo>
                  <a:pt x="887" y="3"/>
                  <a:pt x="1000" y="7"/>
                  <a:pt x="105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657600" y="2971800"/>
            <a:ext cx="0" cy="1676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657600" y="4648320"/>
            <a:ext cx="16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048120"/>
            <a:ext cx="1647720" cy="1174680"/>
          </a:xfrm>
          <a:custGeom>
            <a:avLst/>
            <a:gdLst/>
            <a:ahLst/>
            <a:rect l="l" t="t" r="r" b="b"/>
            <a:pathLst>
              <a:path w="1432" h="1075">
                <a:moveTo>
                  <a:pt x="0" y="1072"/>
                </a:moveTo>
                <a:cubicBezTo>
                  <a:pt x="40" y="1069"/>
                  <a:pt x="161" y="1075"/>
                  <a:pt x="232" y="1056"/>
                </a:cubicBezTo>
                <a:cubicBezTo>
                  <a:pt x="303" y="1037"/>
                  <a:pt x="368" y="1016"/>
                  <a:pt x="424" y="960"/>
                </a:cubicBezTo>
                <a:cubicBezTo>
                  <a:pt x="480" y="904"/>
                  <a:pt x="512" y="840"/>
                  <a:pt x="568" y="720"/>
                </a:cubicBezTo>
                <a:cubicBezTo>
                  <a:pt x="624" y="600"/>
                  <a:pt x="696" y="352"/>
                  <a:pt x="760" y="240"/>
                </a:cubicBezTo>
                <a:cubicBezTo>
                  <a:pt x="824" y="128"/>
                  <a:pt x="840" y="88"/>
                  <a:pt x="952" y="48"/>
                </a:cubicBezTo>
                <a:cubicBezTo>
                  <a:pt x="1064" y="8"/>
                  <a:pt x="1248" y="4"/>
                  <a:pt x="1432" y="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42280" y="4579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278160" y="2971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 rot="5400000">
            <a:off x="3876840" y="3286080"/>
            <a:ext cx="1666800" cy="1038240"/>
          </a:xfrm>
          <a:custGeom>
            <a:avLst/>
            <a:gdLst/>
            <a:ahLst/>
            <a:rect l="l" t="t" r="r" b="b"/>
            <a:pathLst>
              <a:path w="1050" h="654">
                <a:moveTo>
                  <a:pt x="0" y="654"/>
                </a:moveTo>
                <a:cubicBezTo>
                  <a:pt x="31" y="649"/>
                  <a:pt x="132" y="637"/>
                  <a:pt x="186" y="624"/>
                </a:cubicBezTo>
                <a:cubicBezTo>
                  <a:pt x="240" y="611"/>
                  <a:pt x="278" y="612"/>
                  <a:pt x="322" y="576"/>
                </a:cubicBezTo>
                <a:cubicBezTo>
                  <a:pt x="366" y="540"/>
                  <a:pt x="406" y="475"/>
                  <a:pt x="450" y="408"/>
                </a:cubicBezTo>
                <a:cubicBezTo>
                  <a:pt x="494" y="341"/>
                  <a:pt x="526" y="239"/>
                  <a:pt x="586" y="176"/>
                </a:cubicBezTo>
                <a:cubicBezTo>
                  <a:pt x="646" y="113"/>
                  <a:pt x="733" y="61"/>
                  <a:pt x="810" y="32"/>
                </a:cubicBezTo>
                <a:cubicBezTo>
                  <a:pt x="887" y="3"/>
                  <a:pt x="1000" y="7"/>
                  <a:pt x="105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97120" y="1843200"/>
            <a:ext cx="136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732480" y="1905120"/>
            <a:ext cx="136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hi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1981080" y="350496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1828440" y="35053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828800" y="35053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1599840" y="37339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60020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1066680" y="426708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066680" y="4267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391520" y="37339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543800" y="350496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543800" y="35053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7696080" y="33526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7086240" y="39625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08660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6857640" y="43434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0" y="43434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267080" y="39625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4495680" y="33526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495680" y="33526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5181480" y="3048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718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Bistability and thresholding</a:t>
            </a:r>
            <a:br>
              <a:rPr sz="4400"/>
            </a:b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6977160" cy="2644560"/>
          </a:xfrm>
          <a:prstGeom prst="rect">
            <a:avLst/>
          </a:prstGeom>
          <a:ln w="0">
            <a:noFill/>
          </a:ln>
        </p:spPr>
      </p:pic>
      <p:grpSp>
        <p:nvGrpSpPr>
          <p:cNvPr id="880" name=""/>
          <p:cNvGrpSpPr/>
          <p:nvPr/>
        </p:nvGrpSpPr>
        <p:grpSpPr>
          <a:xfrm>
            <a:off x="679320" y="880920"/>
            <a:ext cx="2982960" cy="2206080"/>
            <a:chOff x="679320" y="880920"/>
            <a:chExt cx="2982960" cy="2206080"/>
          </a:xfrm>
        </p:grpSpPr>
        <p:grpSp>
          <p:nvGrpSpPr>
            <p:cNvPr id="881" name=""/>
            <p:cNvGrpSpPr/>
            <p:nvPr/>
          </p:nvGrpSpPr>
          <p:grpSpPr>
            <a:xfrm>
              <a:off x="876240" y="906480"/>
              <a:ext cx="2786040" cy="2180520"/>
              <a:chOff x="876240" y="906480"/>
              <a:chExt cx="2786040" cy="2180520"/>
            </a:xfrm>
          </p:grpSpPr>
          <p:sp>
            <p:nvSpPr>
              <p:cNvPr id="882" name=""/>
              <p:cNvSpPr/>
              <p:nvPr/>
            </p:nvSpPr>
            <p:spPr>
              <a:xfrm rot="16440000">
                <a:off x="3081240" y="1981080"/>
                <a:ext cx="2570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3209760" y="1942920"/>
                <a:ext cx="1116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003760" y="1116000"/>
                <a:ext cx="713520" cy="197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152360" y="1030320"/>
                <a:ext cx="2060640" cy="1816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7860000">
                <a:off x="1420200" y="1133280"/>
                <a:ext cx="260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1465200" y="1181160"/>
                <a:ext cx="114480" cy="114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3380000">
                <a:off x="2749680" y="1199520"/>
                <a:ext cx="2584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 flipV="1">
                <a:off x="2784600" y="1198080"/>
                <a:ext cx="126720" cy="103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620000">
                <a:off x="1588680" y="2662200"/>
                <a:ext cx="2588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681200" y="2720880"/>
                <a:ext cx="152280" cy="69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4740000">
                <a:off x="1053000" y="2037240"/>
                <a:ext cx="2588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174680" y="2076480"/>
                <a:ext cx="33480" cy="1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94" name=""/>
              <p:cNvGrpSpPr/>
              <p:nvPr/>
            </p:nvGrpSpPr>
            <p:grpSpPr>
              <a:xfrm>
                <a:off x="1628640" y="906480"/>
                <a:ext cx="935280" cy="305640"/>
                <a:chOff x="1628640" y="906480"/>
                <a:chExt cx="935280" cy="30564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1628640" y="923760"/>
                  <a:ext cx="935280" cy="279720"/>
                </a:xfrm>
                <a:prstGeom prst="roundRect">
                  <a:avLst>
                    <a:gd name="adj" fmla="val 24426"/>
                  </a:avLst>
                </a:prstGeom>
                <a:gradFill rotWithShape="0">
                  <a:gsLst>
                    <a:gs pos="0">
                      <a:srgbClr val="f95ab7"/>
                    </a:gs>
                    <a:gs pos="50000">
                      <a:srgbClr val="fefefe"/>
                    </a:gs>
                    <a:gs pos="100000">
                      <a:srgbClr val="f95a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809360" y="906480"/>
                  <a:ext cx="531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K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1028880" y="1733400"/>
                <a:ext cx="525240" cy="370080"/>
                <a:chOff x="1028880" y="1733400"/>
                <a:chExt cx="525240" cy="37008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1028880" y="1733400"/>
                  <a:ext cx="52524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95ab7"/>
                    </a:gs>
                    <a:gs pos="50000">
                      <a:srgbClr val="fefefe"/>
                    </a:gs>
                    <a:gs pos="100000">
                      <a:srgbClr val="f95a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050840" y="1765440"/>
                  <a:ext cx="4762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A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2722680" y="1333440"/>
                <a:ext cx="939600" cy="305640"/>
                <a:chOff x="2722680" y="1333440"/>
                <a:chExt cx="939600" cy="30564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2722680" y="1351080"/>
                  <a:ext cx="939600" cy="279360"/>
                </a:xfrm>
                <a:prstGeom prst="roundRect">
                  <a:avLst>
                    <a:gd name="adj" fmla="val 24426"/>
                  </a:avLst>
                </a:prstGeom>
                <a:gradFill rotWithShape="0">
                  <a:gsLst>
                    <a:gs pos="0">
                      <a:srgbClr val="f95ab7"/>
                    </a:gs>
                    <a:gs pos="50000">
                      <a:srgbClr val="fefefe"/>
                    </a:gs>
                    <a:gs pos="100000">
                      <a:srgbClr val="f95a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948400" y="1333440"/>
                  <a:ext cx="4532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a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2489040" y="2128680"/>
                <a:ext cx="939960" cy="827280"/>
                <a:chOff x="2489040" y="2128680"/>
                <a:chExt cx="939960" cy="82728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2489040" y="2128680"/>
                  <a:ext cx="939960" cy="827280"/>
                </a:xfrm>
                <a:prstGeom prst="roundRect">
                  <a:avLst>
                    <a:gd name="adj" fmla="val 24755"/>
                  </a:avLst>
                </a:prstGeom>
                <a:gradFill rotWithShape="0">
                  <a:gsLst>
                    <a:gs pos="0">
                      <a:srgbClr val="f95ab7"/>
                    </a:gs>
                    <a:gs pos="50000">
                      <a:srgbClr val="fefefe"/>
                    </a:gs>
                    <a:gs pos="100000">
                      <a:srgbClr val="f95a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2581200" y="2263680"/>
                  <a:ext cx="6987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APK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2556720" y="2471760"/>
                  <a:ext cx="7412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asca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876240" y="2400480"/>
                <a:ext cx="982800" cy="334800"/>
                <a:chOff x="876240" y="2400480"/>
                <a:chExt cx="982800" cy="33480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876240" y="2417760"/>
                  <a:ext cx="982800" cy="279360"/>
                </a:xfrm>
                <a:prstGeom prst="roundRect">
                  <a:avLst>
                    <a:gd name="adj" fmla="val 24426"/>
                  </a:avLst>
                </a:prstGeom>
                <a:gradFill rotWithShape="0">
                  <a:gsLst>
                    <a:gs pos="0">
                      <a:srgbClr val="f95ab7"/>
                    </a:gs>
                    <a:gs pos="50000">
                      <a:srgbClr val="fefefe"/>
                    </a:gs>
                    <a:gs pos="100000">
                      <a:srgbClr val="f95a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1026720" y="2400480"/>
                  <a:ext cx="57204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LA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0" name=""/>
            <p:cNvGrpSpPr/>
            <p:nvPr/>
          </p:nvGrpSpPr>
          <p:grpSpPr>
            <a:xfrm>
              <a:off x="679320" y="880920"/>
              <a:ext cx="919440" cy="1481400"/>
              <a:chOff x="679320" y="880920"/>
              <a:chExt cx="919440" cy="1481400"/>
            </a:xfrm>
          </p:grpSpPr>
          <p:sp>
            <p:nvSpPr>
              <p:cNvPr id="911" name=""/>
              <p:cNvSpPr/>
              <p:nvPr/>
            </p:nvSpPr>
            <p:spPr>
              <a:xfrm>
                <a:off x="1252440" y="1066680"/>
                <a:ext cx="346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2" name=""/>
              <p:cNvGrpSpPr/>
              <p:nvPr/>
            </p:nvGrpSpPr>
            <p:grpSpPr>
              <a:xfrm>
                <a:off x="679320" y="880920"/>
                <a:ext cx="595440" cy="371520"/>
                <a:chOff x="679320" y="880920"/>
                <a:chExt cx="595440" cy="3715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679320" y="880920"/>
                  <a:ext cx="595440" cy="37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9b03"/>
                    </a:gs>
                    <a:gs pos="50000">
                      <a:srgbClr val="fefefe"/>
                    </a:gs>
                    <a:gs pos="100000">
                      <a:srgbClr val="fe9b0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98400" y="952560"/>
                  <a:ext cx="4305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5" name=""/>
              <p:cNvSpPr/>
              <p:nvPr/>
            </p:nvSpPr>
            <p:spPr>
              <a:xfrm>
                <a:off x="952560" y="1295280"/>
                <a:ext cx="0" cy="1067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6" name=""/>
          <p:cNvGrpSpPr/>
          <p:nvPr/>
        </p:nvGrpSpPr>
        <p:grpSpPr>
          <a:xfrm>
            <a:off x="4876920" y="838080"/>
            <a:ext cx="3779640" cy="2428920"/>
            <a:chOff x="4876920" y="838080"/>
            <a:chExt cx="3779640" cy="2428920"/>
          </a:xfrm>
        </p:grpSpPr>
        <p:pic>
          <p:nvPicPr>
            <p:cNvPr id="917" name="" descr=""/>
            <p:cNvPicPr/>
            <p:nvPr/>
          </p:nvPicPr>
          <p:blipFill>
            <a:blip r:embed="rId2"/>
            <a:stretch/>
          </p:blipFill>
          <p:spPr>
            <a:xfrm>
              <a:off x="4876920" y="838080"/>
              <a:ext cx="3779640" cy="24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4947840" y="920520"/>
              <a:ext cx="2919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1143000" y="3809880"/>
            <a:ext cx="304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Bistability and Hysteresi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066680" y="2514600"/>
            <a:ext cx="4051440" cy="2986200"/>
            <a:chOff x="1066680" y="2514600"/>
            <a:chExt cx="4051440" cy="2986200"/>
          </a:xfrm>
        </p:grpSpPr>
        <p:pic>
          <p:nvPicPr>
            <p:cNvPr id="922" name="" descr=""/>
            <p:cNvPicPr/>
            <p:nvPr/>
          </p:nvPicPr>
          <p:blipFill>
            <a:blip r:embed="rId1"/>
            <a:stretch/>
          </p:blipFill>
          <p:spPr>
            <a:xfrm>
              <a:off x="1066680" y="2514600"/>
              <a:ext cx="4051440" cy="29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"/>
            <p:cNvSpPr/>
            <p:nvPr/>
          </p:nvSpPr>
          <p:spPr>
            <a:xfrm>
              <a:off x="2689200" y="2944800"/>
              <a:ext cx="609480" cy="1526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70120" y="3706920"/>
              <a:ext cx="0" cy="4572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3298680" y="4392720"/>
              <a:ext cx="609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960280" y="340164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6629400" y="3429000"/>
            <a:ext cx="1965240" cy="212400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6747840" y="2590920"/>
            <a:ext cx="162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mu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yster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+ve FB: Nested Bistabilit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get &gt; 2 stable stat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838080" y="3505320"/>
            <a:ext cx="838440" cy="6094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362320" y="3505320"/>
            <a:ext cx="838080" cy="609480"/>
          </a:xfrm>
          <a:prstGeom prst="ellipse">
            <a:avLst/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600200" y="358128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1600200" y="403848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40480" y="29718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artment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838080" y="5181480"/>
            <a:ext cx="838440" cy="6098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362320" y="5181480"/>
            <a:ext cx="838080" cy="609840"/>
          </a:xfrm>
          <a:prstGeom prst="ellipse">
            <a:avLst/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600200" y="52578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600200" y="57150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140480" y="464832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artment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971800" y="4191120"/>
            <a:ext cx="0" cy="8380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1560" y="4419720"/>
            <a:ext cx="17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ak coup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248520" y="2971800"/>
            <a:ext cx="0" cy="3124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391520" y="2971800"/>
            <a:ext cx="0" cy="3124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486400" y="3581280"/>
            <a:ext cx="342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486400" y="4114800"/>
            <a:ext cx="342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486400" y="4648320"/>
            <a:ext cx="342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486400" y="5181480"/>
            <a:ext cx="342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409720" y="304812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p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400440" y="304812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p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389000" y="30481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 nea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470920" y="359568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385320" y="359568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470920" y="412920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386040" y="41292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471640" y="46623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385320" y="466236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471640" y="51958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386040" y="51958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451280" y="359568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y 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452720" y="41292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467840" y="46483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390080" y="51814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y hi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+ve FB: Nested bistabilit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65" name=""/>
          <p:cNvSpPr/>
          <p:nvPr/>
        </p:nvSpPr>
        <p:spPr>
          <a:xfrm>
            <a:off x="152280" y="4191120"/>
            <a:ext cx="762120" cy="76176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29320" y="37339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g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914400" y="45720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1143000" y="2971440"/>
            <a:ext cx="228600" cy="1600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143000" y="4572000"/>
            <a:ext cx="228600" cy="1600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3716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371600" y="6172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18400" y="27576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18760" y="5958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600200" y="6019920"/>
            <a:ext cx="762120" cy="38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828800" y="6095880"/>
            <a:ext cx="228600" cy="152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40840" y="441972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Many step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57200" y="4419720"/>
            <a:ext cx="228600" cy="3045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600200" y="2590920"/>
            <a:ext cx="762120" cy="7617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05120" y="2819520"/>
            <a:ext cx="228600" cy="3045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276720" y="1599840"/>
            <a:ext cx="457200" cy="1143000"/>
            <a:chOff x="3276720" y="1599840"/>
            <a:chExt cx="457200" cy="1143000"/>
          </a:xfrm>
        </p:grpSpPr>
        <p:sp>
          <p:nvSpPr>
            <p:cNvPr id="981" name=""/>
            <p:cNvSpPr/>
            <p:nvPr/>
          </p:nvSpPr>
          <p:spPr>
            <a:xfrm rot="16200000">
              <a:off x="3276720" y="2285640"/>
              <a:ext cx="457200" cy="4572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16200000">
              <a:off x="3111480" y="1917360"/>
              <a:ext cx="762120" cy="1270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3276720" y="3581280"/>
            <a:ext cx="457200" cy="457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743200" y="3733920"/>
            <a:ext cx="1523880" cy="1522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2438280" y="2437920"/>
            <a:ext cx="60984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438280" y="3124080"/>
            <a:ext cx="60984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740680" y="274320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lf-assembly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i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4781160" y="2305800"/>
            <a:ext cx="1481040" cy="1805760"/>
            <a:chOff x="4781160" y="2305800"/>
            <a:chExt cx="1481040" cy="1805760"/>
          </a:xfrm>
        </p:grpSpPr>
        <p:sp>
          <p:nvSpPr>
            <p:cNvPr id="989" name=""/>
            <p:cNvSpPr/>
            <p:nvPr/>
          </p:nvSpPr>
          <p:spPr>
            <a:xfrm>
              <a:off x="5397480" y="3836880"/>
              <a:ext cx="242280" cy="274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77760" y="3243240"/>
              <a:ext cx="81720" cy="593640"/>
            </a:xfrm>
            <a:custGeom>
              <a:avLst/>
              <a:gdLst>
                <a:gd name="textAreaLeft" fmla="*/ 2880 w 81720"/>
                <a:gd name="textAreaRight" fmla="*/ 78840 w 81720"/>
                <a:gd name="textAreaTop" fmla="*/ 2880 h 593640"/>
                <a:gd name="textAreaBottom" fmla="*/ 590760 h 593640"/>
              </a:gdLst>
              <a:ahLst/>
              <a:rect l="textAreaLeft" t="textAreaTop" r="textAreaRight" b="textAreaBottom"/>
              <a:pathLst>
                <a:path w="21600" h="156316">
                  <a:moveTo>
                    <a:pt x="2693" y="0"/>
                  </a:moveTo>
                  <a:arcTo wR="2693" hR="2693" stAng="16200000" swAng="-5400000"/>
                  <a:lnTo>
                    <a:pt x="0" y="153623"/>
                  </a:lnTo>
                  <a:arcTo wR="2693" hR="2693" stAng="10800000" swAng="-5400000"/>
                  <a:lnTo>
                    <a:pt x="18907" y="156316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5478480" y="2305800"/>
              <a:ext cx="783720" cy="967320"/>
              <a:chOff x="5478480" y="2305800"/>
              <a:chExt cx="783720" cy="967320"/>
            </a:xfrm>
          </p:grpSpPr>
          <p:grpSp>
            <p:nvGrpSpPr>
              <p:cNvPr id="992" name=""/>
              <p:cNvGrpSpPr/>
              <p:nvPr/>
            </p:nvGrpSpPr>
            <p:grpSpPr>
              <a:xfrm>
                <a:off x="5478480" y="2732040"/>
                <a:ext cx="427320" cy="541080"/>
                <a:chOff x="5478480" y="2732040"/>
                <a:chExt cx="427320" cy="541080"/>
              </a:xfrm>
            </p:grpSpPr>
            <p:sp>
              <p:nvSpPr>
                <p:cNvPr id="993" name=""/>
                <p:cNvSpPr/>
                <p:nvPr/>
              </p:nvSpPr>
              <p:spPr>
                <a:xfrm rot="2160000">
                  <a:off x="5671440" y="2682360"/>
                  <a:ext cx="39600" cy="640080"/>
                </a:xfrm>
                <a:custGeom>
                  <a:avLst/>
                  <a:gdLst>
                    <a:gd name="textAreaLeft" fmla="*/ 1440 w 39600"/>
                    <a:gd name="textAreaRight" fmla="*/ 38160 w 39600"/>
                    <a:gd name="textAreaTop" fmla="*/ 1440 h 640080"/>
                    <a:gd name="textAreaBottom" fmla="*/ 638640 h 640080"/>
                  </a:gdLst>
                  <a:ahLst/>
                  <a:rect l="textAreaLeft" t="textAreaTop" r="textAreaRight" b="textAreaBottom"/>
                  <a:pathLst>
                    <a:path w="21600" h="346184">
                      <a:moveTo>
                        <a:pt x="2693" y="0"/>
                      </a:moveTo>
                      <a:arcTo wR="2693" hR="2693" stAng="16200000" swAng="-5400000"/>
                      <a:lnTo>
                        <a:pt x="0" y="343491"/>
                      </a:lnTo>
                      <a:arcTo wR="2693" hR="2693" stAng="10800000" swAng="-5400000"/>
                      <a:lnTo>
                        <a:pt x="18907" y="346184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779080" y="2905200"/>
                  <a:ext cx="65880" cy="522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rot="2160000">
                  <a:off x="5841000" y="2927520"/>
                  <a:ext cx="42120" cy="903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708520" y="3016440"/>
                  <a:ext cx="64800" cy="536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2160000">
                  <a:off x="5769000" y="3036960"/>
                  <a:ext cx="42120" cy="936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636520" y="3127320"/>
                  <a:ext cx="65880" cy="54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2160000">
                  <a:off x="5698080" y="3149640"/>
                  <a:ext cx="40680" cy="903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 flipV="1">
                  <a:off x="5677200" y="2819160"/>
                  <a:ext cx="65880" cy="522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H="1" flipV="1">
                  <a:off x="5605200" y="2935440"/>
                  <a:ext cx="65880" cy="54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H="1" flipV="1">
                  <a:off x="5533560" y="3046320"/>
                  <a:ext cx="66240" cy="54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2160000">
                  <a:off x="5501160" y="2987640"/>
                  <a:ext cx="40680" cy="92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rot="2160000">
                  <a:off x="5650200" y="2768760"/>
                  <a:ext cx="40680" cy="903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rot="2160000">
                  <a:off x="5574240" y="2876400"/>
                  <a:ext cx="40680" cy="92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5850360" y="2553120"/>
                <a:ext cx="268920" cy="249120"/>
                <a:chOff x="5850360" y="2553120"/>
                <a:chExt cx="268920" cy="249120"/>
              </a:xfrm>
            </p:grpSpPr>
            <p:sp>
              <p:nvSpPr>
                <p:cNvPr id="1007" name=""/>
                <p:cNvSpPr/>
                <p:nvPr/>
              </p:nvSpPr>
              <p:spPr>
                <a:xfrm rot="3360000">
                  <a:off x="5969520" y="2527560"/>
                  <a:ext cx="30240" cy="295920"/>
                </a:xfrm>
                <a:custGeom>
                  <a:avLst/>
                  <a:gdLst>
                    <a:gd name="textAreaLeft" fmla="*/ 1080 w 30240"/>
                    <a:gd name="textAreaRight" fmla="*/ 29160 w 30240"/>
                    <a:gd name="textAreaTop" fmla="*/ 1080 h 295920"/>
                    <a:gd name="textAreaBottom" fmla="*/ 294840 h 295920"/>
                  </a:gdLst>
                  <a:ahLst/>
                  <a:rect l="textAreaLeft" t="textAreaTop" r="textAreaRight" b="textAreaBottom"/>
                  <a:pathLst>
                    <a:path w="21600" h="209139">
                      <a:moveTo>
                        <a:pt x="2693" y="0"/>
                      </a:moveTo>
                      <a:arcTo wR="2693" hR="2693" stAng="16200000" swAng="-5400000"/>
                      <a:lnTo>
                        <a:pt x="0" y="206446"/>
                      </a:lnTo>
                      <a:arcTo wR="2693" hR="2693" stAng="10800000" swAng="-5400000"/>
                      <a:lnTo>
                        <a:pt x="18907" y="209139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053760" y="2651040"/>
                  <a:ext cx="3096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3360000">
                  <a:off x="6077880" y="2683440"/>
                  <a:ext cx="30240" cy="421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991840" y="2685960"/>
                  <a:ext cx="3096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rot="3360000">
                  <a:off x="6017040" y="2718720"/>
                  <a:ext cx="29880" cy="4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929920" y="2722680"/>
                  <a:ext cx="3240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rot="3360000">
                  <a:off x="5954400" y="2755800"/>
                  <a:ext cx="30240" cy="4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H="1" flipV="1">
                  <a:off x="6006240" y="2580840"/>
                  <a:ext cx="3096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H="1" flipV="1">
                  <a:off x="5939640" y="2623680"/>
                  <a:ext cx="32400" cy="414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 flipV="1">
                  <a:off x="5883480" y="2652480"/>
                  <a:ext cx="3096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rot="3360000">
                  <a:off x="5860800" y="2628000"/>
                  <a:ext cx="30240" cy="421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rot="3360000">
                  <a:off x="5986080" y="2556360"/>
                  <a:ext cx="30240" cy="421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rot="3360000">
                  <a:off x="5922000" y="2590560"/>
                  <a:ext cx="30240" cy="4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5645160" y="2488320"/>
                <a:ext cx="271800" cy="284400"/>
                <a:chOff x="5645160" y="2488320"/>
                <a:chExt cx="271800" cy="284400"/>
              </a:xfrm>
            </p:grpSpPr>
            <p:sp>
              <p:nvSpPr>
                <p:cNvPr id="1021" name=""/>
                <p:cNvSpPr/>
                <p:nvPr/>
              </p:nvSpPr>
              <p:spPr>
                <a:xfrm rot="19440000">
                  <a:off x="5769000" y="2463840"/>
                  <a:ext cx="25200" cy="333360"/>
                </a:xfrm>
                <a:custGeom>
                  <a:avLst/>
                  <a:gdLst>
                    <a:gd name="textAreaLeft" fmla="*/ 720 w 25200"/>
                    <a:gd name="textAreaRight" fmla="*/ 24480 w 25200"/>
                    <a:gd name="textAreaTop" fmla="*/ 720 h 333360"/>
                    <a:gd name="textAreaBottom" fmla="*/ 332640 h 333360"/>
                  </a:gdLst>
                  <a:ahLst/>
                  <a:rect l="textAreaLeft" t="textAreaTop" r="textAreaRight" b="textAreaBottom"/>
                  <a:pathLst>
                    <a:path w="21600" h="282017">
                      <a:moveTo>
                        <a:pt x="2693" y="0"/>
                      </a:moveTo>
                      <a:arcTo wR="2693" hR="2693" stAng="16200000" swAng="-5400000"/>
                      <a:lnTo>
                        <a:pt x="0" y="279324"/>
                      </a:lnTo>
                      <a:arcTo wR="2693" hR="2693" stAng="10800000" swAng="-5400000"/>
                      <a:lnTo>
                        <a:pt x="18907" y="282017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H="1">
                  <a:off x="5681520" y="2581200"/>
                  <a:ext cx="42480" cy="27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rot="19440000">
                  <a:off x="5656320" y="2590920"/>
                  <a:ext cx="28080" cy="475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H="1">
                  <a:off x="5727600" y="2638440"/>
                  <a:ext cx="42120" cy="284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rot="19440000">
                  <a:off x="5703840" y="2649240"/>
                  <a:ext cx="26640" cy="475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H="1">
                  <a:off x="5774400" y="2695680"/>
                  <a:ext cx="42480" cy="284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rot="19440000">
                  <a:off x="5750280" y="2706480"/>
                  <a:ext cx="26640" cy="475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flipV="1">
                  <a:off x="5745240" y="2538360"/>
                  <a:ext cx="42120" cy="288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V="1">
                  <a:off x="5791320" y="2595240"/>
                  <a:ext cx="42480" cy="284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flipV="1">
                  <a:off x="5835240" y="2649240"/>
                  <a:ext cx="40680" cy="27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rot="19440000">
                  <a:off x="5879160" y="2623680"/>
                  <a:ext cx="26280" cy="4788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rot="19440000">
                  <a:off x="5781600" y="2507760"/>
                  <a:ext cx="26640" cy="4788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rot="19440000">
                  <a:off x="5830920" y="2563920"/>
                  <a:ext cx="26640" cy="48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6079680" y="2352240"/>
                <a:ext cx="182520" cy="239400"/>
                <a:chOff x="6079680" y="2352240"/>
                <a:chExt cx="182520" cy="239400"/>
              </a:xfrm>
            </p:grpSpPr>
            <p:sp>
              <p:nvSpPr>
                <p:cNvPr id="1035" name=""/>
                <p:cNvSpPr/>
                <p:nvPr/>
              </p:nvSpPr>
              <p:spPr>
                <a:xfrm rot="2160000">
                  <a:off x="6159240" y="2332080"/>
                  <a:ext cx="22680" cy="279360"/>
                </a:xfrm>
                <a:custGeom>
                  <a:avLst/>
                  <a:gdLst>
                    <a:gd name="textAreaLeft" fmla="*/ 720 w 22680"/>
                    <a:gd name="textAreaRight" fmla="*/ 21960 w 22680"/>
                    <a:gd name="textAreaTop" fmla="*/ 720 h 279360"/>
                    <a:gd name="textAreaBottom" fmla="*/ 278640 h 279360"/>
                  </a:gdLst>
                  <a:ahLst/>
                  <a:rect l="textAreaLeft" t="textAreaTop" r="textAreaRight" b="textAreaBottom"/>
                  <a:pathLst>
                    <a:path w="21600" h="262238">
                      <a:moveTo>
                        <a:pt x="2693" y="0"/>
                      </a:moveTo>
                      <a:arcTo wR="2693" hR="2693" stAng="16200000" swAng="-5400000"/>
                      <a:lnTo>
                        <a:pt x="0" y="259545"/>
                      </a:lnTo>
                      <a:arcTo wR="2693" hR="2693" stAng="10800000" swAng="-5400000"/>
                      <a:lnTo>
                        <a:pt x="18907" y="262238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6200640" y="242748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rot="2160000">
                  <a:off x="6221520" y="243792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6173640" y="247824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rot="2160000">
                  <a:off x="6195960" y="2486160"/>
                  <a:ext cx="2232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6147360" y="2525760"/>
                  <a:ext cx="2340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rot="2160000">
                  <a:off x="6170400" y="253476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H="1" flipV="1">
                  <a:off x="6159600" y="238932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flipH="1" flipV="1">
                  <a:off x="6134400" y="2442960"/>
                  <a:ext cx="23760" cy="21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H="1" flipV="1">
                  <a:off x="6113520" y="248436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rot="2160000">
                  <a:off x="6099120" y="246492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rot="2160000">
                  <a:off x="6152400" y="236808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rot="2160000">
                  <a:off x="6125400" y="241632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5958720" y="2351880"/>
                <a:ext cx="182520" cy="239400"/>
                <a:chOff x="5958720" y="2351880"/>
                <a:chExt cx="182520" cy="239400"/>
              </a:xfrm>
            </p:grpSpPr>
            <p:sp>
              <p:nvSpPr>
                <p:cNvPr id="1049" name=""/>
                <p:cNvSpPr/>
                <p:nvPr/>
              </p:nvSpPr>
              <p:spPr>
                <a:xfrm rot="19440000">
                  <a:off x="6038640" y="2331720"/>
                  <a:ext cx="22680" cy="279360"/>
                </a:xfrm>
                <a:custGeom>
                  <a:avLst/>
                  <a:gdLst>
                    <a:gd name="textAreaLeft" fmla="*/ 720 w 22680"/>
                    <a:gd name="textAreaRight" fmla="*/ 21960 w 22680"/>
                    <a:gd name="textAreaTop" fmla="*/ 720 h 279360"/>
                    <a:gd name="textAreaBottom" fmla="*/ 278640 h 279360"/>
                  </a:gdLst>
                  <a:ahLst/>
                  <a:rect l="textAreaLeft" t="textAreaTop" r="textAreaRight" b="textAreaBottom"/>
                  <a:pathLst>
                    <a:path w="21600" h="262238">
                      <a:moveTo>
                        <a:pt x="2693" y="0"/>
                      </a:moveTo>
                      <a:arcTo wR="2693" hR="2693" stAng="16200000" swAng="-5400000"/>
                      <a:lnTo>
                        <a:pt x="0" y="259545"/>
                      </a:lnTo>
                      <a:arcTo wR="2693" hR="2693" stAng="10800000" swAng="-5400000"/>
                      <a:lnTo>
                        <a:pt x="18907" y="262238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H="1">
                  <a:off x="5989320" y="242748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rot="19440000">
                  <a:off x="5976720" y="243828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H="1">
                  <a:off x="6015600" y="247824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rot="19440000">
                  <a:off x="6001560" y="248580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H="1">
                  <a:off x="6041520" y="252576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 rot="19440000">
                  <a:off x="6027480" y="253512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6020280" y="238932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V="1">
                  <a:off x="6045480" y="2442960"/>
                  <a:ext cx="23760" cy="21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V="1">
                  <a:off x="6076440" y="248436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rot="19440000">
                  <a:off x="6099120" y="246528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rot="19440000">
                  <a:off x="6044400" y="236844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 rot="19440000">
                  <a:off x="6072120" y="2415960"/>
                  <a:ext cx="2232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5714640" y="2306160"/>
                <a:ext cx="182520" cy="239400"/>
                <a:chOff x="5714640" y="2306160"/>
                <a:chExt cx="182520" cy="239400"/>
              </a:xfrm>
            </p:grpSpPr>
            <p:sp>
              <p:nvSpPr>
                <p:cNvPr id="1063" name=""/>
                <p:cNvSpPr/>
                <p:nvPr/>
              </p:nvSpPr>
              <p:spPr>
                <a:xfrm rot="2160000">
                  <a:off x="5794200" y="2286000"/>
                  <a:ext cx="22680" cy="279360"/>
                </a:xfrm>
                <a:custGeom>
                  <a:avLst/>
                  <a:gdLst>
                    <a:gd name="textAreaLeft" fmla="*/ 720 w 22680"/>
                    <a:gd name="textAreaRight" fmla="*/ 21960 w 22680"/>
                    <a:gd name="textAreaTop" fmla="*/ 720 h 279360"/>
                    <a:gd name="textAreaBottom" fmla="*/ 278640 h 279360"/>
                  </a:gdLst>
                  <a:ahLst/>
                  <a:rect l="textAreaLeft" t="textAreaTop" r="textAreaRight" b="textAreaBottom"/>
                  <a:pathLst>
                    <a:path w="21600" h="262238">
                      <a:moveTo>
                        <a:pt x="2693" y="0"/>
                      </a:moveTo>
                      <a:arcTo wR="2693" hR="2693" stAng="16200000" swAng="-5400000"/>
                      <a:lnTo>
                        <a:pt x="0" y="259545"/>
                      </a:lnTo>
                      <a:arcTo wR="2693" hR="2693" stAng="10800000" swAng="-5400000"/>
                      <a:lnTo>
                        <a:pt x="18907" y="262238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5834160" y="238140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rot="2160000">
                  <a:off x="5856480" y="239184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5808600" y="243216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rot="2160000">
                  <a:off x="5829480" y="244008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781960" y="2481120"/>
                  <a:ext cx="23760" cy="241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rot="2160000">
                  <a:off x="5804280" y="248868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H="1" flipV="1">
                  <a:off x="5798520" y="234324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H="1" flipV="1">
                  <a:off x="5773680" y="2396880"/>
                  <a:ext cx="22320" cy="21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 flipV="1">
                  <a:off x="5748120" y="2437920"/>
                  <a:ext cx="22320" cy="241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rot="2160000">
                  <a:off x="5733720" y="241884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rot="2160000">
                  <a:off x="5787360" y="2324160"/>
                  <a:ext cx="22680" cy="38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rot="2160000">
                  <a:off x="5760360" y="237024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5552280" y="2305800"/>
                <a:ext cx="182520" cy="239400"/>
                <a:chOff x="5552280" y="2305800"/>
                <a:chExt cx="182520" cy="239400"/>
              </a:xfrm>
            </p:grpSpPr>
            <p:sp>
              <p:nvSpPr>
                <p:cNvPr id="1077" name=""/>
                <p:cNvSpPr/>
                <p:nvPr/>
              </p:nvSpPr>
              <p:spPr>
                <a:xfrm rot="19440000">
                  <a:off x="5632200" y="2285640"/>
                  <a:ext cx="22680" cy="279360"/>
                </a:xfrm>
                <a:custGeom>
                  <a:avLst/>
                  <a:gdLst>
                    <a:gd name="textAreaLeft" fmla="*/ 720 w 22680"/>
                    <a:gd name="textAreaRight" fmla="*/ 21960 w 22680"/>
                    <a:gd name="textAreaTop" fmla="*/ 720 h 279360"/>
                    <a:gd name="textAreaBottom" fmla="*/ 278640 h 279360"/>
                  </a:gdLst>
                  <a:ahLst/>
                  <a:rect l="textAreaLeft" t="textAreaTop" r="textAreaRight" b="textAreaBottom"/>
                  <a:pathLst>
                    <a:path w="21600" h="262238">
                      <a:moveTo>
                        <a:pt x="2693" y="0"/>
                      </a:moveTo>
                      <a:arcTo wR="2693" hR="2693" stAng="16200000" swAng="-5400000"/>
                      <a:lnTo>
                        <a:pt x="0" y="259545"/>
                      </a:lnTo>
                      <a:arcTo wR="2693" hR="2693" stAng="10800000" swAng="-5400000"/>
                      <a:lnTo>
                        <a:pt x="18907" y="262238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5582880" y="238140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rot="19440000">
                  <a:off x="5570280" y="239220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H="1">
                  <a:off x="5609160" y="243216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rot="19440000">
                  <a:off x="5595120" y="243972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>
                  <a:off x="5635080" y="2481120"/>
                  <a:ext cx="23760" cy="241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19440000">
                  <a:off x="5621040" y="248904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V="1">
                  <a:off x="5613840" y="234324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V="1">
                  <a:off x="5639040" y="2396880"/>
                  <a:ext cx="23760" cy="21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V="1">
                  <a:off x="5670000" y="2437920"/>
                  <a:ext cx="22680" cy="241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rot="19440000">
                  <a:off x="5692680" y="241920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rot="19440000">
                  <a:off x="5637960" y="2323800"/>
                  <a:ext cx="22320" cy="38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rot="19440000">
                  <a:off x="5665680" y="2369880"/>
                  <a:ext cx="2232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0" name=""/>
            <p:cNvGrpSpPr/>
            <p:nvPr/>
          </p:nvGrpSpPr>
          <p:grpSpPr>
            <a:xfrm>
              <a:off x="4781160" y="2305800"/>
              <a:ext cx="776880" cy="967320"/>
              <a:chOff x="4781160" y="2305800"/>
              <a:chExt cx="776880" cy="967320"/>
            </a:xfrm>
          </p:grpSpPr>
          <p:grpSp>
            <p:nvGrpSpPr>
              <p:cNvPr id="1091" name=""/>
              <p:cNvGrpSpPr/>
              <p:nvPr/>
            </p:nvGrpSpPr>
            <p:grpSpPr>
              <a:xfrm>
                <a:off x="5131080" y="2732400"/>
                <a:ext cx="426960" cy="540720"/>
                <a:chOff x="5131080" y="2732400"/>
                <a:chExt cx="426960" cy="540720"/>
              </a:xfrm>
            </p:grpSpPr>
            <p:sp>
              <p:nvSpPr>
                <p:cNvPr id="1092" name=""/>
                <p:cNvSpPr/>
                <p:nvPr/>
              </p:nvSpPr>
              <p:spPr>
                <a:xfrm rot="19440000">
                  <a:off x="5325120" y="2682720"/>
                  <a:ext cx="39240" cy="640080"/>
                </a:xfrm>
                <a:custGeom>
                  <a:avLst/>
                  <a:gdLst>
                    <a:gd name="textAreaLeft" fmla="*/ 1440 w 39240"/>
                    <a:gd name="textAreaRight" fmla="*/ 37800 w 39240"/>
                    <a:gd name="textAreaTop" fmla="*/ 1440 h 640080"/>
                    <a:gd name="textAreaBottom" fmla="*/ 638640 h 640080"/>
                  </a:gdLst>
                  <a:ahLst/>
                  <a:rect l="textAreaLeft" t="textAreaTop" r="textAreaRight" b="textAreaBottom"/>
                  <a:pathLst>
                    <a:path w="21600" h="349331">
                      <a:moveTo>
                        <a:pt x="2693" y="0"/>
                      </a:moveTo>
                      <a:arcTo wR="2693" hR="2693" stAng="16200000" swAng="-5400000"/>
                      <a:lnTo>
                        <a:pt x="0" y="346638"/>
                      </a:lnTo>
                      <a:arcTo wR="2693" hR="2693" stAng="10800000" swAng="-5400000"/>
                      <a:lnTo>
                        <a:pt x="18907" y="349331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5190840" y="2905200"/>
                  <a:ext cx="65880" cy="522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9440000">
                  <a:off x="5153400" y="2927160"/>
                  <a:ext cx="42120" cy="903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H="1">
                  <a:off x="5262840" y="3016440"/>
                  <a:ext cx="64440" cy="536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rot="19440000">
                  <a:off x="5225040" y="3036600"/>
                  <a:ext cx="42120" cy="936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>
                  <a:off x="5333040" y="3127320"/>
                  <a:ext cx="65880" cy="54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rot="19440000">
                  <a:off x="5296320" y="3149280"/>
                  <a:ext cx="40680" cy="903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V="1">
                  <a:off x="5284440" y="2819160"/>
                  <a:ext cx="65880" cy="522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V="1">
                  <a:off x="5356080" y="2935440"/>
                  <a:ext cx="65880" cy="54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V="1">
                  <a:off x="5428080" y="3046320"/>
                  <a:ext cx="65880" cy="54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rot="19440000">
                  <a:off x="5493960" y="2987280"/>
                  <a:ext cx="40680" cy="92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9440000">
                  <a:off x="5344200" y="2768400"/>
                  <a:ext cx="40680" cy="903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19440000">
                  <a:off x="5420880" y="2876040"/>
                  <a:ext cx="40320" cy="92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4917960" y="2552760"/>
                <a:ext cx="268920" cy="249480"/>
                <a:chOff x="4917960" y="2552760"/>
                <a:chExt cx="268920" cy="249480"/>
              </a:xfrm>
            </p:grpSpPr>
            <p:sp>
              <p:nvSpPr>
                <p:cNvPr id="1106" name=""/>
                <p:cNvSpPr/>
                <p:nvPr/>
              </p:nvSpPr>
              <p:spPr>
                <a:xfrm rot="18240000">
                  <a:off x="5037840" y="2527920"/>
                  <a:ext cx="30240" cy="295920"/>
                </a:xfrm>
                <a:custGeom>
                  <a:avLst/>
                  <a:gdLst>
                    <a:gd name="textAreaLeft" fmla="*/ 1080 w 30240"/>
                    <a:gd name="textAreaRight" fmla="*/ 29160 w 30240"/>
                    <a:gd name="textAreaTop" fmla="*/ 1080 h 295920"/>
                    <a:gd name="textAreaBottom" fmla="*/ 294840 h 295920"/>
                  </a:gdLst>
                  <a:ahLst/>
                  <a:rect l="textAreaLeft" t="textAreaTop" r="textAreaRight" b="textAreaBottom"/>
                  <a:pathLst>
                    <a:path w="21600" h="209139">
                      <a:moveTo>
                        <a:pt x="2693" y="0"/>
                      </a:moveTo>
                      <a:arcTo wR="2693" hR="2693" stAng="16200000" swAng="-5400000"/>
                      <a:lnTo>
                        <a:pt x="0" y="206446"/>
                      </a:lnTo>
                      <a:arcTo wR="2693" hR="2693" stAng="10800000" swAng="-5400000"/>
                      <a:lnTo>
                        <a:pt x="18907" y="209139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flipH="1">
                  <a:off x="4951080" y="2651040"/>
                  <a:ext cx="3096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rot="18240000">
                  <a:off x="4928400" y="2683080"/>
                  <a:ext cx="30240" cy="421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flipH="1">
                  <a:off x="5013000" y="2685960"/>
                  <a:ext cx="3096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18240000">
                  <a:off x="4988520" y="2718360"/>
                  <a:ext cx="29880" cy="4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flipH="1">
                  <a:off x="5073480" y="2722680"/>
                  <a:ext cx="3204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8240000">
                  <a:off x="5050800" y="2755440"/>
                  <a:ext cx="30240" cy="4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flipV="1">
                  <a:off x="4998960" y="2580840"/>
                  <a:ext cx="3096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V="1">
                  <a:off x="5054040" y="2623680"/>
                  <a:ext cx="32040" cy="414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121720" y="2652480"/>
                  <a:ext cx="3096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rot="18240000">
                  <a:off x="5145480" y="2627640"/>
                  <a:ext cx="30240" cy="421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rot="18240000">
                  <a:off x="5020200" y="2556000"/>
                  <a:ext cx="30240" cy="421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8240000">
                  <a:off x="5083200" y="2590200"/>
                  <a:ext cx="30240" cy="4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119200" y="2488320"/>
                <a:ext cx="272520" cy="284760"/>
                <a:chOff x="5119200" y="2488320"/>
                <a:chExt cx="272520" cy="284760"/>
              </a:xfrm>
            </p:grpSpPr>
            <p:sp>
              <p:nvSpPr>
                <p:cNvPr id="1120" name=""/>
                <p:cNvSpPr/>
                <p:nvPr/>
              </p:nvSpPr>
              <p:spPr>
                <a:xfrm rot="2160000">
                  <a:off x="5241960" y="2463840"/>
                  <a:ext cx="25560" cy="333360"/>
                </a:xfrm>
                <a:custGeom>
                  <a:avLst/>
                  <a:gdLst>
                    <a:gd name="textAreaLeft" fmla="*/ 720 w 25560"/>
                    <a:gd name="textAreaRight" fmla="*/ 24840 w 25560"/>
                    <a:gd name="textAreaTop" fmla="*/ 720 h 333360"/>
                    <a:gd name="textAreaBottom" fmla="*/ 332640 h 333360"/>
                  </a:gdLst>
                  <a:ahLst/>
                  <a:rect l="textAreaLeft" t="textAreaTop" r="textAreaRight" b="textAreaBottom"/>
                  <a:pathLst>
                    <a:path w="21600" h="278100">
                      <a:moveTo>
                        <a:pt x="2693" y="0"/>
                      </a:moveTo>
                      <a:arcTo wR="2693" hR="2693" stAng="16200000" swAng="-5400000"/>
                      <a:lnTo>
                        <a:pt x="0" y="275407"/>
                      </a:lnTo>
                      <a:arcTo wR="2693" hR="2693" stAng="10800000" swAng="-5400000"/>
                      <a:lnTo>
                        <a:pt x="18907" y="278100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312520" y="2581200"/>
                  <a:ext cx="42120" cy="27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rot="2160000">
                  <a:off x="5351760" y="2590920"/>
                  <a:ext cx="28440" cy="475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5265720" y="2638440"/>
                  <a:ext cx="42480" cy="284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2160000">
                  <a:off x="5305680" y="2649600"/>
                  <a:ext cx="26640" cy="475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219640" y="2695680"/>
                  <a:ext cx="42120" cy="284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rot="2160000">
                  <a:off x="5258880" y="2706840"/>
                  <a:ext cx="26640" cy="475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H="1" flipV="1">
                  <a:off x="5248800" y="2538360"/>
                  <a:ext cx="42120" cy="288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 flipV="1">
                  <a:off x="5202000" y="2595240"/>
                  <a:ext cx="42120" cy="284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H="1" flipV="1">
                  <a:off x="5151240" y="2649240"/>
                  <a:ext cx="40680" cy="27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2160000">
                  <a:off x="5130360" y="2624040"/>
                  <a:ext cx="26640" cy="4788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rot="2160000">
                  <a:off x="5227560" y="2508120"/>
                  <a:ext cx="26640" cy="4788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rot="2160000">
                  <a:off x="5178240" y="2563560"/>
                  <a:ext cx="26640" cy="48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4781160" y="2352240"/>
                <a:ext cx="182160" cy="239040"/>
                <a:chOff x="4781160" y="2352240"/>
                <a:chExt cx="182160" cy="239040"/>
              </a:xfrm>
            </p:grpSpPr>
            <p:sp>
              <p:nvSpPr>
                <p:cNvPr id="1134" name=""/>
                <p:cNvSpPr/>
                <p:nvPr/>
              </p:nvSpPr>
              <p:spPr>
                <a:xfrm rot="19440000">
                  <a:off x="4861080" y="2331720"/>
                  <a:ext cx="22320" cy="279360"/>
                </a:xfrm>
                <a:custGeom>
                  <a:avLst/>
                  <a:gdLst>
                    <a:gd name="textAreaLeft" fmla="*/ 720 w 22320"/>
                    <a:gd name="textAreaRight" fmla="*/ 21600 w 22320"/>
                    <a:gd name="textAreaTop" fmla="*/ 720 h 279360"/>
                    <a:gd name="textAreaBottom" fmla="*/ 278640 h 279360"/>
                  </a:gdLst>
                  <a:ahLst/>
                  <a:rect l="textAreaLeft" t="textAreaTop" r="textAreaRight" b="textAreaBottom"/>
                  <a:pathLst>
                    <a:path w="21600" h="266400">
                      <a:moveTo>
                        <a:pt x="2693" y="0"/>
                      </a:moveTo>
                      <a:arcTo wR="2693" hR="2693" stAng="16200000" swAng="-5400000"/>
                      <a:lnTo>
                        <a:pt x="0" y="263707"/>
                      </a:lnTo>
                      <a:arcTo wR="2693" hR="2693" stAng="10800000" swAng="-5400000"/>
                      <a:lnTo>
                        <a:pt x="18907" y="266400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>
                  <a:off x="4813200" y="242748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rot="19440000">
                  <a:off x="4800600" y="243792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H="1">
                  <a:off x="4840200" y="247824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rot="19440000">
                  <a:off x="4825800" y="2485800"/>
                  <a:ext cx="2232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H="1">
                  <a:off x="4865400" y="252576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rot="19440000">
                  <a:off x="4851360" y="253476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V="1">
                  <a:off x="4844160" y="238932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V="1">
                  <a:off x="4869360" y="2442960"/>
                  <a:ext cx="23760" cy="21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V="1">
                  <a:off x="4900320" y="248436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19440000">
                  <a:off x="4923000" y="246528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rot="19440000">
                  <a:off x="4868280" y="236844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rot="19440000">
                  <a:off x="4896000" y="241596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7" name=""/>
              <p:cNvGrpSpPr/>
              <p:nvPr/>
            </p:nvGrpSpPr>
            <p:grpSpPr>
              <a:xfrm>
                <a:off x="4903560" y="2352240"/>
                <a:ext cx="182520" cy="239400"/>
                <a:chOff x="4903560" y="2352240"/>
                <a:chExt cx="182520" cy="239400"/>
              </a:xfrm>
            </p:grpSpPr>
            <p:sp>
              <p:nvSpPr>
                <p:cNvPr id="1148" name=""/>
                <p:cNvSpPr/>
                <p:nvPr/>
              </p:nvSpPr>
              <p:spPr>
                <a:xfrm rot="2160000">
                  <a:off x="4983120" y="2332080"/>
                  <a:ext cx="22680" cy="279360"/>
                </a:xfrm>
                <a:custGeom>
                  <a:avLst/>
                  <a:gdLst>
                    <a:gd name="textAreaLeft" fmla="*/ 720 w 22680"/>
                    <a:gd name="textAreaRight" fmla="*/ 21960 w 22680"/>
                    <a:gd name="textAreaTop" fmla="*/ 720 h 279360"/>
                    <a:gd name="textAreaBottom" fmla="*/ 278640 h 279360"/>
                  </a:gdLst>
                  <a:ahLst/>
                  <a:rect l="textAreaLeft" t="textAreaTop" r="textAreaRight" b="textAreaBottom"/>
                  <a:pathLst>
                    <a:path w="21600" h="262238">
                      <a:moveTo>
                        <a:pt x="2693" y="0"/>
                      </a:moveTo>
                      <a:arcTo wR="2693" hR="2693" stAng="16200000" swAng="-5400000"/>
                      <a:lnTo>
                        <a:pt x="0" y="259545"/>
                      </a:lnTo>
                      <a:arcTo wR="2693" hR="2693" stAng="10800000" swAng="-5400000"/>
                      <a:lnTo>
                        <a:pt x="18907" y="262238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5024520" y="242748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2160000">
                  <a:off x="5045400" y="243792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997880" y="247824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rot="2160000">
                  <a:off x="5019840" y="248616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971240" y="252576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rot="2160000">
                  <a:off x="4994640" y="253476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H="1" flipV="1">
                  <a:off x="4983480" y="238932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 flipV="1">
                  <a:off x="4958280" y="2442960"/>
                  <a:ext cx="23760" cy="21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H="1" flipV="1">
                  <a:off x="4937040" y="248436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rot="2160000">
                  <a:off x="4923000" y="246492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2160000">
                  <a:off x="4976280" y="236808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rot="2160000">
                  <a:off x="4949640" y="2416320"/>
                  <a:ext cx="2232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5147640" y="2305800"/>
                <a:ext cx="182520" cy="239400"/>
                <a:chOff x="5147640" y="2305800"/>
                <a:chExt cx="182520" cy="239400"/>
              </a:xfrm>
            </p:grpSpPr>
            <p:sp>
              <p:nvSpPr>
                <p:cNvPr id="1162" name=""/>
                <p:cNvSpPr/>
                <p:nvPr/>
              </p:nvSpPr>
              <p:spPr>
                <a:xfrm rot="19440000">
                  <a:off x="5227560" y="2285640"/>
                  <a:ext cx="22680" cy="279360"/>
                </a:xfrm>
                <a:custGeom>
                  <a:avLst/>
                  <a:gdLst>
                    <a:gd name="textAreaLeft" fmla="*/ 720 w 22680"/>
                    <a:gd name="textAreaRight" fmla="*/ 21960 w 22680"/>
                    <a:gd name="textAreaTop" fmla="*/ 720 h 279360"/>
                    <a:gd name="textAreaBottom" fmla="*/ 278640 h 279360"/>
                  </a:gdLst>
                  <a:ahLst/>
                  <a:rect l="textAreaLeft" t="textAreaTop" r="textAreaRight" b="textAreaBottom"/>
                  <a:pathLst>
                    <a:path w="21600" h="262238">
                      <a:moveTo>
                        <a:pt x="2693" y="0"/>
                      </a:moveTo>
                      <a:arcTo wR="2693" hR="2693" stAng="16200000" swAng="-5400000"/>
                      <a:lnTo>
                        <a:pt x="0" y="259545"/>
                      </a:lnTo>
                      <a:arcTo wR="2693" hR="2693" stAng="10800000" swAng="-5400000"/>
                      <a:lnTo>
                        <a:pt x="18907" y="262238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>
                  <a:off x="5178240" y="238140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rot="19440000">
                  <a:off x="5165640" y="239184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H="1">
                  <a:off x="5205240" y="243216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9440000">
                  <a:off x="5190840" y="2439720"/>
                  <a:ext cx="2232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H="1">
                  <a:off x="5230440" y="2481120"/>
                  <a:ext cx="23760" cy="241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rot="19440000">
                  <a:off x="5216400" y="248868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5214960" y="234324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V="1">
                  <a:off x="5240160" y="2396880"/>
                  <a:ext cx="22680" cy="21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5265360" y="2437920"/>
                  <a:ext cx="22680" cy="241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rot="19440000">
                  <a:off x="5288400" y="241884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rot="19440000">
                  <a:off x="5233320" y="2323800"/>
                  <a:ext cx="22680" cy="38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rot="19440000">
                  <a:off x="5261040" y="236988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5309640" y="2306160"/>
                <a:ext cx="182520" cy="239400"/>
                <a:chOff x="5309640" y="2306160"/>
                <a:chExt cx="182520" cy="239400"/>
              </a:xfrm>
            </p:grpSpPr>
            <p:sp>
              <p:nvSpPr>
                <p:cNvPr id="1176" name=""/>
                <p:cNvSpPr/>
                <p:nvPr/>
              </p:nvSpPr>
              <p:spPr>
                <a:xfrm rot="2160000">
                  <a:off x="5389200" y="2286000"/>
                  <a:ext cx="22680" cy="279360"/>
                </a:xfrm>
                <a:custGeom>
                  <a:avLst/>
                  <a:gdLst>
                    <a:gd name="textAreaLeft" fmla="*/ 720 w 22680"/>
                    <a:gd name="textAreaRight" fmla="*/ 21960 w 22680"/>
                    <a:gd name="textAreaTop" fmla="*/ 720 h 279360"/>
                    <a:gd name="textAreaBottom" fmla="*/ 278640 h 279360"/>
                  </a:gdLst>
                  <a:ahLst/>
                  <a:rect l="textAreaLeft" t="textAreaTop" r="textAreaRight" b="textAreaBottom"/>
                  <a:pathLst>
                    <a:path w="21600" h="262238">
                      <a:moveTo>
                        <a:pt x="2693" y="0"/>
                      </a:moveTo>
                      <a:arcTo wR="2693" hR="2693" stAng="16200000" swAng="-5400000"/>
                      <a:lnTo>
                        <a:pt x="0" y="259545"/>
                      </a:lnTo>
                      <a:arcTo wR="2693" hR="2693" stAng="10800000" swAng="-5400000"/>
                      <a:lnTo>
                        <a:pt x="18907" y="262238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5430600" y="238140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rot="2160000">
                  <a:off x="5451480" y="239184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5403960" y="243216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rot="2160000">
                  <a:off x="5425920" y="244008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5377320" y="2481120"/>
                  <a:ext cx="23760" cy="241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rot="2160000">
                  <a:off x="5400720" y="248868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flipH="1" flipV="1">
                  <a:off x="5389560" y="234324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 flipV="1">
                  <a:off x="5364360" y="2396880"/>
                  <a:ext cx="23760" cy="21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flipH="1" flipV="1">
                  <a:off x="5343120" y="2437920"/>
                  <a:ext cx="22680" cy="241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rot="2160000">
                  <a:off x="5329080" y="241884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rot="2160000">
                  <a:off x="5382360" y="2324160"/>
                  <a:ext cx="22680" cy="38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rot="2160000">
                  <a:off x="5355720" y="2370240"/>
                  <a:ext cx="2232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89" name=""/>
          <p:cNvSpPr/>
          <p:nvPr/>
        </p:nvSpPr>
        <p:spPr>
          <a:xfrm>
            <a:off x="3809880" y="2438280"/>
            <a:ext cx="129564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722480" y="1600200"/>
            <a:ext cx="16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spa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s l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638680" y="4343400"/>
            <a:ext cx="0" cy="167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723200" y="472428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ju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257800" y="6095880"/>
            <a:ext cx="762120" cy="381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486400" y="6172200"/>
            <a:ext cx="228600" cy="152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20800" y="60958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638680" y="518148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6019920" y="4266720"/>
            <a:ext cx="457200" cy="1143000"/>
            <a:chOff x="6019920" y="4266720"/>
            <a:chExt cx="457200" cy="1143000"/>
          </a:xfrm>
        </p:grpSpPr>
        <p:sp>
          <p:nvSpPr>
            <p:cNvPr id="1198" name=""/>
            <p:cNvSpPr/>
            <p:nvPr/>
          </p:nvSpPr>
          <p:spPr>
            <a:xfrm rot="16200000">
              <a:off x="6019920" y="49525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16200000">
              <a:off x="5854680" y="4584240"/>
              <a:ext cx="762120" cy="1270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8140680" y="5589720"/>
            <a:ext cx="243000" cy="274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221680" y="4995720"/>
            <a:ext cx="81000" cy="594000"/>
          </a:xfrm>
          <a:custGeom>
            <a:avLst/>
            <a:gdLst>
              <a:gd name="textAreaLeft" fmla="*/ 2880 w 81000"/>
              <a:gd name="textAreaRight" fmla="*/ 78120 w 81000"/>
              <a:gd name="textAreaTop" fmla="*/ 2880 h 594000"/>
              <a:gd name="textAreaBottom" fmla="*/ 591120 h 594000"/>
            </a:gdLst>
            <a:ahLst/>
            <a:rect l="textAreaLeft" t="textAreaTop" r="textAreaRight" b="textAreaBottom"/>
            <a:pathLst>
              <a:path w="21600" h="157795">
                <a:moveTo>
                  <a:pt x="2693" y="0"/>
                </a:moveTo>
                <a:arcTo wR="2693" hR="2693" stAng="16200000" swAng="-5400000"/>
                <a:lnTo>
                  <a:pt x="0" y="155102"/>
                </a:lnTo>
                <a:arcTo wR="2693" hR="2693" stAng="10800000" swAng="-5400000"/>
                <a:lnTo>
                  <a:pt x="18907" y="157795"/>
                </a:lnTo>
                <a:arcTo wR="2693" hR="2693" stAng="5400000" swAng="-5400000"/>
                <a:lnTo>
                  <a:pt x="21600" y="2693"/>
                </a:lnTo>
                <a:arcTo wR="2693" hR="2693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8222040" y="4484880"/>
            <a:ext cx="428400" cy="540720"/>
            <a:chOff x="8222040" y="4484880"/>
            <a:chExt cx="428400" cy="540720"/>
          </a:xfrm>
        </p:grpSpPr>
        <p:sp>
          <p:nvSpPr>
            <p:cNvPr id="1203" name=""/>
            <p:cNvSpPr/>
            <p:nvPr/>
          </p:nvSpPr>
          <p:spPr>
            <a:xfrm rot="2160000">
              <a:off x="8415720" y="4435200"/>
              <a:ext cx="39600" cy="639720"/>
            </a:xfrm>
            <a:custGeom>
              <a:avLst/>
              <a:gdLst>
                <a:gd name="textAreaLeft" fmla="*/ 1440 w 39600"/>
                <a:gd name="textAreaRight" fmla="*/ 38160 w 39600"/>
                <a:gd name="textAreaTop" fmla="*/ 1440 h 639720"/>
                <a:gd name="textAreaBottom" fmla="*/ 638280 h 639720"/>
              </a:gdLst>
              <a:ahLst/>
              <a:rect l="textAreaLeft" t="textAreaTop" r="textAreaRight" b="textAreaBottom"/>
              <a:pathLst>
                <a:path w="21600" h="345989">
                  <a:moveTo>
                    <a:pt x="2693" y="0"/>
                  </a:moveTo>
                  <a:arcTo wR="2693" hR="2693" stAng="16200000" swAng="-5400000"/>
                  <a:lnTo>
                    <a:pt x="0" y="343296"/>
                  </a:lnTo>
                  <a:arcTo wR="2693" hR="2693" stAng="10800000" swAng="-5400000"/>
                  <a:lnTo>
                    <a:pt x="18907" y="345989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523720" y="4657680"/>
              <a:ext cx="66240" cy="51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2160000">
              <a:off x="8585640" y="4680000"/>
              <a:ext cx="4212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452800" y="4768920"/>
              <a:ext cx="64800" cy="53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2160000">
              <a:off x="8513280" y="4789440"/>
              <a:ext cx="42120" cy="93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380800" y="4879800"/>
              <a:ext cx="6624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2160000">
              <a:off x="8442360" y="4902120"/>
              <a:ext cx="4068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8421840" y="4572000"/>
              <a:ext cx="66240" cy="51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 flipV="1">
              <a:off x="8349840" y="4687560"/>
              <a:ext cx="6624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 flipV="1">
              <a:off x="8277120" y="4798440"/>
              <a:ext cx="6660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2160000">
              <a:off x="8245080" y="4739760"/>
              <a:ext cx="40680" cy="91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2160000">
              <a:off x="8394480" y="4521240"/>
              <a:ext cx="4068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2160000">
              <a:off x="8318160" y="4628520"/>
              <a:ext cx="40680" cy="91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8593920" y="4305960"/>
            <a:ext cx="268920" cy="248040"/>
            <a:chOff x="8593920" y="4305960"/>
            <a:chExt cx="268920" cy="248040"/>
          </a:xfrm>
        </p:grpSpPr>
        <p:sp>
          <p:nvSpPr>
            <p:cNvPr id="1217" name=""/>
            <p:cNvSpPr/>
            <p:nvPr/>
          </p:nvSpPr>
          <p:spPr>
            <a:xfrm rot="3360000">
              <a:off x="8714160" y="4279680"/>
              <a:ext cx="29880" cy="296640"/>
            </a:xfrm>
            <a:custGeom>
              <a:avLst/>
              <a:gdLst>
                <a:gd name="textAreaLeft" fmla="*/ 1080 w 29880"/>
                <a:gd name="textAreaRight" fmla="*/ 28800 w 29880"/>
                <a:gd name="textAreaTop" fmla="*/ 1080 h 296640"/>
                <a:gd name="textAreaBottom" fmla="*/ 295560 h 296640"/>
              </a:gdLst>
              <a:ahLst/>
              <a:rect l="textAreaLeft" t="textAreaTop" r="textAreaRight" b="textAreaBottom"/>
              <a:pathLst>
                <a:path w="21600" h="212143">
                  <a:moveTo>
                    <a:pt x="2693" y="0"/>
                  </a:moveTo>
                  <a:arcTo wR="2693" hR="2693" stAng="16200000" swAng="-5400000"/>
                  <a:lnTo>
                    <a:pt x="0" y="209450"/>
                  </a:lnTo>
                  <a:arcTo wR="2693" hR="2693" stAng="10800000" swAng="-5400000"/>
                  <a:lnTo>
                    <a:pt x="18907" y="212143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798040" y="4403520"/>
              <a:ext cx="3096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3360000">
              <a:off x="8822160" y="4435560"/>
              <a:ext cx="29880" cy="4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735760" y="4438440"/>
              <a:ext cx="3096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3360000">
              <a:off x="8760960" y="4471200"/>
              <a:ext cx="2952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673480" y="4475160"/>
              <a:ext cx="324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3360000">
              <a:off x="8698680" y="4507560"/>
              <a:ext cx="2988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 flipV="1">
              <a:off x="8750160" y="4333680"/>
              <a:ext cx="3096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 flipV="1">
              <a:off x="8683560" y="4376520"/>
              <a:ext cx="32400" cy="410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 flipV="1">
              <a:off x="8627040" y="4405320"/>
              <a:ext cx="3096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3360000">
              <a:off x="8604720" y="4380120"/>
              <a:ext cx="29880" cy="4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3360000">
              <a:off x="8730360" y="4308840"/>
              <a:ext cx="29880" cy="4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3360000">
              <a:off x="8665920" y="4342320"/>
              <a:ext cx="2988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8389800" y="4240800"/>
            <a:ext cx="271800" cy="284400"/>
            <a:chOff x="8389800" y="4240800"/>
            <a:chExt cx="271800" cy="284400"/>
          </a:xfrm>
        </p:grpSpPr>
        <p:sp>
          <p:nvSpPr>
            <p:cNvPr id="1231" name=""/>
            <p:cNvSpPr/>
            <p:nvPr/>
          </p:nvSpPr>
          <p:spPr>
            <a:xfrm rot="19440000">
              <a:off x="8513640" y="4216320"/>
              <a:ext cx="25200" cy="333360"/>
            </a:xfrm>
            <a:custGeom>
              <a:avLst/>
              <a:gdLst>
                <a:gd name="textAreaLeft" fmla="*/ 720 w 25200"/>
                <a:gd name="textAreaRight" fmla="*/ 24480 w 25200"/>
                <a:gd name="textAreaTop" fmla="*/ 720 h 333360"/>
                <a:gd name="textAreaBottom" fmla="*/ 332640 h 333360"/>
              </a:gdLst>
              <a:ahLst/>
              <a:rect l="textAreaLeft" t="textAreaTop" r="textAreaRight" b="textAreaBottom"/>
              <a:pathLst>
                <a:path w="21600" h="282017">
                  <a:moveTo>
                    <a:pt x="2693" y="0"/>
                  </a:moveTo>
                  <a:arcTo wR="2693" hR="2693" stAng="16200000" swAng="-5400000"/>
                  <a:lnTo>
                    <a:pt x="0" y="279324"/>
                  </a:lnTo>
                  <a:arcTo wR="2693" hR="2693" stAng="10800000" swAng="-5400000"/>
                  <a:lnTo>
                    <a:pt x="18907" y="282017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8426160" y="4333680"/>
              <a:ext cx="42480" cy="270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9440000">
              <a:off x="8400960" y="4343400"/>
              <a:ext cx="2808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8472240" y="4390920"/>
              <a:ext cx="4212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9440000">
              <a:off x="8448480" y="4401720"/>
              <a:ext cx="2664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8519040" y="4448160"/>
              <a:ext cx="4248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19440000">
              <a:off x="8494920" y="4458960"/>
              <a:ext cx="2664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8489880" y="4290840"/>
              <a:ext cx="42120" cy="28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8535960" y="4347720"/>
              <a:ext cx="4248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8579880" y="4401720"/>
              <a:ext cx="40680" cy="270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9440000">
              <a:off x="8623800" y="4376160"/>
              <a:ext cx="26280" cy="47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19440000">
              <a:off x="8526240" y="4260240"/>
              <a:ext cx="26640" cy="47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19440000">
              <a:off x="8575560" y="4316400"/>
              <a:ext cx="26640" cy="48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8702640" y="4104360"/>
            <a:ext cx="182520" cy="239400"/>
            <a:chOff x="8702640" y="4104360"/>
            <a:chExt cx="182520" cy="239400"/>
          </a:xfrm>
        </p:grpSpPr>
        <p:sp>
          <p:nvSpPr>
            <p:cNvPr id="1245" name=""/>
            <p:cNvSpPr/>
            <p:nvPr/>
          </p:nvSpPr>
          <p:spPr>
            <a:xfrm rot="19440000">
              <a:off x="8782560" y="4084200"/>
              <a:ext cx="22680" cy="279360"/>
            </a:xfrm>
            <a:custGeom>
              <a:avLst/>
              <a:gdLst>
                <a:gd name="textAreaLeft" fmla="*/ 720 w 22680"/>
                <a:gd name="textAreaRight" fmla="*/ 21960 w 2268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2238">
                  <a:moveTo>
                    <a:pt x="2693" y="0"/>
                  </a:moveTo>
                  <a:arcTo wR="2693" hR="2693" stAng="16200000" swAng="-5400000"/>
                  <a:lnTo>
                    <a:pt x="0" y="259545"/>
                  </a:lnTo>
                  <a:arcTo wR="2693" hR="2693" stAng="10800000" swAng="-5400000"/>
                  <a:lnTo>
                    <a:pt x="18907" y="262238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8732880" y="417996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rot="19440000">
              <a:off x="8720280" y="419076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8759160" y="4230720"/>
              <a:ext cx="2268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9440000">
              <a:off x="8745120" y="4238280"/>
              <a:ext cx="2268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8785440" y="4278240"/>
              <a:ext cx="237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9440000">
              <a:off x="8771040" y="428760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8764200" y="4141800"/>
              <a:ext cx="237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8789400" y="4195440"/>
              <a:ext cx="2376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8820720" y="4236840"/>
              <a:ext cx="2268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9440000">
              <a:off x="8843400" y="421776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9440000">
              <a:off x="8788320" y="412092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19440000">
              <a:off x="8816040" y="416844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8458920" y="4058640"/>
            <a:ext cx="182160" cy="239040"/>
            <a:chOff x="8458920" y="4058640"/>
            <a:chExt cx="182160" cy="239040"/>
          </a:xfrm>
        </p:grpSpPr>
        <p:sp>
          <p:nvSpPr>
            <p:cNvPr id="1259" name=""/>
            <p:cNvSpPr/>
            <p:nvPr/>
          </p:nvSpPr>
          <p:spPr>
            <a:xfrm rot="2160000">
              <a:off x="8538840" y="4038480"/>
              <a:ext cx="22320" cy="279360"/>
            </a:xfrm>
            <a:custGeom>
              <a:avLst/>
              <a:gdLst>
                <a:gd name="textAreaLeft" fmla="*/ 720 w 22320"/>
                <a:gd name="textAreaRight" fmla="*/ 21600 w 2232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6400">
                  <a:moveTo>
                    <a:pt x="2693" y="0"/>
                  </a:moveTo>
                  <a:arcTo wR="2693" hR="2693" stAng="16200000" swAng="-5400000"/>
                  <a:lnTo>
                    <a:pt x="0" y="263707"/>
                  </a:lnTo>
                  <a:arcTo wR="2693" hR="2693" stAng="10800000" swAng="-5400000"/>
                  <a:lnTo>
                    <a:pt x="18907" y="266400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578440" y="4133880"/>
              <a:ext cx="237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2160000">
              <a:off x="8600400" y="414432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552880" y="418464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2160000">
              <a:off x="8573760" y="419256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526240" y="4233600"/>
              <a:ext cx="2376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2160000">
              <a:off x="8548560" y="424116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 flipV="1">
              <a:off x="8543160" y="409572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 flipV="1">
              <a:off x="8517600" y="4149360"/>
              <a:ext cx="2196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flipV="1">
              <a:off x="8492400" y="4190400"/>
              <a:ext cx="2196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2160000">
              <a:off x="8478360" y="417132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2160000">
              <a:off x="8531640" y="4076640"/>
              <a:ext cx="22320" cy="38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2160000">
              <a:off x="8505000" y="412272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8296920" y="4058640"/>
            <a:ext cx="182160" cy="239040"/>
            <a:chOff x="8296920" y="4058640"/>
            <a:chExt cx="182160" cy="239040"/>
          </a:xfrm>
        </p:grpSpPr>
        <p:sp>
          <p:nvSpPr>
            <p:cNvPr id="1273" name=""/>
            <p:cNvSpPr/>
            <p:nvPr/>
          </p:nvSpPr>
          <p:spPr>
            <a:xfrm rot="19440000">
              <a:off x="8376840" y="4038120"/>
              <a:ext cx="22320" cy="279360"/>
            </a:xfrm>
            <a:custGeom>
              <a:avLst/>
              <a:gdLst>
                <a:gd name="textAreaLeft" fmla="*/ 720 w 22320"/>
                <a:gd name="textAreaRight" fmla="*/ 21600 w 2232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6400">
                  <a:moveTo>
                    <a:pt x="2693" y="0"/>
                  </a:moveTo>
                  <a:arcTo wR="2693" hR="2693" stAng="16200000" swAng="-5400000"/>
                  <a:lnTo>
                    <a:pt x="0" y="263707"/>
                  </a:lnTo>
                  <a:arcTo wR="2693" hR="2693" stAng="10800000" swAng="-5400000"/>
                  <a:lnTo>
                    <a:pt x="18907" y="266400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8327520" y="4133880"/>
              <a:ext cx="219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9440000">
              <a:off x="8314920" y="4144320"/>
              <a:ext cx="2196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8354160" y="418464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9440000">
              <a:off x="8339760" y="419220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8379720" y="4233600"/>
              <a:ext cx="2376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rot="19440000">
              <a:off x="8365320" y="4241160"/>
              <a:ext cx="2196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8358840" y="4095720"/>
              <a:ext cx="237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8383680" y="4149360"/>
              <a:ext cx="2376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8414640" y="4190400"/>
              <a:ext cx="2232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rot="19440000">
              <a:off x="8436960" y="4171320"/>
              <a:ext cx="2196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19440000">
              <a:off x="8382600" y="4076280"/>
              <a:ext cx="21960" cy="38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rot="19440000">
              <a:off x="8410320" y="4122720"/>
              <a:ext cx="2196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7873920" y="4484880"/>
            <a:ext cx="427680" cy="540720"/>
            <a:chOff x="7873920" y="4484880"/>
            <a:chExt cx="427680" cy="540720"/>
          </a:xfrm>
        </p:grpSpPr>
        <p:sp>
          <p:nvSpPr>
            <p:cNvPr id="1287" name=""/>
            <p:cNvSpPr/>
            <p:nvPr/>
          </p:nvSpPr>
          <p:spPr>
            <a:xfrm rot="19440000">
              <a:off x="8067960" y="4435200"/>
              <a:ext cx="39240" cy="639720"/>
            </a:xfrm>
            <a:custGeom>
              <a:avLst/>
              <a:gdLst>
                <a:gd name="textAreaLeft" fmla="*/ 1440 w 39240"/>
                <a:gd name="textAreaRight" fmla="*/ 37800 w 39240"/>
                <a:gd name="textAreaTop" fmla="*/ 1440 h 639720"/>
                <a:gd name="textAreaBottom" fmla="*/ 638280 h 639720"/>
              </a:gdLst>
              <a:ahLst/>
              <a:rect l="textAreaLeft" t="textAreaTop" r="textAreaRight" b="textAreaBottom"/>
              <a:pathLst>
                <a:path w="21600" h="349135">
                  <a:moveTo>
                    <a:pt x="2693" y="0"/>
                  </a:moveTo>
                  <a:arcTo wR="2693" hR="2693" stAng="16200000" swAng="-5400000"/>
                  <a:lnTo>
                    <a:pt x="0" y="346442"/>
                  </a:lnTo>
                  <a:arcTo wR="2693" hR="2693" stAng="10800000" swAng="-5400000"/>
                  <a:lnTo>
                    <a:pt x="18907" y="349135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7934040" y="4657680"/>
              <a:ext cx="66240" cy="51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rot="19440000">
              <a:off x="7896240" y="4679640"/>
              <a:ext cx="4212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8006040" y="4768920"/>
              <a:ext cx="64440" cy="53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rot="19440000">
              <a:off x="7967880" y="4789080"/>
              <a:ext cx="42120" cy="93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8076600" y="4879800"/>
              <a:ext cx="6624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rot="19440000">
              <a:off x="8039520" y="4901760"/>
              <a:ext cx="4068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8027280" y="4572000"/>
              <a:ext cx="66240" cy="51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8099280" y="4687560"/>
              <a:ext cx="6624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8171640" y="4798440"/>
              <a:ext cx="6624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19440000">
              <a:off x="8237880" y="4739760"/>
              <a:ext cx="40680" cy="91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19440000">
              <a:off x="8087400" y="4520880"/>
              <a:ext cx="4068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rot="19440000">
              <a:off x="8164440" y="4628520"/>
              <a:ext cx="40320" cy="91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7661880" y="4305600"/>
            <a:ext cx="267840" cy="248400"/>
            <a:chOff x="7661880" y="4305600"/>
            <a:chExt cx="267840" cy="248400"/>
          </a:xfrm>
        </p:grpSpPr>
        <p:sp>
          <p:nvSpPr>
            <p:cNvPr id="1301" name=""/>
            <p:cNvSpPr/>
            <p:nvPr/>
          </p:nvSpPr>
          <p:spPr>
            <a:xfrm rot="18240000">
              <a:off x="7781040" y="4280040"/>
              <a:ext cx="29880" cy="295200"/>
            </a:xfrm>
            <a:custGeom>
              <a:avLst/>
              <a:gdLst>
                <a:gd name="textAreaLeft" fmla="*/ 1080 w 29880"/>
                <a:gd name="textAreaRight" fmla="*/ 28800 w 29880"/>
                <a:gd name="textAreaTop" fmla="*/ 1080 h 295200"/>
                <a:gd name="textAreaBottom" fmla="*/ 294120 h 295200"/>
              </a:gdLst>
              <a:ahLst/>
              <a:rect l="textAreaLeft" t="textAreaTop" r="textAreaRight" b="textAreaBottom"/>
              <a:pathLst>
                <a:path w="21600" h="211114">
                  <a:moveTo>
                    <a:pt x="2693" y="0"/>
                  </a:moveTo>
                  <a:arcTo wR="2693" hR="2693" stAng="16200000" swAng="-5400000"/>
                  <a:lnTo>
                    <a:pt x="0" y="208421"/>
                  </a:lnTo>
                  <a:arcTo wR="2693" hR="2693" stAng="10800000" swAng="-5400000"/>
                  <a:lnTo>
                    <a:pt x="18907" y="211114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7694280" y="4403520"/>
              <a:ext cx="306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18240000">
              <a:off x="7672320" y="4435560"/>
              <a:ext cx="29880" cy="4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7756200" y="4438440"/>
              <a:ext cx="306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rot="18240000">
              <a:off x="7732440" y="4471200"/>
              <a:ext cx="2952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>
              <a:off x="7816680" y="4475160"/>
              <a:ext cx="3204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rot="18240000">
              <a:off x="7794000" y="4507200"/>
              <a:ext cx="2988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7742520" y="4333680"/>
              <a:ext cx="306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7797240" y="4376520"/>
              <a:ext cx="32040" cy="410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7864920" y="4405320"/>
              <a:ext cx="306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18240000">
              <a:off x="7888680" y="4380120"/>
              <a:ext cx="29880" cy="4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18240000">
              <a:off x="7763760" y="4308840"/>
              <a:ext cx="29880" cy="4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18240000">
              <a:off x="7826400" y="4342320"/>
              <a:ext cx="29880" cy="43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7862400" y="4240800"/>
            <a:ext cx="271800" cy="284400"/>
            <a:chOff x="7862400" y="4240800"/>
            <a:chExt cx="271800" cy="284400"/>
          </a:xfrm>
        </p:grpSpPr>
        <p:sp>
          <p:nvSpPr>
            <p:cNvPr id="1315" name=""/>
            <p:cNvSpPr/>
            <p:nvPr/>
          </p:nvSpPr>
          <p:spPr>
            <a:xfrm rot="2160000">
              <a:off x="7984800" y="4216320"/>
              <a:ext cx="25200" cy="333360"/>
            </a:xfrm>
            <a:custGeom>
              <a:avLst/>
              <a:gdLst>
                <a:gd name="textAreaLeft" fmla="*/ 720 w 25200"/>
                <a:gd name="textAreaRight" fmla="*/ 24480 w 25200"/>
                <a:gd name="textAreaTop" fmla="*/ 720 h 333360"/>
                <a:gd name="textAreaBottom" fmla="*/ 332640 h 333360"/>
              </a:gdLst>
              <a:ahLst/>
              <a:rect l="textAreaLeft" t="textAreaTop" r="textAreaRight" b="textAreaBottom"/>
              <a:pathLst>
                <a:path w="21600" h="282017">
                  <a:moveTo>
                    <a:pt x="2693" y="0"/>
                  </a:moveTo>
                  <a:arcTo wR="2693" hR="2693" stAng="16200000" swAng="-5400000"/>
                  <a:lnTo>
                    <a:pt x="0" y="279324"/>
                  </a:lnTo>
                  <a:arcTo wR="2693" hR="2693" stAng="10800000" swAng="-5400000"/>
                  <a:lnTo>
                    <a:pt x="18907" y="282017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055360" y="4333680"/>
              <a:ext cx="42120" cy="270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2160000">
              <a:off x="8094600" y="4343400"/>
              <a:ext cx="2808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008920" y="4390920"/>
              <a:ext cx="4248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2160000">
              <a:off x="8048520" y="4402080"/>
              <a:ext cx="2664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962480" y="4448160"/>
              <a:ext cx="4212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2160000">
              <a:off x="8001720" y="4459320"/>
              <a:ext cx="2664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 flipV="1">
              <a:off x="7992000" y="4290840"/>
              <a:ext cx="42120" cy="28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7945200" y="4347720"/>
              <a:ext cx="4212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 flipV="1">
              <a:off x="7894440" y="4401720"/>
              <a:ext cx="40680" cy="270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rot="2160000">
              <a:off x="7873560" y="4376520"/>
              <a:ext cx="26640" cy="47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2160000">
              <a:off x="7970400" y="4260600"/>
              <a:ext cx="26640" cy="47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2160000">
              <a:off x="7921440" y="4316040"/>
              <a:ext cx="26640" cy="48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7524720" y="4104720"/>
            <a:ext cx="182160" cy="239040"/>
            <a:chOff x="7524720" y="4104720"/>
            <a:chExt cx="182160" cy="239040"/>
          </a:xfrm>
        </p:grpSpPr>
        <p:sp>
          <p:nvSpPr>
            <p:cNvPr id="1329" name=""/>
            <p:cNvSpPr/>
            <p:nvPr/>
          </p:nvSpPr>
          <p:spPr>
            <a:xfrm rot="19440000">
              <a:off x="7604640" y="4084200"/>
              <a:ext cx="22320" cy="279360"/>
            </a:xfrm>
            <a:custGeom>
              <a:avLst/>
              <a:gdLst>
                <a:gd name="textAreaLeft" fmla="*/ 720 w 22320"/>
                <a:gd name="textAreaRight" fmla="*/ 21600 w 2232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6400">
                  <a:moveTo>
                    <a:pt x="2693" y="0"/>
                  </a:moveTo>
                  <a:arcTo wR="2693" hR="2693" stAng="16200000" swAng="-5400000"/>
                  <a:lnTo>
                    <a:pt x="0" y="263707"/>
                  </a:lnTo>
                  <a:arcTo wR="2693" hR="2693" stAng="10800000" swAng="-5400000"/>
                  <a:lnTo>
                    <a:pt x="18907" y="266400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7556400" y="417996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19440000">
              <a:off x="7543800" y="4190400"/>
              <a:ext cx="2268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7583400" y="423072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rot="19440000">
              <a:off x="7569000" y="423828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7608600" y="4278240"/>
              <a:ext cx="241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rot="19440000">
              <a:off x="7594920" y="4287240"/>
              <a:ext cx="2268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7587720" y="4141800"/>
              <a:ext cx="241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7613280" y="4195440"/>
              <a:ext cx="2412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7644240" y="4236840"/>
              <a:ext cx="2268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rot="19440000">
              <a:off x="7667280" y="421776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rot="19440000">
              <a:off x="7611840" y="412092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rot="19440000">
              <a:off x="7639920" y="4168440"/>
              <a:ext cx="2268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8014320" y="5248440"/>
            <a:ext cx="267840" cy="248400"/>
            <a:chOff x="8014320" y="5248440"/>
            <a:chExt cx="267840" cy="248400"/>
          </a:xfrm>
        </p:grpSpPr>
        <p:sp>
          <p:nvSpPr>
            <p:cNvPr id="1343" name=""/>
            <p:cNvSpPr/>
            <p:nvPr/>
          </p:nvSpPr>
          <p:spPr>
            <a:xfrm rot="18240000">
              <a:off x="8133480" y="5222880"/>
              <a:ext cx="29880" cy="295200"/>
            </a:xfrm>
            <a:custGeom>
              <a:avLst/>
              <a:gdLst>
                <a:gd name="textAreaLeft" fmla="*/ 1080 w 29880"/>
                <a:gd name="textAreaRight" fmla="*/ 28800 w 29880"/>
                <a:gd name="textAreaTop" fmla="*/ 1080 h 295200"/>
                <a:gd name="textAreaBottom" fmla="*/ 294120 h 295200"/>
              </a:gdLst>
              <a:ahLst/>
              <a:rect l="textAreaLeft" t="textAreaTop" r="textAreaRight" b="textAreaBottom"/>
              <a:pathLst>
                <a:path w="21600" h="211114">
                  <a:moveTo>
                    <a:pt x="2693" y="0"/>
                  </a:moveTo>
                  <a:arcTo wR="2693" hR="2693" stAng="16200000" swAng="-5400000"/>
                  <a:lnTo>
                    <a:pt x="0" y="208421"/>
                  </a:lnTo>
                  <a:arcTo wR="2693" hR="2693" stAng="10800000" swAng="-5400000"/>
                  <a:lnTo>
                    <a:pt x="18907" y="211114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8046720" y="5346360"/>
              <a:ext cx="306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rot="18240000">
              <a:off x="8024760" y="5378400"/>
              <a:ext cx="29880" cy="4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8108640" y="5381280"/>
              <a:ext cx="306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18240000">
              <a:off x="8084880" y="5414040"/>
              <a:ext cx="2952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8169120" y="5418000"/>
              <a:ext cx="3204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18240000">
              <a:off x="8146440" y="5450040"/>
              <a:ext cx="2988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8094960" y="5276520"/>
              <a:ext cx="306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8149680" y="5319360"/>
              <a:ext cx="32040" cy="410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8217360" y="5348160"/>
              <a:ext cx="306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18240000">
              <a:off x="8241120" y="5322960"/>
              <a:ext cx="29880" cy="4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rot="18240000">
              <a:off x="8116200" y="5251680"/>
              <a:ext cx="29880" cy="4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rot="18240000">
              <a:off x="8178840" y="5285160"/>
              <a:ext cx="29880" cy="43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7877160" y="5047920"/>
            <a:ext cx="182160" cy="239040"/>
            <a:chOff x="7877160" y="5047920"/>
            <a:chExt cx="182160" cy="239040"/>
          </a:xfrm>
        </p:grpSpPr>
        <p:sp>
          <p:nvSpPr>
            <p:cNvPr id="1357" name=""/>
            <p:cNvSpPr/>
            <p:nvPr/>
          </p:nvSpPr>
          <p:spPr>
            <a:xfrm rot="19440000">
              <a:off x="7957080" y="5027400"/>
              <a:ext cx="22320" cy="279360"/>
            </a:xfrm>
            <a:custGeom>
              <a:avLst/>
              <a:gdLst>
                <a:gd name="textAreaLeft" fmla="*/ 720 w 22320"/>
                <a:gd name="textAreaRight" fmla="*/ 21600 w 2232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6400">
                  <a:moveTo>
                    <a:pt x="2693" y="0"/>
                  </a:moveTo>
                  <a:arcTo wR="2693" hR="2693" stAng="16200000" swAng="-5400000"/>
                  <a:lnTo>
                    <a:pt x="0" y="263707"/>
                  </a:lnTo>
                  <a:arcTo wR="2693" hR="2693" stAng="10800000" swAng="-5400000"/>
                  <a:lnTo>
                    <a:pt x="18907" y="266400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7908840" y="512316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19440000">
              <a:off x="7896240" y="5133600"/>
              <a:ext cx="2268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7935840" y="517392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19440000">
              <a:off x="7921440" y="518148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7961040" y="5221440"/>
              <a:ext cx="241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19440000">
              <a:off x="7947360" y="5230440"/>
              <a:ext cx="2268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7940160" y="5085000"/>
              <a:ext cx="241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7965720" y="5138640"/>
              <a:ext cx="2412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7996680" y="5180040"/>
              <a:ext cx="2268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rot="19440000">
              <a:off x="8019720" y="516096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19440000">
              <a:off x="7964280" y="506412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19440000">
              <a:off x="7992360" y="5111640"/>
              <a:ext cx="2268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8286120" y="5049360"/>
            <a:ext cx="182160" cy="239040"/>
            <a:chOff x="8286120" y="5049360"/>
            <a:chExt cx="182160" cy="239040"/>
          </a:xfrm>
        </p:grpSpPr>
        <p:sp>
          <p:nvSpPr>
            <p:cNvPr id="1371" name=""/>
            <p:cNvSpPr/>
            <p:nvPr/>
          </p:nvSpPr>
          <p:spPr>
            <a:xfrm rot="2160000">
              <a:off x="8366040" y="5029200"/>
              <a:ext cx="22320" cy="279360"/>
            </a:xfrm>
            <a:custGeom>
              <a:avLst/>
              <a:gdLst>
                <a:gd name="textAreaLeft" fmla="*/ 720 w 22320"/>
                <a:gd name="textAreaRight" fmla="*/ 21600 w 2232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6400">
                  <a:moveTo>
                    <a:pt x="2693" y="0"/>
                  </a:moveTo>
                  <a:arcTo wR="2693" hR="2693" stAng="16200000" swAng="-5400000"/>
                  <a:lnTo>
                    <a:pt x="0" y="263707"/>
                  </a:lnTo>
                  <a:arcTo wR="2693" hR="2693" stAng="10800000" swAng="-5400000"/>
                  <a:lnTo>
                    <a:pt x="18907" y="266400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405280" y="5124600"/>
              <a:ext cx="237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2160000">
              <a:off x="8427240" y="513504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380080" y="517536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2160000">
              <a:off x="8400600" y="518328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353440" y="5224320"/>
              <a:ext cx="2376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2160000">
              <a:off x="8375400" y="523188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 flipV="1">
              <a:off x="8370000" y="508644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 flipV="1">
              <a:off x="8344800" y="5140080"/>
              <a:ext cx="2196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 flipV="1">
              <a:off x="8319600" y="5181120"/>
              <a:ext cx="2196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2160000">
              <a:off x="8305560" y="516204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2160000">
              <a:off x="8358840" y="5067360"/>
              <a:ext cx="22320" cy="38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2160000">
              <a:off x="8332200" y="511344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6629400" y="5257800"/>
            <a:ext cx="13716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217560" y="5486400"/>
            <a:ext cx="185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ling: n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atial deci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H="1">
            <a:off x="7086240" y="1676520"/>
            <a:ext cx="152280" cy="533160"/>
          </a:xfrm>
          <a:prstGeom prst="line">
            <a:avLst/>
          </a:prstGeom>
          <a:ln w="12600">
            <a:solidFill>
              <a:srgbClr val="00dfca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629400" y="1676520"/>
            <a:ext cx="228600" cy="53316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264360" y="2652840"/>
            <a:ext cx="761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7252200" y="2581920"/>
            <a:ext cx="269280" cy="248040"/>
            <a:chOff x="7252200" y="2581920"/>
            <a:chExt cx="269280" cy="248040"/>
          </a:xfrm>
        </p:grpSpPr>
        <p:sp>
          <p:nvSpPr>
            <p:cNvPr id="1390" name=""/>
            <p:cNvSpPr/>
            <p:nvPr/>
          </p:nvSpPr>
          <p:spPr>
            <a:xfrm rot="3360000">
              <a:off x="7372080" y="2555640"/>
              <a:ext cx="29880" cy="297000"/>
            </a:xfrm>
            <a:custGeom>
              <a:avLst/>
              <a:gdLst>
                <a:gd name="textAreaLeft" fmla="*/ 1080 w 29880"/>
                <a:gd name="textAreaRight" fmla="*/ 28800 w 29880"/>
                <a:gd name="textAreaTop" fmla="*/ 1080 h 297000"/>
                <a:gd name="textAreaBottom" fmla="*/ 295920 h 297000"/>
              </a:gdLst>
              <a:ahLst/>
              <a:rect l="textAreaLeft" t="textAreaTop" r="textAreaRight" b="textAreaBottom"/>
              <a:pathLst>
                <a:path w="21600" h="212400">
                  <a:moveTo>
                    <a:pt x="2693" y="0"/>
                  </a:moveTo>
                  <a:arcTo wR="2693" hR="2693" stAng="16200000" swAng="-5400000"/>
                  <a:lnTo>
                    <a:pt x="0" y="209707"/>
                  </a:lnTo>
                  <a:arcTo wR="2693" hR="2693" stAng="10800000" swAng="-5400000"/>
                  <a:lnTo>
                    <a:pt x="18907" y="212400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456680" y="2679480"/>
              <a:ext cx="3096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3360000">
              <a:off x="7480800" y="2711520"/>
              <a:ext cx="29880" cy="4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394400" y="2714400"/>
              <a:ext cx="3096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3360000">
              <a:off x="7419240" y="2747160"/>
              <a:ext cx="2952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32120" y="2751120"/>
              <a:ext cx="324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rot="3360000">
              <a:off x="7356960" y="2783520"/>
              <a:ext cx="2988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 flipV="1">
              <a:off x="7408800" y="2609640"/>
              <a:ext cx="3096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 flipV="1">
              <a:off x="7341840" y="2652480"/>
              <a:ext cx="32400" cy="410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 flipV="1">
              <a:off x="7285680" y="2681280"/>
              <a:ext cx="3096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rot="3360000">
              <a:off x="7263000" y="2656080"/>
              <a:ext cx="29880" cy="4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3360000">
              <a:off x="7388640" y="2584800"/>
              <a:ext cx="29880" cy="4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3360000">
              <a:off x="7325280" y="2618280"/>
              <a:ext cx="29880" cy="43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3" name=""/>
          <p:cNvGrpSpPr/>
          <p:nvPr/>
        </p:nvGrpSpPr>
        <p:grpSpPr>
          <a:xfrm>
            <a:off x="7048440" y="2516760"/>
            <a:ext cx="271440" cy="284400"/>
            <a:chOff x="7048440" y="2516760"/>
            <a:chExt cx="271440" cy="284400"/>
          </a:xfrm>
        </p:grpSpPr>
        <p:sp>
          <p:nvSpPr>
            <p:cNvPr id="1404" name=""/>
            <p:cNvSpPr/>
            <p:nvPr/>
          </p:nvSpPr>
          <p:spPr>
            <a:xfrm rot="19440000">
              <a:off x="7172280" y="2492280"/>
              <a:ext cx="25200" cy="333360"/>
            </a:xfrm>
            <a:custGeom>
              <a:avLst/>
              <a:gdLst>
                <a:gd name="textAreaLeft" fmla="*/ 720 w 25200"/>
                <a:gd name="textAreaRight" fmla="*/ 24480 w 25200"/>
                <a:gd name="textAreaTop" fmla="*/ 720 h 333360"/>
                <a:gd name="textAreaBottom" fmla="*/ 332640 h 333360"/>
              </a:gdLst>
              <a:ahLst/>
              <a:rect l="textAreaLeft" t="textAreaTop" r="textAreaRight" b="textAreaBottom"/>
              <a:pathLst>
                <a:path w="21600" h="282017">
                  <a:moveTo>
                    <a:pt x="2693" y="0"/>
                  </a:moveTo>
                  <a:arcTo wR="2693" hR="2693" stAng="16200000" swAng="-5400000"/>
                  <a:lnTo>
                    <a:pt x="0" y="279324"/>
                  </a:lnTo>
                  <a:arcTo wR="2693" hR="2693" stAng="10800000" swAng="-5400000"/>
                  <a:lnTo>
                    <a:pt x="18907" y="282017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7084800" y="2609640"/>
              <a:ext cx="42480" cy="270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rot="19440000">
              <a:off x="7059600" y="2619360"/>
              <a:ext cx="2808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7130880" y="2666880"/>
              <a:ext cx="4212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rot="19440000">
              <a:off x="7107120" y="2677680"/>
              <a:ext cx="2664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7177680" y="2724120"/>
              <a:ext cx="4248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rot="19440000">
              <a:off x="7153200" y="2734920"/>
              <a:ext cx="2664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7148160" y="2566800"/>
              <a:ext cx="42120" cy="28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7194600" y="2623680"/>
              <a:ext cx="4248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7238160" y="2677680"/>
              <a:ext cx="40680" cy="270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rot="19440000">
              <a:off x="7282080" y="2652120"/>
              <a:ext cx="26280" cy="47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rot="19440000">
              <a:off x="7184520" y="2536200"/>
              <a:ext cx="26640" cy="47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rot="19440000">
              <a:off x="7233840" y="2592360"/>
              <a:ext cx="26640" cy="48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7360920" y="2380320"/>
            <a:ext cx="182520" cy="239400"/>
            <a:chOff x="7360920" y="2380320"/>
            <a:chExt cx="182520" cy="239400"/>
          </a:xfrm>
        </p:grpSpPr>
        <p:sp>
          <p:nvSpPr>
            <p:cNvPr id="1418" name=""/>
            <p:cNvSpPr/>
            <p:nvPr/>
          </p:nvSpPr>
          <p:spPr>
            <a:xfrm rot="19440000">
              <a:off x="7440840" y="2360160"/>
              <a:ext cx="22680" cy="279360"/>
            </a:xfrm>
            <a:custGeom>
              <a:avLst/>
              <a:gdLst>
                <a:gd name="textAreaLeft" fmla="*/ 720 w 22680"/>
                <a:gd name="textAreaRight" fmla="*/ 21960 w 2268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2238">
                  <a:moveTo>
                    <a:pt x="2693" y="0"/>
                  </a:moveTo>
                  <a:arcTo wR="2693" hR="2693" stAng="16200000" swAng="-5400000"/>
                  <a:lnTo>
                    <a:pt x="0" y="259545"/>
                  </a:lnTo>
                  <a:arcTo wR="2693" hR="2693" stAng="10800000" swAng="-5400000"/>
                  <a:lnTo>
                    <a:pt x="18907" y="262238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7391160" y="245592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rot="19440000">
              <a:off x="7378560" y="246672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7417800" y="2506680"/>
              <a:ext cx="2268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rot="19440000">
              <a:off x="7403400" y="2514240"/>
              <a:ext cx="2268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7443360" y="2554200"/>
              <a:ext cx="241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rot="19440000">
              <a:off x="7429680" y="256356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7422480" y="2417760"/>
              <a:ext cx="241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7448040" y="2471400"/>
              <a:ext cx="2412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7479000" y="2512800"/>
              <a:ext cx="2268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rot="19440000">
              <a:off x="7502040" y="249372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rot="19440000">
              <a:off x="7446600" y="239688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rot="19440000">
              <a:off x="7474680" y="244440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7117560" y="2334600"/>
            <a:ext cx="182160" cy="239040"/>
            <a:chOff x="7117560" y="2334600"/>
            <a:chExt cx="182160" cy="239040"/>
          </a:xfrm>
        </p:grpSpPr>
        <p:sp>
          <p:nvSpPr>
            <p:cNvPr id="1432" name=""/>
            <p:cNvSpPr/>
            <p:nvPr/>
          </p:nvSpPr>
          <p:spPr>
            <a:xfrm rot="2160000">
              <a:off x="7197480" y="2314440"/>
              <a:ext cx="22320" cy="279360"/>
            </a:xfrm>
            <a:custGeom>
              <a:avLst/>
              <a:gdLst>
                <a:gd name="textAreaLeft" fmla="*/ 720 w 22320"/>
                <a:gd name="textAreaRight" fmla="*/ 21600 w 2232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6400">
                  <a:moveTo>
                    <a:pt x="2693" y="0"/>
                  </a:moveTo>
                  <a:arcTo wR="2693" hR="2693" stAng="16200000" swAng="-5400000"/>
                  <a:lnTo>
                    <a:pt x="0" y="263707"/>
                  </a:lnTo>
                  <a:arcTo wR="2693" hR="2693" stAng="10800000" swAng="-5400000"/>
                  <a:lnTo>
                    <a:pt x="18907" y="266400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236720" y="2409840"/>
              <a:ext cx="237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rot="2160000">
              <a:off x="7258680" y="242028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211520" y="246060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rot="2160000">
              <a:off x="7232040" y="246852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84880" y="2509560"/>
              <a:ext cx="2376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2160000">
              <a:off x="7206840" y="251712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flipV="1">
              <a:off x="7201440" y="237168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 flipV="1">
              <a:off x="7176240" y="2425320"/>
              <a:ext cx="2196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7151040" y="2466360"/>
              <a:ext cx="2196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rot="2160000">
              <a:off x="7137000" y="244728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rot="2160000">
              <a:off x="7190280" y="2352600"/>
              <a:ext cx="22320" cy="38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rot="2160000">
              <a:off x="7163640" y="239868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6955560" y="2334600"/>
            <a:ext cx="182160" cy="239040"/>
            <a:chOff x="6955560" y="2334600"/>
            <a:chExt cx="182160" cy="239040"/>
          </a:xfrm>
        </p:grpSpPr>
        <p:sp>
          <p:nvSpPr>
            <p:cNvPr id="1446" name=""/>
            <p:cNvSpPr/>
            <p:nvPr/>
          </p:nvSpPr>
          <p:spPr>
            <a:xfrm rot="19440000">
              <a:off x="7035480" y="2314080"/>
              <a:ext cx="22320" cy="279360"/>
            </a:xfrm>
            <a:custGeom>
              <a:avLst/>
              <a:gdLst>
                <a:gd name="textAreaLeft" fmla="*/ 720 w 22320"/>
                <a:gd name="textAreaRight" fmla="*/ 21600 w 2232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6400">
                  <a:moveTo>
                    <a:pt x="2693" y="0"/>
                  </a:moveTo>
                  <a:arcTo wR="2693" hR="2693" stAng="16200000" swAng="-5400000"/>
                  <a:lnTo>
                    <a:pt x="0" y="263707"/>
                  </a:lnTo>
                  <a:arcTo wR="2693" hR="2693" stAng="10800000" swAng="-5400000"/>
                  <a:lnTo>
                    <a:pt x="18907" y="266400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6986160" y="2409840"/>
              <a:ext cx="219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rot="19440000">
              <a:off x="6973560" y="2420280"/>
              <a:ext cx="2196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7012800" y="246060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rot="19440000">
              <a:off x="6998400" y="246816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7038360" y="2509560"/>
              <a:ext cx="2376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rot="19440000">
              <a:off x="7023960" y="2517120"/>
              <a:ext cx="2196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7017480" y="2371680"/>
              <a:ext cx="237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7042320" y="2425320"/>
              <a:ext cx="2376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7073280" y="2466360"/>
              <a:ext cx="2232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rot="19440000">
              <a:off x="7095600" y="2447280"/>
              <a:ext cx="2196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rot="19440000">
              <a:off x="7041240" y="2352240"/>
              <a:ext cx="21960" cy="38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rot="19440000">
              <a:off x="7068960" y="2398680"/>
              <a:ext cx="2196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7292880" y="2792520"/>
            <a:ext cx="427680" cy="540720"/>
            <a:chOff x="7292880" y="2792520"/>
            <a:chExt cx="427680" cy="540720"/>
          </a:xfrm>
        </p:grpSpPr>
        <p:sp>
          <p:nvSpPr>
            <p:cNvPr id="1460" name=""/>
            <p:cNvSpPr/>
            <p:nvPr/>
          </p:nvSpPr>
          <p:spPr>
            <a:xfrm rot="19440000">
              <a:off x="7486920" y="2742840"/>
              <a:ext cx="39240" cy="639720"/>
            </a:xfrm>
            <a:custGeom>
              <a:avLst/>
              <a:gdLst>
                <a:gd name="textAreaLeft" fmla="*/ 1440 w 39240"/>
                <a:gd name="textAreaRight" fmla="*/ 37800 w 39240"/>
                <a:gd name="textAreaTop" fmla="*/ 1440 h 639720"/>
                <a:gd name="textAreaBottom" fmla="*/ 638280 h 639720"/>
              </a:gdLst>
              <a:ahLst/>
              <a:rect l="textAreaLeft" t="textAreaTop" r="textAreaRight" b="textAreaBottom"/>
              <a:pathLst>
                <a:path w="21600" h="349135">
                  <a:moveTo>
                    <a:pt x="2693" y="0"/>
                  </a:moveTo>
                  <a:arcTo wR="2693" hR="2693" stAng="16200000" swAng="-5400000"/>
                  <a:lnTo>
                    <a:pt x="0" y="346442"/>
                  </a:lnTo>
                  <a:arcTo wR="2693" hR="2693" stAng="10800000" swAng="-5400000"/>
                  <a:lnTo>
                    <a:pt x="18907" y="349135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7353000" y="2965320"/>
              <a:ext cx="66240" cy="51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rot="19440000">
              <a:off x="7315200" y="2987280"/>
              <a:ext cx="4212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7425000" y="3076560"/>
              <a:ext cx="64440" cy="53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9440000">
              <a:off x="7386840" y="3096720"/>
              <a:ext cx="42120" cy="93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7495560" y="3187440"/>
              <a:ext cx="6624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rot="19440000">
              <a:off x="7458480" y="3209400"/>
              <a:ext cx="4068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7446240" y="2879640"/>
              <a:ext cx="66240" cy="51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7518240" y="2995200"/>
              <a:ext cx="6624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7590600" y="3106080"/>
              <a:ext cx="6624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9440000">
              <a:off x="7656840" y="3047400"/>
              <a:ext cx="40680" cy="91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rot="19440000">
              <a:off x="7506360" y="2828520"/>
              <a:ext cx="4068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rot="19440000">
              <a:off x="7583400" y="2936160"/>
              <a:ext cx="40320" cy="91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6324840" y="2743200"/>
            <a:ext cx="87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o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315200" y="22096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924320" y="19810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6: Oscillators and tim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 is a critical part of most biological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feedback with delay can give oscill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eedback coupled with high threshold collapse gives relaxation oscill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up repressi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up Ca oscil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up other oscillations: cell cycle, diurnal rhythm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4038480" y="2362320"/>
            <a:ext cx="487692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6: Oscillator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34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ic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-&gt; 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con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agation of sign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1" name="Ca_osc" descr=""/>
          <p:cNvPicPr/>
          <p:nvPr/>
        </p:nvPicPr>
        <p:blipFill>
          <a:blip r:embed="rId1"/>
          <a:stretch/>
        </p:blipFill>
        <p:spPr>
          <a:xfrm>
            <a:off x="4114800" y="4724280"/>
            <a:ext cx="4778280" cy="2000520"/>
          </a:xfrm>
          <a:prstGeom prst="rect">
            <a:avLst/>
          </a:prstGeom>
          <a:ln w="0">
            <a:noFill/>
          </a:ln>
        </p:spPr>
      </p:pic>
      <p:pic>
        <p:nvPicPr>
          <p:cNvPr id="1482" name="IP3R_Ca_dep" descr=""/>
          <p:cNvPicPr/>
          <p:nvPr/>
        </p:nvPicPr>
        <p:blipFill>
          <a:blip r:embed="rId2"/>
          <a:stretch/>
        </p:blipFill>
        <p:spPr>
          <a:xfrm>
            <a:off x="4114800" y="2514600"/>
            <a:ext cx="4754520" cy="2193840"/>
          </a:xfrm>
          <a:prstGeom prst="rect">
            <a:avLst/>
          </a:prstGeom>
          <a:ln w="0">
            <a:noFill/>
          </a:ln>
        </p:spPr>
      </p:pic>
      <p:sp>
        <p:nvSpPr>
          <p:cNvPr id="1483" name=""/>
          <p:cNvSpPr/>
          <p:nvPr/>
        </p:nvSpPr>
        <p:spPr>
          <a:xfrm>
            <a:off x="5410080" y="1676520"/>
            <a:ext cx="838440" cy="533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3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858000" y="1600200"/>
            <a:ext cx="990720" cy="68580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+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248520" y="21337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6248160" y="17524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5418000" y="1676520"/>
            <a:ext cx="2845080" cy="495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6: Tim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51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time-cour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oper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0" name="" descr=""/>
          <p:cNvPicPr/>
          <p:nvPr/>
        </p:nvPicPr>
        <p:blipFill>
          <a:blip r:embed="rId1"/>
          <a:stretch/>
        </p:blipFill>
        <p:spPr>
          <a:xfrm>
            <a:off x="5554800" y="1752480"/>
            <a:ext cx="258912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APK tuning to paired pul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492" name="" descr=""/>
          <p:cNvPicPr/>
          <p:nvPr/>
        </p:nvPicPr>
        <p:blipFill>
          <a:blip r:embed="rId1"/>
          <a:srcRect l="0" t="0" r="23244" b="0"/>
          <a:stretch/>
        </p:blipFill>
        <p:spPr>
          <a:xfrm>
            <a:off x="2133720" y="1371600"/>
            <a:ext cx="4952880" cy="4130640"/>
          </a:xfrm>
          <a:prstGeom prst="rect">
            <a:avLst/>
          </a:prstGeom>
          <a:ln w="0">
            <a:noFill/>
          </a:ln>
        </p:spPr>
      </p:pic>
      <p:sp>
        <p:nvSpPr>
          <p:cNvPr id="1493" name=""/>
          <p:cNvSpPr/>
          <p:nvPr/>
        </p:nvSpPr>
        <p:spPr>
          <a:xfrm>
            <a:off x="3124080" y="5638680"/>
            <a:ext cx="3124440" cy="152640"/>
          </a:xfrm>
          <a:custGeom>
            <a:avLst/>
            <a:gdLst/>
            <a:ahLst/>
            <a:rect l="l" t="t" r="r" b="b"/>
            <a:pathLst>
              <a:path w="1968" h="96">
                <a:moveTo>
                  <a:pt x="0" y="96"/>
                </a:moveTo>
                <a:lnTo>
                  <a:pt x="192" y="96"/>
                </a:lnTo>
                <a:lnTo>
                  <a:pt x="192" y="0"/>
                </a:lnTo>
                <a:lnTo>
                  <a:pt x="240" y="0"/>
                </a:lnTo>
                <a:lnTo>
                  <a:pt x="240" y="96"/>
                </a:lnTo>
                <a:lnTo>
                  <a:pt x="288" y="96"/>
                </a:lnTo>
                <a:lnTo>
                  <a:pt x="288" y="0"/>
                </a:lnTo>
                <a:lnTo>
                  <a:pt x="336" y="0"/>
                </a:lnTo>
                <a:lnTo>
                  <a:pt x="336" y="96"/>
                </a:lnTo>
                <a:lnTo>
                  <a:pt x="1968" y="9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124080" y="5943600"/>
            <a:ext cx="3111480" cy="152280"/>
          </a:xfrm>
          <a:custGeom>
            <a:avLst/>
            <a:gdLst/>
            <a:ahLst/>
            <a:rect l="l" t="t" r="r" b="b"/>
            <a:pathLst>
              <a:path w="1960" h="96">
                <a:moveTo>
                  <a:pt x="0" y="96"/>
                </a:moveTo>
                <a:lnTo>
                  <a:pt x="192" y="96"/>
                </a:lnTo>
                <a:lnTo>
                  <a:pt x="192" y="0"/>
                </a:lnTo>
                <a:lnTo>
                  <a:pt x="240" y="0"/>
                </a:lnTo>
                <a:lnTo>
                  <a:pt x="240" y="96"/>
                </a:lnTo>
                <a:lnTo>
                  <a:pt x="432" y="96"/>
                </a:lnTo>
                <a:lnTo>
                  <a:pt x="432" y="0"/>
                </a:lnTo>
                <a:lnTo>
                  <a:pt x="480" y="0"/>
                </a:lnTo>
                <a:lnTo>
                  <a:pt x="480" y="96"/>
                </a:lnTo>
                <a:lnTo>
                  <a:pt x="1960" y="9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124080" y="6248520"/>
            <a:ext cx="3124440" cy="152280"/>
          </a:xfrm>
          <a:custGeom>
            <a:avLst/>
            <a:gdLst/>
            <a:ahLst/>
            <a:rect l="l" t="t" r="r" b="b"/>
            <a:pathLst>
              <a:path w="1968" h="96">
                <a:moveTo>
                  <a:pt x="0" y="96"/>
                </a:moveTo>
                <a:lnTo>
                  <a:pt x="192" y="96"/>
                </a:lnTo>
                <a:lnTo>
                  <a:pt x="192" y="0"/>
                </a:lnTo>
                <a:lnTo>
                  <a:pt x="240" y="0"/>
                </a:lnTo>
                <a:lnTo>
                  <a:pt x="240" y="96"/>
                </a:lnTo>
                <a:lnTo>
                  <a:pt x="768" y="96"/>
                </a:lnTo>
                <a:lnTo>
                  <a:pt x="768" y="0"/>
                </a:lnTo>
                <a:lnTo>
                  <a:pt x="816" y="0"/>
                </a:lnTo>
                <a:lnTo>
                  <a:pt x="816" y="96"/>
                </a:lnTo>
                <a:lnTo>
                  <a:pt x="1968" y="9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124080" y="6553080"/>
            <a:ext cx="3124440" cy="152640"/>
          </a:xfrm>
          <a:custGeom>
            <a:avLst/>
            <a:gdLst/>
            <a:ahLst/>
            <a:rect l="l" t="t" r="r" b="b"/>
            <a:pathLst>
              <a:path w="1968" h="96">
                <a:moveTo>
                  <a:pt x="0" y="96"/>
                </a:moveTo>
                <a:lnTo>
                  <a:pt x="192" y="96"/>
                </a:lnTo>
                <a:lnTo>
                  <a:pt x="192" y="0"/>
                </a:lnTo>
                <a:lnTo>
                  <a:pt x="240" y="0"/>
                </a:lnTo>
                <a:lnTo>
                  <a:pt x="240" y="96"/>
                </a:lnTo>
                <a:lnTo>
                  <a:pt x="1392" y="96"/>
                </a:lnTo>
                <a:lnTo>
                  <a:pt x="1392" y="0"/>
                </a:lnTo>
                <a:lnTo>
                  <a:pt x="1440" y="0"/>
                </a:lnTo>
                <a:lnTo>
                  <a:pt x="1440" y="96"/>
                </a:lnTo>
                <a:lnTo>
                  <a:pt x="1968" y="9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7: Neural network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1676520" y="1905120"/>
            <a:ext cx="6629400" cy="4724280"/>
            <a:chOff x="1676520" y="1905120"/>
            <a:chExt cx="6629400" cy="4724280"/>
          </a:xfrm>
        </p:grpSpPr>
        <p:sp>
          <p:nvSpPr>
            <p:cNvPr id="1499" name=""/>
            <p:cNvSpPr/>
            <p:nvPr/>
          </p:nvSpPr>
          <p:spPr>
            <a:xfrm>
              <a:off x="1676520" y="1905120"/>
              <a:ext cx="6629400" cy="472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00" name="" descr=""/>
            <p:cNvPicPr/>
            <p:nvPr/>
          </p:nvPicPr>
          <p:blipFill>
            <a:blip r:embed="rId1"/>
            <a:stretch/>
          </p:blipFill>
          <p:spPr>
            <a:xfrm>
              <a:off x="2523960" y="2085840"/>
              <a:ext cx="4096080" cy="360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fca"/>
                </a:solidFill>
                <a:latin typeface="Book Antiqua"/>
              </a:rPr>
              <a:t>Computation by chemical signalling</a:t>
            </a:r>
            <a:endParaRPr b="0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1" name=""/>
          <p:cNvSpPr/>
          <p:nvPr/>
        </p:nvSpPr>
        <p:spPr>
          <a:xfrm>
            <a:off x="2540160" y="2209680"/>
            <a:ext cx="4538520" cy="3810240"/>
          </a:xfrm>
          <a:prstGeom prst="ellipse">
            <a:avLst/>
          </a:prstGeom>
          <a:gradFill rotWithShape="0">
            <a:gsLst>
              <a:gs pos="0">
                <a:srgbClr val="dc0081"/>
              </a:gs>
              <a:gs pos="100000">
                <a:srgbClr val="af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600" y="2438280"/>
            <a:ext cx="1355760" cy="1752840"/>
          </a:xfrm>
          <a:prstGeom prst="ellipse">
            <a:avLst/>
          </a:prstGeom>
          <a:gradFill rotWithShape="0">
            <a:gsLst>
              <a:gs pos="0">
                <a:srgbClr val="dc0081"/>
              </a:gs>
              <a:gs pos="100000">
                <a:srgbClr val="c4007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68000" y="1598760"/>
            <a:ext cx="132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pu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1720" y="234648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930320" y="2362320"/>
            <a:ext cx="1218960" cy="990360"/>
            <a:chOff x="1930320" y="2362320"/>
            <a:chExt cx="1218960" cy="990360"/>
          </a:xfrm>
        </p:grpSpPr>
        <p:sp>
          <p:nvSpPr>
            <p:cNvPr id="56" name=""/>
            <p:cNvSpPr/>
            <p:nvPr/>
          </p:nvSpPr>
          <p:spPr>
            <a:xfrm>
              <a:off x="2336760" y="2362320"/>
              <a:ext cx="135360" cy="1522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dfe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39800" y="2514600"/>
              <a:ext cx="135360" cy="1522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dfe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13920" y="2362320"/>
              <a:ext cx="135360" cy="1522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dfe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43200" y="2362320"/>
              <a:ext cx="135360" cy="1522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dfe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46240" y="2590920"/>
              <a:ext cx="135360" cy="1522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dfe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30320" y="2971800"/>
              <a:ext cx="203040" cy="228600"/>
            </a:xfrm>
            <a:prstGeom prst="triangle">
              <a:avLst>
                <a:gd name="adj" fmla="val 49968"/>
              </a:avLst>
            </a:prstGeom>
            <a:gradFill rotWithShape="0">
              <a:gsLst>
                <a:gs pos="0">
                  <a:srgbClr val="aaffa3"/>
                </a:gs>
                <a:gs pos="100000">
                  <a:srgbClr val="87cb8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68720" y="2743200"/>
              <a:ext cx="203040" cy="228600"/>
            </a:xfrm>
            <a:prstGeom prst="triangle">
              <a:avLst>
                <a:gd name="adj" fmla="val 49968"/>
              </a:avLst>
            </a:prstGeom>
            <a:gradFill rotWithShape="0">
              <a:gsLst>
                <a:gs pos="0">
                  <a:srgbClr val="aaffa3"/>
                </a:gs>
                <a:gs pos="100000">
                  <a:srgbClr val="87cb8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07480" y="2743200"/>
              <a:ext cx="203040" cy="228600"/>
            </a:xfrm>
            <a:prstGeom prst="triangle">
              <a:avLst>
                <a:gd name="adj" fmla="val 49968"/>
              </a:avLst>
            </a:prstGeom>
            <a:gradFill rotWithShape="0">
              <a:gsLst>
                <a:gs pos="0">
                  <a:srgbClr val="aaffa3"/>
                </a:gs>
                <a:gs pos="100000">
                  <a:srgbClr val="87cb8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07480" y="3124080"/>
              <a:ext cx="203040" cy="228600"/>
            </a:xfrm>
            <a:prstGeom prst="triangle">
              <a:avLst>
                <a:gd name="adj" fmla="val 49968"/>
              </a:avLst>
            </a:prstGeom>
            <a:gradFill rotWithShape="0">
              <a:gsLst>
                <a:gs pos="0">
                  <a:srgbClr val="aaffa3"/>
                </a:gs>
                <a:gs pos="100000">
                  <a:srgbClr val="87cb8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4800600"/>
            <a:ext cx="2811600" cy="2055960"/>
          </a:xfrm>
          <a:prstGeom prst="ellipse">
            <a:avLst/>
          </a:prstGeom>
          <a:gradFill rotWithShape="0">
            <a:gsLst>
              <a:gs pos="0">
                <a:srgbClr val="d989b8"/>
              </a:gs>
              <a:gs pos="100000">
                <a:srgbClr val="ac6d9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405160" y="4876560"/>
            <a:ext cx="269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540160" y="5028840"/>
            <a:ext cx="2714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14760" y="5775480"/>
            <a:ext cx="123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-c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4480" y="5410080"/>
            <a:ext cx="914400" cy="1143000"/>
          </a:xfrm>
          <a:prstGeom prst="ellipse">
            <a:avLst/>
          </a:prstGeom>
          <a:gradFill rotWithShape="0">
            <a:gsLst>
              <a:gs pos="0">
                <a:srgbClr val="d989b8"/>
              </a:gs>
              <a:gs pos="100000">
                <a:srgbClr val="c27aa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20840" y="3581280"/>
            <a:ext cx="1289160" cy="306360"/>
          </a:xfrm>
          <a:custGeom>
            <a:avLst/>
            <a:gdLst/>
            <a:ahLst/>
            <a:rect l="l" t="t" r="r" b="b"/>
            <a:pathLst>
              <a:path w="913" h="193">
                <a:moveTo>
                  <a:pt x="0" y="0"/>
                </a:moveTo>
                <a:lnTo>
                  <a:pt x="528" y="48"/>
                </a:lnTo>
                <a:lnTo>
                  <a:pt x="432" y="96"/>
                </a:lnTo>
                <a:lnTo>
                  <a:pt x="912" y="192"/>
                </a:lnTo>
                <a:lnTo>
                  <a:pt x="240" y="144"/>
                </a:lnTo>
                <a:lnTo>
                  <a:pt x="336" y="96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7080" y="3260880"/>
            <a:ext cx="1356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62280" y="4038480"/>
            <a:ext cx="677880" cy="609840"/>
          </a:xfrm>
          <a:prstGeom prst="rightArrow">
            <a:avLst>
              <a:gd name="adj1" fmla="val 75009"/>
              <a:gd name="adj2" fmla="val 55615"/>
            </a:avLst>
          </a:prstGeom>
          <a:gradFill rotWithShape="0">
            <a:gsLst>
              <a:gs pos="0">
                <a:srgbClr val="c7c900"/>
              </a:gs>
              <a:gs pos="50000">
                <a:srgbClr val="fafd00"/>
              </a:gs>
              <a:gs pos="100000">
                <a:srgbClr val="c7c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040" y="4098960"/>
            <a:ext cx="160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chan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62520" y="3543480"/>
            <a:ext cx="3241080" cy="1721520"/>
            <a:chOff x="3062520" y="3543480"/>
            <a:chExt cx="3241080" cy="1721520"/>
          </a:xfrm>
        </p:grpSpPr>
        <p:grpSp>
          <p:nvGrpSpPr>
            <p:cNvPr id="75" name=""/>
            <p:cNvGrpSpPr/>
            <p:nvPr/>
          </p:nvGrpSpPr>
          <p:grpSpPr>
            <a:xfrm>
              <a:off x="4353120" y="4400640"/>
              <a:ext cx="333000" cy="129960"/>
              <a:chOff x="4353120" y="4400640"/>
              <a:chExt cx="333000" cy="129960"/>
            </a:xfrm>
          </p:grpSpPr>
          <p:sp>
            <p:nvSpPr>
              <p:cNvPr id="76" name=""/>
              <p:cNvSpPr/>
              <p:nvPr/>
            </p:nvSpPr>
            <p:spPr>
              <a:xfrm>
                <a:off x="4353120" y="4402080"/>
                <a:ext cx="333000" cy="11268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cfdb1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442040" y="4400640"/>
                <a:ext cx="1785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4811760" y="4400640"/>
              <a:ext cx="331560" cy="129960"/>
              <a:chOff x="4811760" y="4400640"/>
              <a:chExt cx="331560" cy="129960"/>
            </a:xfrm>
          </p:grpSpPr>
          <p:sp>
            <p:nvSpPr>
              <p:cNvPr id="79" name=""/>
              <p:cNvSpPr/>
              <p:nvPr/>
            </p:nvSpPr>
            <p:spPr>
              <a:xfrm>
                <a:off x="4811760" y="4402080"/>
                <a:ext cx="331560" cy="11268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cfdb1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865760" y="4400640"/>
                <a:ext cx="2181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PD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4916160" y="4514760"/>
              <a:ext cx="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653360" y="4699080"/>
              <a:ext cx="26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72080" y="4941720"/>
              <a:ext cx="36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037840" y="4519440"/>
              <a:ext cx="0" cy="41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19440" y="451476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19440" y="475920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4381200" y="4627440"/>
              <a:ext cx="259920" cy="149400"/>
              <a:chOff x="4381200" y="4627440"/>
              <a:chExt cx="259920" cy="149400"/>
            </a:xfrm>
          </p:grpSpPr>
          <p:sp>
            <p:nvSpPr>
              <p:cNvPr id="88" name=""/>
              <p:cNvSpPr/>
              <p:nvPr/>
            </p:nvSpPr>
            <p:spPr>
              <a:xfrm>
                <a:off x="4381200" y="4627440"/>
                <a:ext cx="259920" cy="14940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50000">
                    <a:srgbClr val="fcfdb1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401000" y="4656240"/>
                <a:ext cx="239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AMP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353120" y="4888080"/>
              <a:ext cx="333000" cy="129960"/>
              <a:chOff x="4353120" y="4888080"/>
              <a:chExt cx="333000" cy="129960"/>
            </a:xfrm>
          </p:grpSpPr>
          <p:sp>
            <p:nvSpPr>
              <p:cNvPr id="91" name=""/>
              <p:cNvSpPr/>
              <p:nvPr/>
            </p:nvSpPr>
            <p:spPr>
              <a:xfrm>
                <a:off x="4353120" y="4889520"/>
                <a:ext cx="333000" cy="11268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cfdb1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08200" y="4888080"/>
                <a:ext cx="2257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PK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652280" y="4665600"/>
              <a:ext cx="61920" cy="619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37840" y="49417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160240" y="4454640"/>
              <a:ext cx="244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772800" y="4135320"/>
              <a:ext cx="331560" cy="129960"/>
              <a:chOff x="3772800" y="4135320"/>
              <a:chExt cx="331560" cy="129960"/>
            </a:xfrm>
          </p:grpSpPr>
          <p:sp>
            <p:nvSpPr>
              <p:cNvPr id="97" name=""/>
              <p:cNvSpPr/>
              <p:nvPr/>
            </p:nvSpPr>
            <p:spPr>
              <a:xfrm>
                <a:off x="3772800" y="4137120"/>
                <a:ext cx="331560" cy="11268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7160" y="4135320"/>
                <a:ext cx="1969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So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940560" y="399744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95040" y="4454640"/>
              <a:ext cx="63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4840" y="4478400"/>
              <a:ext cx="249840" cy="78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36400" y="4443480"/>
              <a:ext cx="721080" cy="71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3320280" y="4454640"/>
              <a:ext cx="108000" cy="113040"/>
              <a:chOff x="3320280" y="4454640"/>
              <a:chExt cx="108000" cy="113040"/>
            </a:xfrm>
          </p:grpSpPr>
          <p:sp>
            <p:nvSpPr>
              <p:cNvPr id="104" name=""/>
              <p:cNvSpPr/>
              <p:nvPr/>
            </p:nvSpPr>
            <p:spPr>
              <a:xfrm rot="7860000">
                <a:off x="3322440" y="4484160"/>
                <a:ext cx="103320" cy="5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3343320" y="4500720"/>
                <a:ext cx="40680" cy="45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788640" y="4485240"/>
              <a:ext cx="108000" cy="106200"/>
              <a:chOff x="3788640" y="4485240"/>
              <a:chExt cx="108000" cy="106200"/>
            </a:xfrm>
          </p:grpSpPr>
          <p:sp>
            <p:nvSpPr>
              <p:cNvPr id="107" name=""/>
              <p:cNvSpPr/>
              <p:nvPr/>
            </p:nvSpPr>
            <p:spPr>
              <a:xfrm rot="13380000">
                <a:off x="3796920" y="4507920"/>
                <a:ext cx="9144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3808800" y="4506480"/>
                <a:ext cx="45000" cy="41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378960" y="5074920"/>
              <a:ext cx="108720" cy="95400"/>
              <a:chOff x="3378960" y="5074920"/>
              <a:chExt cx="108720" cy="95400"/>
            </a:xfrm>
          </p:grpSpPr>
          <p:sp>
            <p:nvSpPr>
              <p:cNvPr id="110" name=""/>
              <p:cNvSpPr/>
              <p:nvPr/>
            </p:nvSpPr>
            <p:spPr>
              <a:xfrm rot="1620000">
                <a:off x="3387600" y="5092200"/>
                <a:ext cx="9144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19640" y="5116680"/>
                <a:ext cx="53640" cy="2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928680" y="4797360"/>
              <a:ext cx="61920" cy="106560"/>
              <a:chOff x="3928680" y="4797360"/>
              <a:chExt cx="61920" cy="106560"/>
            </a:xfrm>
          </p:grpSpPr>
          <p:sp>
            <p:nvSpPr>
              <p:cNvPr id="113" name=""/>
              <p:cNvSpPr/>
              <p:nvPr/>
            </p:nvSpPr>
            <p:spPr>
              <a:xfrm rot="16440000">
                <a:off x="3907800" y="4822920"/>
                <a:ext cx="102960" cy="5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3953160" y="4805280"/>
                <a:ext cx="3960" cy="6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208680" y="4817160"/>
              <a:ext cx="72000" cy="111600"/>
              <a:chOff x="3208680" y="4817160"/>
              <a:chExt cx="72000" cy="111600"/>
            </a:xfrm>
          </p:grpSpPr>
          <p:sp>
            <p:nvSpPr>
              <p:cNvPr id="116" name=""/>
              <p:cNvSpPr/>
              <p:nvPr/>
            </p:nvSpPr>
            <p:spPr>
              <a:xfrm rot="4740000">
                <a:off x="3192840" y="4845960"/>
                <a:ext cx="103320" cy="5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241800" y="4857840"/>
                <a:ext cx="11160" cy="60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401640" y="4390920"/>
              <a:ext cx="330120" cy="129960"/>
              <a:chOff x="3401640" y="4390920"/>
              <a:chExt cx="330120" cy="129960"/>
            </a:xfrm>
          </p:grpSpPr>
          <p:sp>
            <p:nvSpPr>
              <p:cNvPr id="119" name=""/>
              <p:cNvSpPr/>
              <p:nvPr/>
            </p:nvSpPr>
            <p:spPr>
              <a:xfrm>
                <a:off x="3401640" y="4397400"/>
                <a:ext cx="330120" cy="11124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ccce8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452040" y="4390920"/>
                <a:ext cx="22140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PKC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162960" y="4691160"/>
              <a:ext cx="184680" cy="234000"/>
              <a:chOff x="3162960" y="4691160"/>
              <a:chExt cx="184680" cy="234000"/>
            </a:xfrm>
          </p:grpSpPr>
          <p:sp>
            <p:nvSpPr>
              <p:cNvPr id="122" name=""/>
              <p:cNvSpPr/>
              <p:nvPr/>
            </p:nvSpPr>
            <p:spPr>
              <a:xfrm>
                <a:off x="3162960" y="4691160"/>
                <a:ext cx="184680" cy="147600"/>
              </a:xfrm>
              <a:prstGeom prst="ellipse">
                <a:avLst/>
              </a:prstGeom>
              <a:gradFill rotWithShape="0">
                <a:gsLst>
                  <a:gs pos="0">
                    <a:srgbClr val="f95ab7"/>
                  </a:gs>
                  <a:gs pos="50000">
                    <a:srgbClr val="fccce8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71240" y="4703760"/>
                <a:ext cx="16776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A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788280" y="4560840"/>
              <a:ext cx="330120" cy="129960"/>
              <a:chOff x="3788280" y="4560840"/>
              <a:chExt cx="330120" cy="129960"/>
            </a:xfrm>
          </p:grpSpPr>
          <p:sp>
            <p:nvSpPr>
              <p:cNvPr id="125" name=""/>
              <p:cNvSpPr/>
              <p:nvPr/>
            </p:nvSpPr>
            <p:spPr>
              <a:xfrm>
                <a:off x="3788280" y="4568760"/>
                <a:ext cx="330120" cy="11124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ccce8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58840" y="4560840"/>
                <a:ext cx="1861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Ra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3706200" y="4879800"/>
              <a:ext cx="330120" cy="330480"/>
              <a:chOff x="3706200" y="4879800"/>
              <a:chExt cx="330120" cy="330480"/>
            </a:xfrm>
          </p:grpSpPr>
          <p:sp>
            <p:nvSpPr>
              <p:cNvPr id="128" name=""/>
              <p:cNvSpPr/>
              <p:nvPr/>
            </p:nvSpPr>
            <p:spPr>
              <a:xfrm>
                <a:off x="3706200" y="4879800"/>
                <a:ext cx="330120" cy="330480"/>
              </a:xfrm>
              <a:custGeom>
                <a:avLst/>
                <a:gdLst>
                  <a:gd name="textAreaLeft" fmla="*/ 23760 w 330120"/>
                  <a:gd name="textAreaRight" fmla="*/ 306360 w 330120"/>
                  <a:gd name="textAreaTop" fmla="*/ 23760 h 330480"/>
                  <a:gd name="textAreaBottom" fmla="*/ 306720 h 330480"/>
                </a:gdLst>
                <a:ahLst/>
                <a:rect l="textAreaLeft" t="textAreaTop" r="textAreaRight" b="textAreaBottom"/>
                <a:pathLst>
                  <a:path w="21600" h="21624">
                    <a:moveTo>
                      <a:pt x="5341" y="0"/>
                    </a:moveTo>
                    <a:arcTo wR="5341" hR="5341" stAng="16200000" swAng="-5400000"/>
                    <a:lnTo>
                      <a:pt x="0" y="16283"/>
                    </a:lnTo>
                    <a:arcTo wR="5341" hR="5341" stAng="10800000" swAng="-5400000"/>
                    <a:lnTo>
                      <a:pt x="16259" y="21624"/>
                    </a:lnTo>
                    <a:arcTo wR="5341" hR="5341" stAng="5400000" swAng="-5400000"/>
                    <a:lnTo>
                      <a:pt x="21600" y="5341"/>
                    </a:lnTo>
                    <a:arcTo wR="5341" hR="5341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95ab7"/>
                  </a:gs>
                  <a:gs pos="50000">
                    <a:srgbClr val="fccce8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721320" y="4933800"/>
                <a:ext cx="2930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MAPK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13400" y="5016600"/>
                <a:ext cx="3081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cascad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151440" y="4987800"/>
              <a:ext cx="330120" cy="142560"/>
              <a:chOff x="3151440" y="4987800"/>
              <a:chExt cx="330120" cy="142560"/>
            </a:xfrm>
          </p:grpSpPr>
          <p:sp>
            <p:nvSpPr>
              <p:cNvPr id="132" name=""/>
              <p:cNvSpPr/>
              <p:nvPr/>
            </p:nvSpPr>
            <p:spPr>
              <a:xfrm>
                <a:off x="3151440" y="4994280"/>
                <a:ext cx="330120" cy="11268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ccce8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87800" y="4987800"/>
                <a:ext cx="241200" cy="1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PLA</a:t>
                </a:r>
                <a:r>
                  <a:rPr b="0" lang="en-US" sz="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772800" y="3890880"/>
              <a:ext cx="331560" cy="129960"/>
              <a:chOff x="3772800" y="3890880"/>
              <a:chExt cx="331560" cy="129960"/>
            </a:xfrm>
          </p:grpSpPr>
          <p:sp>
            <p:nvSpPr>
              <p:cNvPr id="135" name=""/>
              <p:cNvSpPr/>
              <p:nvPr/>
            </p:nvSpPr>
            <p:spPr>
              <a:xfrm>
                <a:off x="3772800" y="3894120"/>
                <a:ext cx="331560" cy="11124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28240" y="3890880"/>
                <a:ext cx="1922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Grb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689280" y="3662280"/>
              <a:ext cx="121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497760" y="3543480"/>
              <a:ext cx="225000" cy="220320"/>
              <a:chOff x="3497760" y="3543480"/>
              <a:chExt cx="22500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537000" y="3543480"/>
                <a:ext cx="185760" cy="220320"/>
              </a:xfrm>
              <a:custGeom>
                <a:avLst/>
                <a:gdLst>
                  <a:gd name="textAreaLeft" fmla="*/ 13320 w 185760"/>
                  <a:gd name="textAreaRight" fmla="*/ 172440 w 185760"/>
                  <a:gd name="textAreaTop" fmla="*/ 13320 h 220320"/>
                  <a:gd name="textAreaBottom" fmla="*/ 207000 h 220320"/>
                </a:gdLst>
                <a:ahLst/>
                <a:rect l="textAreaLeft" t="textAreaTop" r="textAreaRight" b="textAreaBottom"/>
                <a:pathLst>
                  <a:path w="21600" h="25611">
                    <a:moveTo>
                      <a:pt x="5337" y="0"/>
                    </a:moveTo>
                    <a:arcTo wR="5337" hR="5337" stAng="16200000" swAng="-5400000"/>
                    <a:lnTo>
                      <a:pt x="0" y="20274"/>
                    </a:lnTo>
                    <a:arcTo wR="5337" hR="5337" stAng="10800000" swAng="-5400000"/>
                    <a:lnTo>
                      <a:pt x="16263" y="25611"/>
                    </a:lnTo>
                    <a:arcTo wR="5337" hR="5337" stAng="5400000" swAng="-5400000"/>
                    <a:lnTo>
                      <a:pt x="21600" y="5337"/>
                    </a:lnTo>
                    <a:arcTo wR="5337" hR="5337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3497760" y="3611520"/>
                <a:ext cx="202680" cy="131760"/>
                <a:chOff x="3497760" y="3611520"/>
                <a:chExt cx="202680" cy="1317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507480" y="3618000"/>
                  <a:ext cx="182880" cy="108000"/>
                </a:xfrm>
                <a:prstGeom prst="roundRect">
                  <a:avLst>
                    <a:gd name="adj" fmla="val 2439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497760" y="3611520"/>
                  <a:ext cx="124920" cy="1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543120" y="3613320"/>
                  <a:ext cx="15732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360" rIns="36360" tIns="19080" bIns="19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6160"/>
                      <a:tab algn="l" pos="291960"/>
                      <a:tab algn="l" pos="438120"/>
                      <a:tab algn="l" pos="584280"/>
                      <a:tab algn="l" pos="730080"/>
                      <a:tab algn="l" pos="876240"/>
                      <a:tab algn="l" pos="1022400"/>
                      <a:tab algn="l" pos="1168560"/>
                      <a:tab algn="l" pos="1314360"/>
                      <a:tab algn="l" pos="1460520"/>
                      <a:tab algn="l" pos="1606680"/>
                      <a:tab algn="l" pos="1752480"/>
                      <a:tab algn="l" pos="1898640"/>
                      <a:tab algn="l" pos="2044800"/>
                      <a:tab algn="l" pos="2190600"/>
                      <a:tab algn="l" pos="2336760"/>
                      <a:tab algn="l" pos="2482920"/>
                      <a:tab algn="l" pos="2629080"/>
                      <a:tab algn="l" pos="2774880"/>
                      <a:tab algn="l" pos="2921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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 flipV="1">
              <a:off x="5312880" y="4209840"/>
              <a:ext cx="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21640" y="4210200"/>
              <a:ext cx="119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5390640" y="4643280"/>
              <a:ext cx="331560" cy="129960"/>
              <a:chOff x="5390640" y="4643280"/>
              <a:chExt cx="331560" cy="129960"/>
            </a:xfrm>
          </p:grpSpPr>
          <p:sp>
            <p:nvSpPr>
              <p:cNvPr id="147" name=""/>
              <p:cNvSpPr/>
              <p:nvPr/>
            </p:nvSpPr>
            <p:spPr>
              <a:xfrm>
                <a:off x="5390640" y="4646520"/>
                <a:ext cx="331560" cy="11124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3b1d8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46800" y="4643280"/>
                <a:ext cx="2120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Ca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5556960" y="45147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56960" y="475920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09600" y="445464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09600" y="4941720"/>
              <a:ext cx="244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954040" y="4535280"/>
              <a:ext cx="0" cy="40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5390640" y="4400640"/>
              <a:ext cx="331560" cy="129960"/>
              <a:chOff x="5390640" y="4400640"/>
              <a:chExt cx="331560" cy="129960"/>
            </a:xfrm>
          </p:grpSpPr>
          <p:sp>
            <p:nvSpPr>
              <p:cNvPr id="155" name=""/>
              <p:cNvSpPr/>
              <p:nvPr/>
            </p:nvSpPr>
            <p:spPr>
              <a:xfrm>
                <a:off x="5390640" y="4402080"/>
                <a:ext cx="331560" cy="11268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3b1d8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446440" y="4400640"/>
                <a:ext cx="22428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CaM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312880" y="4911840"/>
              <a:ext cx="60480" cy="601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22720" y="4521240"/>
              <a:ext cx="60480" cy="601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390640" y="4888080"/>
              <a:ext cx="331560" cy="129960"/>
              <a:chOff x="5390640" y="4888080"/>
              <a:chExt cx="331560" cy="129960"/>
            </a:xfrm>
          </p:grpSpPr>
          <p:sp>
            <p:nvSpPr>
              <p:cNvPr id="160" name=""/>
              <p:cNvSpPr/>
              <p:nvPr/>
            </p:nvSpPr>
            <p:spPr>
              <a:xfrm>
                <a:off x="5390640" y="4889520"/>
                <a:ext cx="331560" cy="11268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3b1d8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46440" y="4888080"/>
                <a:ext cx="1969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PP1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6131520" y="4462560"/>
              <a:ext cx="172080" cy="169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095520" y="4483440"/>
              <a:ext cx="73440" cy="111960"/>
              <a:chOff x="6095520" y="4483440"/>
              <a:chExt cx="73440" cy="111960"/>
            </a:xfrm>
          </p:grpSpPr>
          <p:sp>
            <p:nvSpPr>
              <p:cNvPr id="164" name=""/>
              <p:cNvSpPr/>
              <p:nvPr/>
            </p:nvSpPr>
            <p:spPr>
              <a:xfrm rot="4740000">
                <a:off x="6080400" y="4511880"/>
                <a:ext cx="103320" cy="5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130080" y="4524480"/>
                <a:ext cx="12600" cy="58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866920" y="4400640"/>
              <a:ext cx="343800" cy="129960"/>
              <a:chOff x="5866920" y="4400640"/>
              <a:chExt cx="343800" cy="129960"/>
            </a:xfrm>
          </p:grpSpPr>
          <p:sp>
            <p:nvSpPr>
              <p:cNvPr id="167" name=""/>
              <p:cNvSpPr/>
              <p:nvPr/>
            </p:nvSpPr>
            <p:spPr>
              <a:xfrm>
                <a:off x="5879160" y="4402080"/>
                <a:ext cx="331560" cy="11268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3b1d8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6920" y="4400640"/>
                <a:ext cx="3308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CaMKI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519440" y="4210200"/>
              <a:ext cx="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40560" y="375300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798360" y="3543480"/>
              <a:ext cx="280800" cy="220320"/>
              <a:chOff x="3798360" y="3543480"/>
              <a:chExt cx="280800" cy="220320"/>
            </a:xfrm>
          </p:grpSpPr>
          <p:sp>
            <p:nvSpPr>
              <p:cNvPr id="172" name=""/>
              <p:cNvSpPr/>
              <p:nvPr/>
            </p:nvSpPr>
            <p:spPr>
              <a:xfrm>
                <a:off x="3798360" y="3543480"/>
                <a:ext cx="280800" cy="220320"/>
              </a:xfrm>
              <a:prstGeom prst="roundRect">
                <a:avLst>
                  <a:gd name="adj" fmla="val 24708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3808440" y="3611520"/>
                <a:ext cx="268560" cy="129960"/>
                <a:chOff x="3808440" y="3611520"/>
                <a:chExt cx="268560" cy="1299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830400" y="3618000"/>
                  <a:ext cx="180360" cy="108000"/>
                </a:xfrm>
                <a:prstGeom prst="roundRect">
                  <a:avLst>
                    <a:gd name="adj" fmla="val 2439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808440" y="3611520"/>
                  <a:ext cx="2685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360" rIns="36360" tIns="19080" bIns="19080" anchor="t">
                  <a:spAutoFit/>
                </a:bodyPr>
                <a:p>
                  <a:pPr>
                    <a:tabLst>
                      <a:tab algn="l" pos="0"/>
                      <a:tab algn="l" pos="146160"/>
                      <a:tab algn="l" pos="291960"/>
                      <a:tab algn="l" pos="438120"/>
                      <a:tab algn="l" pos="584280"/>
                      <a:tab algn="l" pos="730080"/>
                      <a:tab algn="l" pos="876240"/>
                      <a:tab algn="l" pos="1022400"/>
                      <a:tab algn="l" pos="1168560"/>
                      <a:tab algn="l" pos="1314360"/>
                      <a:tab algn="l" pos="1460520"/>
                      <a:tab algn="l" pos="1606680"/>
                      <a:tab algn="l" pos="1752480"/>
                      <a:tab algn="l" pos="1898640"/>
                      <a:tab algn="l" pos="2044800"/>
                      <a:tab algn="l" pos="2190600"/>
                      <a:tab algn="l" pos="2336760"/>
                      <a:tab algn="l" pos="2482920"/>
                      <a:tab algn="l" pos="2629080"/>
                      <a:tab algn="l" pos="2774880"/>
                      <a:tab algn="l" pos="2921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EGFR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74320" y="3613320"/>
                  <a:ext cx="1195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5556960" y="4210200"/>
              <a:ext cx="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441040" y="4105440"/>
              <a:ext cx="214920" cy="149040"/>
              <a:chOff x="5441040" y="4105440"/>
              <a:chExt cx="214920" cy="149040"/>
            </a:xfrm>
          </p:grpSpPr>
          <p:sp>
            <p:nvSpPr>
              <p:cNvPr id="179" name=""/>
              <p:cNvSpPr/>
              <p:nvPr/>
            </p:nvSpPr>
            <p:spPr>
              <a:xfrm>
                <a:off x="5445720" y="4105440"/>
                <a:ext cx="210240" cy="14904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441040" y="4133880"/>
                <a:ext cx="17856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452400" y="396720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74560" y="3890880"/>
              <a:ext cx="331560" cy="129960"/>
              <a:chOff x="3274560" y="3890880"/>
              <a:chExt cx="331560" cy="129960"/>
            </a:xfrm>
          </p:grpSpPr>
          <p:sp>
            <p:nvSpPr>
              <p:cNvPr id="183" name=""/>
              <p:cNvSpPr/>
              <p:nvPr/>
            </p:nvSpPr>
            <p:spPr>
              <a:xfrm>
                <a:off x="3274560" y="3894120"/>
                <a:ext cx="331560" cy="11124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28560" y="3890880"/>
                <a:ext cx="21348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PLC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3267360" y="4454640"/>
              <a:ext cx="122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52400" y="424188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3336120" y="4105440"/>
              <a:ext cx="214920" cy="149040"/>
              <a:chOff x="3336120" y="4105440"/>
              <a:chExt cx="214920" cy="149040"/>
            </a:xfrm>
          </p:grpSpPr>
          <p:sp>
            <p:nvSpPr>
              <p:cNvPr id="188" name=""/>
              <p:cNvSpPr/>
              <p:nvPr/>
            </p:nvSpPr>
            <p:spPr>
              <a:xfrm>
                <a:off x="3340800" y="4105440"/>
                <a:ext cx="210240" cy="14904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36120" y="4133880"/>
                <a:ext cx="2106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DAG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062520" y="4379760"/>
              <a:ext cx="214920" cy="149400"/>
              <a:chOff x="3062520" y="4379760"/>
              <a:chExt cx="214920" cy="149400"/>
            </a:xfrm>
          </p:grpSpPr>
          <p:sp>
            <p:nvSpPr>
              <p:cNvPr id="191" name=""/>
              <p:cNvSpPr/>
              <p:nvPr/>
            </p:nvSpPr>
            <p:spPr>
              <a:xfrm>
                <a:off x="3067200" y="4379760"/>
                <a:ext cx="210240" cy="14940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62520" y="4408560"/>
                <a:ext cx="17856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452400" y="375300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353400" y="3543480"/>
              <a:ext cx="212400" cy="220320"/>
              <a:chOff x="3353400" y="3543480"/>
              <a:chExt cx="212400" cy="220320"/>
            </a:xfrm>
          </p:grpSpPr>
          <p:sp>
            <p:nvSpPr>
              <p:cNvPr id="195" name=""/>
              <p:cNvSpPr/>
              <p:nvPr/>
            </p:nvSpPr>
            <p:spPr>
              <a:xfrm>
                <a:off x="3353400" y="3543480"/>
                <a:ext cx="184680" cy="220320"/>
              </a:xfrm>
              <a:custGeom>
                <a:avLst/>
                <a:gdLst>
                  <a:gd name="textAreaLeft" fmla="*/ 13320 w 184680"/>
                  <a:gd name="textAreaRight" fmla="*/ 171360 w 184680"/>
                  <a:gd name="textAreaTop" fmla="*/ 13320 h 220320"/>
                  <a:gd name="textAreaBottom" fmla="*/ 207000 h 220320"/>
                </a:gdLst>
                <a:ahLst/>
                <a:rect l="textAreaLeft" t="textAreaTop" r="textAreaRight" b="textAreaBottom"/>
                <a:pathLst>
                  <a:path w="21600" h="25760">
                    <a:moveTo>
                      <a:pt x="5337" y="0"/>
                    </a:moveTo>
                    <a:arcTo wR="5337" hR="5337" stAng="16200000" swAng="-5400000"/>
                    <a:lnTo>
                      <a:pt x="0" y="20423"/>
                    </a:lnTo>
                    <a:arcTo wR="5337" hR="5337" stAng="10800000" swAng="-5400000"/>
                    <a:lnTo>
                      <a:pt x="16263" y="25760"/>
                    </a:lnTo>
                    <a:arcTo wR="5337" hR="5337" stAng="5400000" swAng="-5400000"/>
                    <a:lnTo>
                      <a:pt x="21600" y="5337"/>
                    </a:lnTo>
                    <a:arcTo wR="5337" hR="5337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3371400" y="3611520"/>
                <a:ext cx="194400" cy="131760"/>
                <a:chOff x="3371400" y="3611520"/>
                <a:chExt cx="194400" cy="1317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385440" y="3618000"/>
                  <a:ext cx="180360" cy="108000"/>
                </a:xfrm>
                <a:prstGeom prst="roundRect">
                  <a:avLst>
                    <a:gd name="adj" fmla="val 2439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371400" y="3611520"/>
                  <a:ext cx="1281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360" rIns="36360" tIns="19080" bIns="19080" anchor="t">
                  <a:spAutoFit/>
                </a:bodyPr>
                <a:p>
                  <a:pPr>
                    <a:tabLst>
                      <a:tab algn="l" pos="0"/>
                      <a:tab algn="l" pos="146160"/>
                      <a:tab algn="l" pos="291960"/>
                      <a:tab algn="l" pos="438120"/>
                      <a:tab algn="l" pos="584280"/>
                      <a:tab algn="l" pos="730080"/>
                      <a:tab algn="l" pos="876240"/>
                      <a:tab algn="l" pos="1022400"/>
                      <a:tab algn="l" pos="1168560"/>
                      <a:tab algn="l" pos="1314360"/>
                      <a:tab algn="l" pos="1460520"/>
                      <a:tab algn="l" pos="1606680"/>
                      <a:tab algn="l" pos="1752480"/>
                      <a:tab algn="l" pos="1898640"/>
                      <a:tab algn="l" pos="2044800"/>
                      <a:tab algn="l" pos="2190600"/>
                      <a:tab algn="l" pos="2336760"/>
                      <a:tab algn="l" pos="2482920"/>
                      <a:tab algn="l" pos="2629080"/>
                      <a:tab algn="l" pos="2774880"/>
                      <a:tab algn="l" pos="2921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425760" y="3613320"/>
                  <a:ext cx="12204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360" rIns="36360" tIns="19080" bIns="19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6160"/>
                      <a:tab algn="l" pos="291960"/>
                      <a:tab algn="l" pos="438120"/>
                      <a:tab algn="l" pos="584280"/>
                      <a:tab algn="l" pos="730080"/>
                      <a:tab algn="l" pos="876240"/>
                      <a:tab algn="l" pos="1022400"/>
                      <a:tab algn="l" pos="1168560"/>
                      <a:tab algn="l" pos="1314360"/>
                      <a:tab algn="l" pos="1460520"/>
                      <a:tab algn="l" pos="1606680"/>
                      <a:tab algn="l" pos="1752480"/>
                      <a:tab algn="l" pos="1898640"/>
                      <a:tab algn="l" pos="2044800"/>
                      <a:tab algn="l" pos="2190600"/>
                      <a:tab algn="l" pos="2336760"/>
                      <a:tab algn="l" pos="2482920"/>
                      <a:tab algn="l" pos="2629080"/>
                      <a:tab algn="l" pos="2774880"/>
                      <a:tab algn="l" pos="2921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3920760" y="4248000"/>
              <a:ext cx="39240" cy="314640"/>
              <a:chOff x="3920760" y="4248000"/>
              <a:chExt cx="39240" cy="314640"/>
            </a:xfrm>
          </p:grpSpPr>
          <p:sp>
            <p:nvSpPr>
              <p:cNvPr id="201" name=""/>
              <p:cNvSpPr/>
              <p:nvPr/>
            </p:nvSpPr>
            <p:spPr>
              <a:xfrm>
                <a:off x="3940560" y="4248000"/>
                <a:ext cx="0" cy="184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40560" y="4470480"/>
                <a:ext cx="0" cy="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3920760" y="4433760"/>
                <a:ext cx="39240" cy="42840"/>
                <a:chOff x="3920760" y="4433760"/>
                <a:chExt cx="39240" cy="428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921120" y="4438800"/>
                  <a:ext cx="38880" cy="37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920760" y="4433760"/>
                  <a:ext cx="39240" cy="37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6" name=""/>
          <p:cNvGrpSpPr/>
          <p:nvPr/>
        </p:nvGrpSpPr>
        <p:grpSpPr>
          <a:xfrm>
            <a:off x="4978800" y="2749680"/>
            <a:ext cx="343440" cy="1142640"/>
            <a:chOff x="4978800" y="2749680"/>
            <a:chExt cx="343440" cy="1142640"/>
          </a:xfrm>
        </p:grpSpPr>
        <p:grpSp>
          <p:nvGrpSpPr>
            <p:cNvPr id="207" name=""/>
            <p:cNvGrpSpPr/>
            <p:nvPr/>
          </p:nvGrpSpPr>
          <p:grpSpPr>
            <a:xfrm>
              <a:off x="4978800" y="2749680"/>
              <a:ext cx="343440" cy="618840"/>
              <a:chOff x="4978800" y="2749680"/>
              <a:chExt cx="343440" cy="61884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4978800" y="2749680"/>
                <a:ext cx="343440" cy="547200"/>
                <a:chOff x="4978800" y="2749680"/>
                <a:chExt cx="343440" cy="54720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4984200" y="2749680"/>
                  <a:ext cx="338040" cy="285480"/>
                  <a:chOff x="4984200" y="2749680"/>
                  <a:chExt cx="338040" cy="28548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4984200" y="274968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10" y="0"/>
                        </a:moveTo>
                        <a:arcTo wR="10800" hR="10800" stAng="-5428647" swAng="542864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10" y="0"/>
                        </a:moveTo>
                        <a:arcTo wR="10800" hR="10800" stAng="-5428647" swAng="5428647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0800000">
                    <a:off x="4984200" y="2750400"/>
                    <a:ext cx="338040" cy="28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" y="10440"/>
                        </a:moveTo>
                        <a:arcTo wR="10800" hR="10800" stAng="-10685451" swAng="5256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" y="10440"/>
                        </a:moveTo>
                        <a:arcTo wR="10800" hR="10800" stAng="-10685451" swAng="5256804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4978800" y="3011400"/>
                  <a:ext cx="343080" cy="285480"/>
                  <a:chOff x="4978800" y="3011400"/>
                  <a:chExt cx="343080" cy="285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4983840" y="301140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" y="10440"/>
                        </a:moveTo>
                        <a:arcTo wR="10800" hR="10800" stAng="-10685451" swAng="5256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" y="10440"/>
                        </a:moveTo>
                        <a:arcTo wR="10800" hR="10800" stAng="-10685451" swAng="5256804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0800000">
                    <a:off x="4978800" y="3011400"/>
                    <a:ext cx="33768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4978800" y="2820960"/>
                <a:ext cx="343440" cy="547560"/>
                <a:chOff x="4978800" y="2820960"/>
                <a:chExt cx="343440" cy="54756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4984200" y="2820960"/>
                  <a:ext cx="338040" cy="285480"/>
                  <a:chOff x="4984200" y="2820960"/>
                  <a:chExt cx="338040" cy="28548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4984200" y="282096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10" y="0"/>
                        </a:moveTo>
                        <a:arcTo wR="10800" hR="10800" stAng="-5428647" swAng="542864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10" y="0"/>
                        </a:moveTo>
                        <a:arcTo wR="10800" hR="10800" stAng="-5428647" swAng="5428647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rot="10800000">
                    <a:off x="4984200" y="282096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" y="10440"/>
                        </a:moveTo>
                        <a:arcTo wR="10800" hR="10800" stAng="-10685451" swAng="5256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" y="10440"/>
                        </a:moveTo>
                        <a:arcTo wR="10800" hR="10800" stAng="-10685451" swAng="5256804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4978800" y="3083040"/>
                  <a:ext cx="343080" cy="285480"/>
                  <a:chOff x="4978800" y="3083040"/>
                  <a:chExt cx="343080" cy="28548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4983840" y="308304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" y="10440"/>
                        </a:moveTo>
                        <a:arcTo wR="10800" hR="10800" stAng="-10685451" swAng="5256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" y="10440"/>
                        </a:moveTo>
                        <a:arcTo wR="10800" hR="10800" stAng="-10685451" swAng="5256804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10800000">
                    <a:off x="4978800" y="3083760"/>
                    <a:ext cx="337680" cy="28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2" name=""/>
            <p:cNvGrpSpPr/>
            <p:nvPr/>
          </p:nvGrpSpPr>
          <p:grpSpPr>
            <a:xfrm>
              <a:off x="4978800" y="3273480"/>
              <a:ext cx="343440" cy="618840"/>
              <a:chOff x="4978800" y="3273480"/>
              <a:chExt cx="343440" cy="61884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4978800" y="3273480"/>
                <a:ext cx="343440" cy="547200"/>
                <a:chOff x="4978800" y="3273480"/>
                <a:chExt cx="343440" cy="54720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4984200" y="3273480"/>
                  <a:ext cx="338040" cy="285480"/>
                  <a:chOff x="4984200" y="3273480"/>
                  <a:chExt cx="338040" cy="28548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4984200" y="327348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10" y="0"/>
                        </a:moveTo>
                        <a:arcTo wR="10800" hR="10800" stAng="-5428647" swAng="542864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10" y="0"/>
                        </a:moveTo>
                        <a:arcTo wR="10800" hR="10800" stAng="-5428647" swAng="5428647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0800000">
                    <a:off x="4984200" y="327348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" y="10440"/>
                        </a:moveTo>
                        <a:arcTo wR="10800" hR="10800" stAng="-10685451" swAng="5256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" y="10440"/>
                        </a:moveTo>
                        <a:arcTo wR="10800" hR="10800" stAng="-10685451" swAng="5256804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4978800" y="3535200"/>
                  <a:ext cx="343080" cy="285480"/>
                  <a:chOff x="4978800" y="3535200"/>
                  <a:chExt cx="343080" cy="28548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4983840" y="353520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" y="10440"/>
                        </a:moveTo>
                        <a:arcTo wR="10800" hR="10800" stAng="-10685451" swAng="5256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" y="10440"/>
                        </a:moveTo>
                        <a:arcTo wR="10800" hR="10800" stAng="-10685451" swAng="5256804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10800000">
                    <a:off x="4978800" y="3535200"/>
                    <a:ext cx="33768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0" name=""/>
              <p:cNvGrpSpPr/>
              <p:nvPr/>
            </p:nvGrpSpPr>
            <p:grpSpPr>
              <a:xfrm>
                <a:off x="4978800" y="3344760"/>
                <a:ext cx="343440" cy="547560"/>
                <a:chOff x="4978800" y="3344760"/>
                <a:chExt cx="343440" cy="5475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4984200" y="3344760"/>
                  <a:ext cx="338040" cy="285480"/>
                  <a:chOff x="4984200" y="3344760"/>
                  <a:chExt cx="338040" cy="285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4984200" y="334476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10" y="0"/>
                        </a:moveTo>
                        <a:arcTo wR="10800" hR="10800" stAng="-5428647" swAng="542864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10" y="0"/>
                        </a:moveTo>
                        <a:arcTo wR="10800" hR="10800" stAng="-5428647" swAng="5428647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10800000">
                    <a:off x="4984200" y="334476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" y="10440"/>
                        </a:moveTo>
                        <a:arcTo wR="10800" hR="10800" stAng="-10685451" swAng="5256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" y="10440"/>
                        </a:moveTo>
                        <a:arcTo wR="10800" hR="10800" stAng="-10685451" swAng="5256804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4978800" y="3606840"/>
                  <a:ext cx="343080" cy="285480"/>
                  <a:chOff x="4978800" y="3606840"/>
                  <a:chExt cx="343080" cy="2854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4983840" y="360684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" y="10440"/>
                        </a:moveTo>
                        <a:arcTo wR="10800" hR="10800" stAng="-10685451" swAng="5256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" y="10440"/>
                        </a:moveTo>
                        <a:arcTo wR="10800" hR="10800" stAng="-10685451" swAng="5256804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10800000">
                    <a:off x="4978800" y="3606840"/>
                    <a:ext cx="33768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37" name=""/>
          <p:cNvSpPr/>
          <p:nvPr/>
        </p:nvSpPr>
        <p:spPr>
          <a:xfrm flipV="1">
            <a:off x="4300560" y="3657240"/>
            <a:ext cx="474480" cy="304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2120" y="1674720"/>
            <a:ext cx="163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tpu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94040" y="234648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13680" y="2438280"/>
            <a:ext cx="135000" cy="152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10280" y="2590920"/>
            <a:ext cx="135000" cy="1522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35800" y="2438280"/>
            <a:ext cx="136440" cy="152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07240" y="2438280"/>
            <a:ext cx="135000" cy="152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03840" y="2666880"/>
            <a:ext cx="135000" cy="152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551720" y="3048120"/>
            <a:ext cx="203040" cy="228600"/>
          </a:xfrm>
          <a:prstGeom prst="triangle">
            <a:avLst>
              <a:gd name="adj" fmla="val 49968"/>
            </a:avLst>
          </a:prstGeom>
          <a:gradFill rotWithShape="0">
            <a:gsLst>
              <a:gs pos="0">
                <a:srgbClr val="ff3300"/>
              </a:gs>
              <a:gs pos="100000">
                <a:srgbClr val="cb2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213680" y="2819520"/>
            <a:ext cx="203040" cy="228600"/>
          </a:xfrm>
          <a:prstGeom prst="triangle">
            <a:avLst>
              <a:gd name="adj" fmla="val 49968"/>
            </a:avLst>
          </a:prstGeom>
          <a:gradFill rotWithShape="0">
            <a:gsLst>
              <a:gs pos="0">
                <a:srgbClr val="ff3300"/>
              </a:gs>
              <a:gs pos="100000">
                <a:srgbClr val="cb2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875640" y="2819520"/>
            <a:ext cx="203040" cy="228600"/>
          </a:xfrm>
          <a:prstGeom prst="triangle">
            <a:avLst>
              <a:gd name="adj" fmla="val 49968"/>
            </a:avLst>
          </a:prstGeom>
          <a:gradFill rotWithShape="0">
            <a:gsLst>
              <a:gs pos="0">
                <a:srgbClr val="ff3300"/>
              </a:gs>
              <a:gs pos="100000">
                <a:srgbClr val="cb2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875640" y="3200400"/>
            <a:ext cx="203040" cy="228600"/>
          </a:xfrm>
          <a:prstGeom prst="triangle">
            <a:avLst>
              <a:gd name="adj" fmla="val 49968"/>
            </a:avLst>
          </a:prstGeom>
          <a:gradFill rotWithShape="0">
            <a:gsLst>
              <a:gs pos="0">
                <a:srgbClr val="ff3300"/>
              </a:gs>
              <a:gs pos="100000">
                <a:srgbClr val="cb2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10280" y="3809880"/>
            <a:ext cx="1289160" cy="306360"/>
          </a:xfrm>
          <a:custGeom>
            <a:avLst/>
            <a:gdLst/>
            <a:ahLst/>
            <a:rect l="l" t="t" r="r" b="b"/>
            <a:pathLst>
              <a:path w="913" h="193">
                <a:moveTo>
                  <a:pt x="0" y="0"/>
                </a:moveTo>
                <a:lnTo>
                  <a:pt x="528" y="48"/>
                </a:lnTo>
                <a:lnTo>
                  <a:pt x="432" y="96"/>
                </a:lnTo>
                <a:lnTo>
                  <a:pt x="912" y="192"/>
                </a:lnTo>
                <a:lnTo>
                  <a:pt x="240" y="144"/>
                </a:lnTo>
                <a:lnTo>
                  <a:pt x="336" y="96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68000" y="3565440"/>
            <a:ext cx="1356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13680" y="4495680"/>
            <a:ext cx="1084320" cy="762120"/>
          </a:xfrm>
          <a:prstGeom prst="ellipse">
            <a:avLst/>
          </a:prstGeom>
          <a:gradFill rotWithShape="0">
            <a:gsLst>
              <a:gs pos="0">
                <a:srgbClr val="dc0081"/>
              </a:gs>
              <a:gs pos="100000">
                <a:srgbClr val="c4007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0120" y="5257800"/>
            <a:ext cx="1084320" cy="762120"/>
          </a:xfrm>
          <a:prstGeom prst="ellipse">
            <a:avLst/>
          </a:prstGeom>
          <a:gradFill rotWithShape="0">
            <a:gsLst>
              <a:gs pos="0">
                <a:srgbClr val="fafd00"/>
              </a:gs>
              <a:gs pos="100000">
                <a:srgbClr val="c7c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08200" y="5241960"/>
            <a:ext cx="193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7: Analogy with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791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highly connected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linear summation of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inputs and outputs from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1828800" y="3581280"/>
            <a:ext cx="5943600" cy="2971800"/>
            <a:chOff x="1828800" y="3581280"/>
            <a:chExt cx="5943600" cy="2971800"/>
          </a:xfrm>
        </p:grpSpPr>
        <p:sp>
          <p:nvSpPr>
            <p:cNvPr id="1504" name=""/>
            <p:cNvSpPr/>
            <p:nvPr/>
          </p:nvSpPr>
          <p:spPr>
            <a:xfrm>
              <a:off x="1828800" y="3581280"/>
              <a:ext cx="5943600" cy="29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05" name="" descr=""/>
            <p:cNvPicPr/>
            <p:nvPr/>
          </p:nvPicPr>
          <p:blipFill>
            <a:blip r:embed="rId1"/>
            <a:stretch/>
          </p:blipFill>
          <p:spPr>
            <a:xfrm>
              <a:off x="2076480" y="3728880"/>
              <a:ext cx="5448240" cy="260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7: Neural network properti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representation: Any given input activates many nodes, any given node represents many possible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earning by example or 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bility to generalize to unfamiliar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bility to handle incomplete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Network may have multiple 'memories' or 'attractors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obus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ually do NOT include time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7: Signalling network properti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s typically activate many molecules through crosstalk, a given messenger may be part of several kinds of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ing by evolution, of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biological input is ever exactly the same. Must generali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s are often degraded. Must handle 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ame network must handle multiple biological contex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ling networks are often robust. mouse KO experiments often produce no result because of functional redunda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: Time is an integral part of the signalling fun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7: Signalling network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19200" y="1980720"/>
            <a:ext cx="7610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many inputs, including time, onto combinations of signalling out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2" name=""/>
          <p:cNvGrpSpPr/>
          <p:nvPr/>
        </p:nvGrpSpPr>
        <p:grpSpPr>
          <a:xfrm>
            <a:off x="1752480" y="3657600"/>
            <a:ext cx="5639040" cy="2819520"/>
            <a:chOff x="1752480" y="3657600"/>
            <a:chExt cx="5639040" cy="2819520"/>
          </a:xfrm>
        </p:grpSpPr>
        <p:sp>
          <p:nvSpPr>
            <p:cNvPr id="1513" name=""/>
            <p:cNvSpPr/>
            <p:nvPr/>
          </p:nvSpPr>
          <p:spPr>
            <a:xfrm>
              <a:off x="1752480" y="3657600"/>
              <a:ext cx="5639040" cy="281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4" name="" descr=""/>
            <p:cNvPicPr/>
            <p:nvPr/>
          </p:nvPicPr>
          <p:blipFill>
            <a:blip r:embed="rId1"/>
            <a:stretch/>
          </p:blipFill>
          <p:spPr>
            <a:xfrm>
              <a:off x="1828800" y="3757680"/>
              <a:ext cx="5486400" cy="269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ummary of Lecture 1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27120" y="17524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lling as information flow and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og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lling block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190760" y="17524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n in/Fan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ve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ve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cillators/ti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al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75640" y="5653080"/>
            <a:ext cx="787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gnalling networks are complex, but analogies help to think about th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rning: These concepts are useful analogies, but all analogies are limi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nformation as chemistr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433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al identit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emical ide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s’ are distinct chemic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consider spatial s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chem2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9085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191120" y="1676520"/>
            <a:ext cx="4800600" cy="358128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nformation as chemistr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al transform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possible inte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44840" y="2849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40280" y="3287880"/>
            <a:ext cx="954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8720" y="28954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*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98800" y="251460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8920" y="3276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4880" y="3276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*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94280" y="3645000"/>
            <a:ext cx="716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944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24560" y="3763800"/>
            <a:ext cx="835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24560" y="3763800"/>
            <a:ext cx="358920" cy="2397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cubicBezTo>
                  <a:pt x="12" y="80"/>
                  <a:pt x="24" y="64"/>
                  <a:pt x="48" y="48"/>
                </a:cubicBezTo>
                <a:cubicBezTo>
                  <a:pt x="72" y="32"/>
                  <a:pt x="108" y="16"/>
                  <a:pt x="14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154720" y="342900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*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teady-state vs. dynamic comput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72" name=""/>
          <p:cNvSpPr/>
          <p:nvPr/>
        </p:nvSpPr>
        <p:spPr>
          <a:xfrm>
            <a:off x="1068120" y="182880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9960" y="1828800"/>
            <a:ext cx="27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(t) = f(x(t), t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160" y="5715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 + Z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34960" y="3048120"/>
            <a:ext cx="3046320" cy="2547360"/>
            <a:chOff x="534960" y="3048120"/>
            <a:chExt cx="3046320" cy="2547360"/>
          </a:xfrm>
        </p:grpSpPr>
        <p:sp>
          <p:nvSpPr>
            <p:cNvPr id="276" name=""/>
            <p:cNvSpPr/>
            <p:nvPr/>
          </p:nvSpPr>
          <p:spPr>
            <a:xfrm>
              <a:off x="1143000" y="3048120"/>
              <a:ext cx="0" cy="19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43000" y="5029200"/>
              <a:ext cx="243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55600" y="3276720"/>
              <a:ext cx="2273400" cy="1706400"/>
            </a:xfrm>
            <a:custGeom>
              <a:avLst/>
              <a:gdLst/>
              <a:ahLst/>
              <a:rect l="l" t="t" r="r" b="b"/>
              <a:pathLst>
                <a:path w="1432" h="1075">
                  <a:moveTo>
                    <a:pt x="0" y="1072"/>
                  </a:moveTo>
                  <a:cubicBezTo>
                    <a:pt x="40" y="1069"/>
                    <a:pt x="161" y="1075"/>
                    <a:pt x="232" y="1056"/>
                  </a:cubicBezTo>
                  <a:cubicBezTo>
                    <a:pt x="303" y="1037"/>
                    <a:pt x="368" y="1016"/>
                    <a:pt x="424" y="960"/>
                  </a:cubicBezTo>
                  <a:cubicBezTo>
                    <a:pt x="480" y="904"/>
                    <a:pt x="512" y="840"/>
                    <a:pt x="568" y="720"/>
                  </a:cubicBezTo>
                  <a:cubicBezTo>
                    <a:pt x="624" y="600"/>
                    <a:pt x="696" y="352"/>
                    <a:pt x="760" y="240"/>
                  </a:cubicBezTo>
                  <a:cubicBezTo>
                    <a:pt x="824" y="128"/>
                    <a:pt x="840" y="88"/>
                    <a:pt x="952" y="48"/>
                  </a:cubicBezTo>
                  <a:cubicBezTo>
                    <a:pt x="1064" y="8"/>
                    <a:pt x="1248" y="4"/>
                    <a:pt x="1432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40080" y="495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496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2286000" y="3809520"/>
              <a:ext cx="0" cy="1219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142640" y="380988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rcRect l="8448" t="31661" r="57483" b="42629"/>
          <a:stretch/>
        </p:blipFill>
        <p:spPr>
          <a:xfrm>
            <a:off x="5029200" y="2895480"/>
            <a:ext cx="3657600" cy="2286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573800" y="3124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69640" y="49528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1480" y="5029200"/>
            <a:ext cx="3581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alog comput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or -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linea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ra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sho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2666880"/>
            <a:ext cx="1066680" cy="5335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st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19920" y="2666880"/>
            <a:ext cx="1295280" cy="53352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24280" y="1828800"/>
            <a:ext cx="1219320" cy="6094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zy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2514600"/>
            <a:ext cx="1295280" cy="241200"/>
          </a:xfrm>
          <a:custGeom>
            <a:avLst/>
            <a:gdLst/>
            <a:ahLst/>
            <a:rect l="l" t="t" r="r" b="b"/>
            <a:pathLst>
              <a:path w="816" h="152">
                <a:moveTo>
                  <a:pt x="0" y="152"/>
                </a:moveTo>
                <a:lnTo>
                  <a:pt x="144" y="0"/>
                </a:lnTo>
                <a:lnTo>
                  <a:pt x="672" y="0"/>
                </a:lnTo>
                <a:lnTo>
                  <a:pt x="816" y="144"/>
                </a:lnTo>
                <a:lnTo>
                  <a:pt x="816" y="48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790960" y="2743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19400" y="190512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enzy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48760" y="268128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 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alog comput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or -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linea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ra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sho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888000" y="3352680"/>
            <a:ext cx="2131920" cy="1755360"/>
            <a:chOff x="3888000" y="3352680"/>
            <a:chExt cx="2131920" cy="1755360"/>
          </a:xfrm>
        </p:grpSpPr>
        <p:sp>
          <p:nvSpPr>
            <p:cNvPr id="299" name=""/>
            <p:cNvSpPr/>
            <p:nvPr/>
          </p:nvSpPr>
          <p:spPr>
            <a:xfrm>
              <a:off x="4251240" y="3352680"/>
              <a:ext cx="0" cy="1363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51240" y="4716360"/>
              <a:ext cx="1768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60960" y="3510000"/>
              <a:ext cx="1647720" cy="1174680"/>
            </a:xfrm>
            <a:custGeom>
              <a:avLst/>
              <a:gdLst/>
              <a:ahLst/>
              <a:rect l="l" t="t" r="r" b="b"/>
              <a:pathLst>
                <a:path w="1432" h="1075">
                  <a:moveTo>
                    <a:pt x="0" y="1072"/>
                  </a:moveTo>
                  <a:cubicBezTo>
                    <a:pt x="40" y="1069"/>
                    <a:pt x="161" y="1075"/>
                    <a:pt x="232" y="1056"/>
                  </a:cubicBezTo>
                  <a:cubicBezTo>
                    <a:pt x="303" y="1037"/>
                    <a:pt x="368" y="1016"/>
                    <a:pt x="424" y="960"/>
                  </a:cubicBezTo>
                  <a:cubicBezTo>
                    <a:pt x="480" y="904"/>
                    <a:pt x="512" y="840"/>
                    <a:pt x="568" y="720"/>
                  </a:cubicBezTo>
                  <a:cubicBezTo>
                    <a:pt x="624" y="600"/>
                    <a:pt x="696" y="352"/>
                    <a:pt x="760" y="240"/>
                  </a:cubicBezTo>
                  <a:cubicBezTo>
                    <a:pt x="824" y="128"/>
                    <a:pt x="840" y="88"/>
                    <a:pt x="952" y="48"/>
                  </a:cubicBezTo>
                  <a:cubicBezTo>
                    <a:pt x="1064" y="8"/>
                    <a:pt x="1248" y="4"/>
                    <a:pt x="1432" y="0"/>
                  </a:cubicBezTo>
                </a:path>
              </a:pathLst>
            </a:custGeom>
            <a:noFill/>
            <a:ln w="28440">
              <a:solidFill>
                <a:srgbClr val="00df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64520" y="464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88000" y="358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51240" y="3510000"/>
              <a:ext cx="1649520" cy="1174680"/>
            </a:xfrm>
            <a:custGeom>
              <a:avLst/>
              <a:gdLst/>
              <a:ahLst/>
              <a:rect l="l" t="t" r="r" b="b"/>
              <a:pathLst>
                <a:path w="1432" h="1075">
                  <a:moveTo>
                    <a:pt x="0" y="1067"/>
                  </a:moveTo>
                  <a:cubicBezTo>
                    <a:pt x="64" y="1067"/>
                    <a:pt x="128" y="1067"/>
                    <a:pt x="192" y="1067"/>
                  </a:cubicBezTo>
                  <a:cubicBezTo>
                    <a:pt x="256" y="1067"/>
                    <a:pt x="328" y="1075"/>
                    <a:pt x="384" y="1067"/>
                  </a:cubicBezTo>
                  <a:cubicBezTo>
                    <a:pt x="440" y="1059"/>
                    <a:pt x="496" y="1043"/>
                    <a:pt x="528" y="1019"/>
                  </a:cubicBezTo>
                  <a:cubicBezTo>
                    <a:pt x="560" y="995"/>
                    <a:pt x="560" y="1003"/>
                    <a:pt x="576" y="923"/>
                  </a:cubicBezTo>
                  <a:cubicBezTo>
                    <a:pt x="592" y="843"/>
                    <a:pt x="608" y="651"/>
                    <a:pt x="624" y="539"/>
                  </a:cubicBezTo>
                  <a:cubicBezTo>
                    <a:pt x="640" y="427"/>
                    <a:pt x="656" y="323"/>
                    <a:pt x="672" y="251"/>
                  </a:cubicBezTo>
                  <a:cubicBezTo>
                    <a:pt x="688" y="179"/>
                    <a:pt x="696" y="146"/>
                    <a:pt x="720" y="107"/>
                  </a:cubicBezTo>
                  <a:cubicBezTo>
                    <a:pt x="744" y="68"/>
                    <a:pt x="785" y="36"/>
                    <a:pt x="816" y="19"/>
                  </a:cubicBezTo>
                  <a:cubicBezTo>
                    <a:pt x="847" y="2"/>
                    <a:pt x="873" y="6"/>
                    <a:pt x="904" y="3"/>
                  </a:cubicBezTo>
                  <a:cubicBezTo>
                    <a:pt x="935" y="0"/>
                    <a:pt x="912" y="4"/>
                    <a:pt x="1000" y="3"/>
                  </a:cubicBezTo>
                  <a:cubicBezTo>
                    <a:pt x="1088" y="2"/>
                    <a:pt x="1342" y="1"/>
                    <a:pt x="1432" y="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51240" y="3510000"/>
              <a:ext cx="1657440" cy="1181160"/>
            </a:xfrm>
            <a:custGeom>
              <a:avLst/>
              <a:gdLst/>
              <a:ahLst/>
              <a:rect l="l" t="t" r="r" b="b"/>
              <a:pathLst>
                <a:path w="1440" h="1080">
                  <a:moveTo>
                    <a:pt x="0" y="1056"/>
                  </a:moveTo>
                  <a:cubicBezTo>
                    <a:pt x="44" y="1068"/>
                    <a:pt x="88" y="1080"/>
                    <a:pt x="192" y="1008"/>
                  </a:cubicBezTo>
                  <a:cubicBezTo>
                    <a:pt x="296" y="936"/>
                    <a:pt x="496" y="744"/>
                    <a:pt x="624" y="624"/>
                  </a:cubicBezTo>
                  <a:cubicBezTo>
                    <a:pt x="752" y="504"/>
                    <a:pt x="856" y="384"/>
                    <a:pt x="960" y="288"/>
                  </a:cubicBezTo>
                  <a:cubicBezTo>
                    <a:pt x="1064" y="192"/>
                    <a:pt x="1168" y="96"/>
                    <a:pt x="1248" y="48"/>
                  </a:cubicBezTo>
                  <a:cubicBezTo>
                    <a:pt x="1328" y="0"/>
                    <a:pt x="1384" y="0"/>
                    <a:pt x="1440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320160" y="3505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27640" y="39006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dfca"/>
                </a:solidFill>
                <a:latin typeface="Times New Roman"/>
              </a:rPr>
              <a:t>2X </a:t>
            </a:r>
            <a:r>
              <a:rPr b="0" lang="en-US" sz="2000" spc="-1" strike="noStrike">
                <a:solidFill>
                  <a:srgbClr val="00dfca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00dfca"/>
                </a:solidFill>
                <a:latin typeface="Times New Roman"/>
              </a:rPr>
              <a:t>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42814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4X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4T22:48:10Z</dcterms:created>
  <dc:creator>Upinder S. Bhalla and Gayatri Saberwal</dc:creator>
  <dc:description/>
  <dc:language>en-US</dc:language>
  <cp:lastModifiedBy>Upinder S. Bhalla</cp:lastModifiedBy>
  <cp:lastPrinted>1999-01-26T15:04:22Z</cp:lastPrinted>
  <dcterms:modified xsi:type="dcterms:W3CDTF">2002-09-01T19:20:23Z</dcterms:modified>
  <cp:revision>26365</cp:revision>
  <dc:subject/>
  <dc:title>Interfacing the brain</dc:title>
</cp:coreProperties>
</file>