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625-BDF4-457D-BB7C-D2A4023D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DE9-1922-4C54-99CB-9E615E4B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2BA-8431-4A5F-8A43-A3A62661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64C-8675-45C1-98A2-29F6FFC3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020-BA07-4936-87AE-CDD45C9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65D-38FE-42A8-8C6C-A5DB21B6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5E4-E250-4351-BBB7-C538817E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B9A-C23D-465B-876E-F3A7AE24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2B4-4FA3-427C-B0FE-D1D09CE5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A68-2665-4247-A150-DF0B42E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B3E-0368-4DC7-ABB7-4788B2F2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749-D137-454E-A327-D0D4D8A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FAEC-414C-429D-8CD0-49C9735F2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ignalling by protein cleavag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ptosis is a striking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cade of cleaved proteins: Caspases, Cystein aspartate prot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ve feedback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ster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ymogens well known in other con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KCs also affected by cleav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be involved in apoptosis, both as +ve and –ve reg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ved PKC may be consitutively 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ukaryotic Gene contro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possible stages of control of protein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gene_exp_control" descr=""/>
          <p:cNvPicPr/>
          <p:nvPr/>
        </p:nvPicPr>
        <p:blipFill>
          <a:blip r:embed="rId1"/>
          <a:stretch/>
        </p:blipFill>
        <p:spPr>
          <a:xfrm>
            <a:off x="1752480" y="3505320"/>
            <a:ext cx="57610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5800" y="228240"/>
            <a:ext cx="4592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ene regul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74" name="palindrome_seq_recog" descr=""/>
          <p:cNvPicPr/>
          <p:nvPr/>
        </p:nvPicPr>
        <p:blipFill>
          <a:blip r:embed="rId1"/>
          <a:stretch/>
        </p:blipFill>
        <p:spPr>
          <a:xfrm>
            <a:off x="5791320" y="152280"/>
            <a:ext cx="3143160" cy="1165320"/>
          </a:xfrm>
          <a:prstGeom prst="rect">
            <a:avLst/>
          </a:prstGeom>
          <a:ln w="0">
            <a:noFill/>
          </a:ln>
        </p:spPr>
      </p:pic>
      <p:pic>
        <p:nvPicPr>
          <p:cNvPr id="75" name="gene_reg_summary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85800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ac oper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77" name="lac_operon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8580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9753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ulti-level gene contro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79" name="euk_transc_control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2619360" cy="5800680"/>
          </a:xfrm>
          <a:prstGeom prst="rect">
            <a:avLst/>
          </a:prstGeom>
          <a:ln w="0">
            <a:noFill/>
          </a:ln>
        </p:spPr>
      </p:pic>
      <p:pic>
        <p:nvPicPr>
          <p:cNvPr id="80" name="integ_at_promotor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57150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Organisation of gene controlle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82" name="gene_act_distance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715000" cy="3222360"/>
          </a:xfrm>
          <a:prstGeom prst="rect">
            <a:avLst/>
          </a:prstGeom>
          <a:ln w="0">
            <a:noFill/>
          </a:ln>
        </p:spPr>
      </p:pic>
      <p:pic>
        <p:nvPicPr>
          <p:cNvPr id="83" name="typ_euk_gene_control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8580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gulation and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8840" y="198072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scope for signalling control of tran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sig_and_gen_reg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8468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cessing eukaryotic gen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88" name="opening_DNA" descr=""/>
          <p:cNvPicPr/>
          <p:nvPr/>
        </p:nvPicPr>
        <p:blipFill>
          <a:blip r:embed="rId1"/>
          <a:stretch/>
        </p:blipFill>
        <p:spPr>
          <a:xfrm>
            <a:off x="152280" y="1657440"/>
            <a:ext cx="5715000" cy="5200560"/>
          </a:xfrm>
          <a:prstGeom prst="rect">
            <a:avLst/>
          </a:prstGeom>
          <a:ln w="0">
            <a:noFill/>
          </a:ln>
        </p:spPr>
      </p:pic>
      <p:pic>
        <p:nvPicPr>
          <p:cNvPr id="89" name="opening_chromatin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31435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2133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-ve 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d +ve 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FB loops in gen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91" name="lambda_gene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5715000" cy="2136600"/>
          </a:xfrm>
          <a:prstGeom prst="rect">
            <a:avLst/>
          </a:prstGeom>
          <a:ln w="0">
            <a:noFill/>
          </a:ln>
        </p:spPr>
      </p:pic>
      <p:pic>
        <p:nvPicPr>
          <p:cNvPr id="92" name="pos_fb" descr=""/>
          <p:cNvPicPr/>
          <p:nvPr/>
        </p:nvPicPr>
        <p:blipFill>
          <a:blip r:embed="rId2"/>
          <a:stretch/>
        </p:blipFill>
        <p:spPr>
          <a:xfrm>
            <a:off x="2895480" y="2743200"/>
            <a:ext cx="5715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nheriting DNA regul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94" name="DNA_reg_inherit1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715000" cy="2492280"/>
          </a:xfrm>
          <a:prstGeom prst="rect">
            <a:avLst/>
          </a:prstGeom>
          <a:ln w="0">
            <a:noFill/>
          </a:ln>
        </p:spPr>
      </p:pic>
      <p:pic>
        <p:nvPicPr>
          <p:cNvPr id="95" name="DNA_reg_inherit2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858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4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Signalling, Genes, and cell biology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s et al (Molecular Biology of the C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ost-transcriptional regul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97" name="post_transcript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4389480"/>
          </a:xfrm>
          <a:prstGeom prst="rect">
            <a:avLst/>
          </a:prstGeom>
          <a:ln w="0">
            <a:noFill/>
          </a:ln>
        </p:spPr>
      </p:pic>
      <p:pic>
        <p:nvPicPr>
          <p:cNvPr id="98" name="reg_alt_splicing" descr=""/>
          <p:cNvPicPr/>
          <p:nvPr/>
        </p:nvPicPr>
        <p:blipFill>
          <a:blip r:embed="rId2"/>
          <a:stretch/>
        </p:blipFill>
        <p:spPr>
          <a:xfrm>
            <a:off x="3276720" y="1066680"/>
            <a:ext cx="5715000" cy="3372120"/>
          </a:xfrm>
          <a:prstGeom prst="rect">
            <a:avLst/>
          </a:prstGeom>
          <a:ln w="0">
            <a:noFill/>
          </a:ln>
        </p:spPr>
      </p:pic>
      <p:pic>
        <p:nvPicPr>
          <p:cNvPr id="99" name="reg_alt_splicing2" descr=""/>
          <p:cNvPicPr/>
          <p:nvPr/>
        </p:nvPicPr>
        <p:blipFill>
          <a:blip r:embed="rId3"/>
          <a:stretch/>
        </p:blipFill>
        <p:spPr>
          <a:xfrm>
            <a:off x="3276720" y="4514760"/>
            <a:ext cx="5715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Kinase regulation of eIF-2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01" name="eif_control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7150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ignalling and Gene contro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 synthesis is subject to many levels of signalling 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networks can be fantastically complex: Enormous potential fan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 ultimately feed back into the signalling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over is critical for th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athrin endocytosi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82840" y="4876920"/>
            <a:ext cx="3413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 of assembly of a coated p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clathrin_vesicle1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132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athrin and recepto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08" name="vesicle_endocytosis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3756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atomer vesicl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962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G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Fs mediate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F in source membrane loads ves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P in target membrane unload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coatomer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571500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NAREs and Rab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3" name="rab2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500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icrotubule moto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5" name="motors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715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motor_reg_binding" descr=""/>
          <p:cNvPicPr/>
          <p:nvPr/>
        </p:nvPicPr>
        <p:blipFill>
          <a:blip r:embed="rId1"/>
          <a:stretch/>
        </p:blipFill>
        <p:spPr>
          <a:xfrm>
            <a:off x="817560" y="353880"/>
            <a:ext cx="750888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5800" y="2282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gulation of motor bind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8" name="motor_reg_binding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55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4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radation and its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ling by protein cleav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criptional control is maj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-transcriptional regulation also versat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ons and alternative splicing and reg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in synthesis reg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894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and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th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ion by SNAREs and R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o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atile struc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al adhe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aptic control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trol of movemen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fficking and Motors are both highly regulated by sign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ovements determine access of molecules, including signalling molecules, to parts of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between compar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tin cytoskelet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22" name="actin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Focal adhesion of cytoskelet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in receptor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et clu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K, Talin, actinin may b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fak1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52941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FAK recruits and signa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rc and Fyn bind to tyr phosphorylated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proteins bind to F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fak2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3829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cruitment of acti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30" name="fak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922920" cy="3438360"/>
          </a:xfrm>
          <a:prstGeom prst="rect">
            <a:avLst/>
          </a:prstGeom>
          <a:ln w="0">
            <a:noFill/>
          </a:ln>
        </p:spPr>
      </p:pic>
      <p:pic>
        <p:nvPicPr>
          <p:cNvPr id="131" name="fak4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4685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MKII and synaps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33" name="CaMKII_psd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9153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Building a cel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ysical structure of the cell is also controlled by sign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cap of lecture 4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radation and its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ling by protein cleav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criptional control is maj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-transcriptional regulation also versat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ons and alternative splicing and reg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in synthesis reg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894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and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th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ion by SNAREs and R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o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atile struc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al adhe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aptic control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ssignment for lecture 4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8123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ssorted sources, both textbooks and online, to design differentiation in a simple multicellular org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berts et al have a lot of stuff abou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out how to get an adult organism having 4 cells of type A, 2 of type B, and 1 each of type C and D from a spherical eg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out how to maintain cell types in the resultant small org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out how to prevent cells from dividing fur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out how to replace cells if one dies. (Hint: Cells of type A could be stem cells, capable of differentiating into any of the other typ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out how to get A cells to be on the outside, and B, C, and D cells not to touch any other of the same kind. You can assume a 2-dimensional org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urnover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ular molecules have a short life (&lt; 30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agation of labelled proteins through rod and out takes about 10 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rod_turnover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46400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297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urnover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of a protea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roteosome_str" descr=""/>
          <p:cNvPicPr/>
          <p:nvPr/>
        </p:nvPicPr>
        <p:blipFill>
          <a:blip r:embed="rId1"/>
          <a:stretch/>
        </p:blipFill>
        <p:spPr>
          <a:xfrm>
            <a:off x="3809880" y="685800"/>
            <a:ext cx="5166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Ubiquiti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58" name="ubiquitin_degrad_pathway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8364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xamples of signalling and turnover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K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regulated upon st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u is about 6 hours – very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4351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KP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criptional regulation by MAP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phosphorylation by MAP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s turnover from 40 min to 2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mechanism for   -v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ignalling in apoptosi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63" name="casp_path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poptosom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11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assembles the Casp9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p9 dimerizes and gets activ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s casc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apoptosome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5029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5T19:18:18Z</dcterms:modified>
  <cp:revision>26376</cp:revision>
  <dc:subject/>
  <dc:title>Interfacing the brain</dc:title>
</cp:coreProperties>
</file>