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FC9-E515-4721-8554-F87D1454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B7C-E0E1-4510-83FC-C7D1A34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9EE-E365-49E5-970C-35569957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4DA-062F-4D9B-80DE-599C94D5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35D-E8B1-43E1-A94F-A0376D8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385-304D-46E5-B3B0-8A844A6F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41D-4ACE-4592-97B8-3170DE9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70B-1380-413F-9462-5CA7FE9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7C3-9259-498F-B527-AFEC593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98B-F615-4205-82AB-7F1F55EE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C08-1C64-45E3-A210-4F2184D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FD2-E701-4957-9497-FD51EA5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E617-598C-40E0-B06A-900C0ABFF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nd.ca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carta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ularsignaling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enda.uni-koeln.de/" TargetMode="External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ellml.org/" TargetMode="External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fobiogen.fr/services/dbcat/" TargetMode="External"/><Relationship Id="rId2" Type="http://schemas.openxmlformats.org/officeDocument/2006/relationships/hyperlink" Target="http://doqcs.ncbs.res.in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anspath.gbf.de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ind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bind" descr=""/>
          <p:cNvPicPr/>
          <p:nvPr/>
        </p:nvPicPr>
        <p:blipFill>
          <a:blip r:embed="rId2"/>
          <a:stretch/>
        </p:blipFill>
        <p:spPr>
          <a:xfrm>
            <a:off x="380880" y="1542960"/>
            <a:ext cx="8366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220032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iocarta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 figures with anno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able molecules, do n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biocarta" descr=""/>
          <p:cNvPicPr/>
          <p:nvPr/>
        </p:nvPicPr>
        <p:blipFill>
          <a:blip r:embed="rId2"/>
          <a:srcRect l="0" t="0" r="18949" b="0"/>
          <a:stretch/>
        </p:blipFill>
        <p:spPr>
          <a:xfrm>
            <a:off x="2209680" y="380880"/>
            <a:ext cx="67629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cellularsignaling.or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 Alliance for Cellular Signa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itious, long way to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protein lists and generic info on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afcs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980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nzyme kinetic databa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www.brenda.uni-koeln.d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re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.mcs.anl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 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doqcs" descr=""/>
          <p:cNvPicPr/>
          <p:nvPr/>
        </p:nvPicPr>
        <p:blipFill>
          <a:blip r:embed="rId1"/>
          <a:stretch/>
        </p:blipFill>
        <p:spPr>
          <a:xfrm>
            <a:off x="388800" y="393840"/>
            <a:ext cx="8366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bml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480520" cy="5451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-based mark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ml: www.cds.caltech.edu/e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3920" y="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ml: </a:t>
            </a:r>
            <a:r>
              <a:rPr b="0" lang="en-US" sz="20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www.cellml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Physiome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, public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 of pathway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and ed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n in and fan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 of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/OR sum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nding, rat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zyme form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eq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ly unrea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ing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 vs Relational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: interaction list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276720"/>
            <a:ext cx="91440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286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85640" y="25909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295280" y="2590560"/>
            <a:ext cx="60984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6680" y="1676520"/>
            <a:ext cx="314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action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&gt;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&gt;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n in/o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edges per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presentation: logica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435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: Must now define logical operations between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s AND operation between B’ and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s: Must define sign of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-&gt;B: +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-&gt;A: -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eed to introduce timing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981080"/>
            <a:ext cx="914400" cy="6098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276720"/>
            <a:ext cx="91440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1337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5640" y="25909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295280" y="2590560"/>
            <a:ext cx="60984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828440" y="2438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hemical equa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82840" y="1981080"/>
            <a:ext cx="4655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, stochasticit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f, kb/ Kd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1, k2, k3/ Km, Vmax,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other enzyme co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240" y="2617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+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819160"/>
            <a:ext cx="914400" cy="152640"/>
            <a:chOff x="1828800" y="2819160"/>
            <a:chExt cx="914400" cy="152640"/>
          </a:xfrm>
        </p:grpSpPr>
        <p:sp>
          <p:nvSpPr>
            <p:cNvPr id="111" name=""/>
            <p:cNvSpPr/>
            <p:nvPr/>
          </p:nvSpPr>
          <p:spPr>
            <a:xfrm flipH="1" flipV="1">
              <a:off x="1828800" y="28954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8954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880" y="2819160"/>
              <a:ext cx="759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049920" y="261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760" y="2438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2280" y="29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600" y="45864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14040" y="3747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1400" y="458640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295280" y="4191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1911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4191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95480" y="4495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742840" y="4648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5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Cellular Signalling databases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datab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1"/>
              </a:rPr>
              <a:t>http://www.infobiogen.fr/services/dbca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page on DOQ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http://doqcs.ncbs.res.in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vakumaran et al (pdf preprint on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fferential equa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introduce approx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to relate back to experi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visu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zhab1" descr=""/>
          <p:cNvPicPr/>
          <p:nvPr/>
        </p:nvPicPr>
        <p:blipFill>
          <a:blip r:embed="rId1"/>
          <a:stretch/>
        </p:blipFill>
        <p:spPr>
          <a:xfrm>
            <a:off x="4354560" y="46080"/>
            <a:ext cx="4789440" cy="6811920"/>
          </a:xfrm>
          <a:prstGeom prst="rect">
            <a:avLst/>
          </a:prstGeom>
          <a:ln w="0">
            <a:noFill/>
          </a:ln>
        </p:spPr>
      </p:pic>
      <p:pic>
        <p:nvPicPr>
          <p:cNvPr id="128" name="zhab2" descr=""/>
          <p:cNvPicPr/>
          <p:nvPr/>
        </p:nvPicPr>
        <p:blipFill>
          <a:blip r:embed="rId2"/>
          <a:stretch/>
        </p:blipFill>
        <p:spPr>
          <a:xfrm>
            <a:off x="2057400" y="4495680"/>
            <a:ext cx="2263680" cy="628920"/>
          </a:xfrm>
          <a:prstGeom prst="rect">
            <a:avLst/>
          </a:prstGeom>
          <a:ln w="0">
            <a:noFill/>
          </a:ln>
        </p:spPr>
      </p:pic>
      <p:pic>
        <p:nvPicPr>
          <p:cNvPr id="129" name="zhab3" descr=""/>
          <p:cNvPicPr/>
          <p:nvPr/>
        </p:nvPicPr>
        <p:blipFill>
          <a:blip r:embed="rId3"/>
          <a:stretch/>
        </p:blipFill>
        <p:spPr>
          <a:xfrm>
            <a:off x="2209680" y="5181480"/>
            <a:ext cx="2079720" cy="731880"/>
          </a:xfrm>
          <a:prstGeom prst="rect">
            <a:avLst/>
          </a:prstGeom>
          <a:ln w="0">
            <a:noFill/>
          </a:ln>
        </p:spPr>
      </p:pic>
      <p:pic>
        <p:nvPicPr>
          <p:cNvPr id="130" name="zhab4" descr=""/>
          <p:cNvPicPr/>
          <p:nvPr/>
        </p:nvPicPr>
        <p:blipFill>
          <a:blip r:embed="rId4"/>
          <a:stretch/>
        </p:blipFill>
        <p:spPr>
          <a:xfrm>
            <a:off x="2438280" y="601992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blems in sca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inciple: N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is number of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ually ~N *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eng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lists, logical networks as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 Eqns w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427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way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pathway as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 are exposed interfaces for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to modularize at thi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47680" y="2971800"/>
            <a:ext cx="4230720" cy="2991240"/>
            <a:chOff x="247680" y="2971800"/>
            <a:chExt cx="4230720" cy="2991240"/>
          </a:xfrm>
        </p:grpSpPr>
        <p:grpSp>
          <p:nvGrpSpPr>
            <p:cNvPr id="135" name=""/>
            <p:cNvGrpSpPr/>
            <p:nvPr/>
          </p:nvGrpSpPr>
          <p:grpSpPr>
            <a:xfrm>
              <a:off x="247680" y="3933360"/>
              <a:ext cx="2195640" cy="1284120"/>
              <a:chOff x="247680" y="3933360"/>
              <a:chExt cx="2195640" cy="1284120"/>
            </a:xfrm>
          </p:grpSpPr>
          <p:sp>
            <p:nvSpPr>
              <p:cNvPr id="136" name=""/>
              <p:cNvSpPr/>
              <p:nvPr/>
            </p:nvSpPr>
            <p:spPr>
              <a:xfrm>
                <a:off x="874080" y="4556520"/>
                <a:ext cx="1569240" cy="623880"/>
              </a:xfrm>
              <a:custGeom>
                <a:avLst/>
                <a:gdLst/>
                <a:ahLst/>
                <a:rect l="l" t="t" r="r" b="b"/>
                <a:pathLst>
                  <a:path w="1681" h="1153">
                    <a:moveTo>
                      <a:pt x="480" y="0"/>
                    </a:moveTo>
                    <a:lnTo>
                      <a:pt x="0" y="0"/>
                    </a:lnTo>
                    <a:lnTo>
                      <a:pt x="0" y="1152"/>
                    </a:lnTo>
                    <a:lnTo>
                      <a:pt x="1680" y="1152"/>
                    </a:lnTo>
                    <a:lnTo>
                      <a:pt x="1680" y="960"/>
                    </a:lnTo>
                    <a:lnTo>
                      <a:pt x="480" y="96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044000" y="4560840"/>
                <a:ext cx="217800" cy="102240"/>
                <a:chOff x="1044000" y="4560840"/>
                <a:chExt cx="217800" cy="1022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44000" y="456084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68120" y="456516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044000" y="4716360"/>
                <a:ext cx="217800" cy="102240"/>
                <a:chOff x="1044000" y="4716360"/>
                <a:chExt cx="217800" cy="1022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44000" y="471636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68120" y="472104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044000" y="4871520"/>
                <a:ext cx="217800" cy="102240"/>
                <a:chOff x="1044000" y="4871520"/>
                <a:chExt cx="217800" cy="102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44000" y="487152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68120" y="487692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044000" y="5029200"/>
                <a:ext cx="217800" cy="102240"/>
                <a:chOff x="1044000" y="5029200"/>
                <a:chExt cx="217800" cy="1022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044000" y="5029200"/>
                  <a:ext cx="2178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M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68120" y="5032800"/>
                  <a:ext cx="19368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770480" y="4816440"/>
                <a:ext cx="448920" cy="156240"/>
              </a:xfrm>
              <a:custGeom>
                <a:avLst/>
                <a:gdLst/>
                <a:ahLst/>
                <a:rect l="l" t="t" r="r" b="b"/>
                <a:pathLst>
                  <a:path w="481" h="289">
                    <a:moveTo>
                      <a:pt x="96" y="48"/>
                    </a:moveTo>
                    <a:lnTo>
                      <a:pt x="96" y="0"/>
                    </a:ln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84" y="240"/>
                    </a:lnTo>
                    <a:lnTo>
                      <a:pt x="384" y="288"/>
                    </a:lnTo>
                    <a:lnTo>
                      <a:pt x="480" y="144"/>
                    </a:lnTo>
                    <a:lnTo>
                      <a:pt x="384" y="0"/>
                    </a:lnTo>
                    <a:lnTo>
                      <a:pt x="384" y="48"/>
                    </a:lnTo>
                    <a:lnTo>
                      <a:pt x="96" y="48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6160" y="4483080"/>
                <a:ext cx="19080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69040" y="4638240"/>
                <a:ext cx="352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3360" y="455652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053360" y="4608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008720" y="4556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0840" y="479412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53360" y="471240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053360" y="47642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008720" y="4712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0840" y="495108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53360" y="486828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053360" y="4920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008720" y="48682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0840" y="5106960"/>
                <a:ext cx="36936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53360" y="5024160"/>
                <a:ext cx="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05336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008720" y="50241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96160" y="5106960"/>
                <a:ext cx="35244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79720" y="5106960"/>
                <a:ext cx="30204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.R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16560" y="4840200"/>
                <a:ext cx="3625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(active PKA)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86840" y="4690800"/>
                <a:ext cx="304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-inhib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98280" y="4560840"/>
                <a:ext cx="35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-inhib.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7764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7764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45656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6012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03940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6012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994400" y="4634280"/>
                <a:ext cx="0" cy="20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94400" y="4634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1949760" y="48160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5840" y="4790520"/>
                <a:ext cx="1782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7680" y="3933360"/>
                <a:ext cx="1701000" cy="124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82" y="17223"/>
                    </a:moveTo>
                    <a:arcTo wR="10800" hR="10800" stAng="2189698" swAng="22279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82" y="17223"/>
                    </a:moveTo>
                    <a:arcTo wR="10800" hR="10800" stAng="2189698" swAng="222798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9720" y="5289480"/>
              <a:ext cx="2008440" cy="644040"/>
              <a:chOff x="729720" y="5289480"/>
              <a:chExt cx="2008440" cy="644040"/>
            </a:xfrm>
          </p:grpSpPr>
          <p:sp>
            <p:nvSpPr>
              <p:cNvPr id="184" name=""/>
              <p:cNvSpPr/>
              <p:nvPr/>
            </p:nvSpPr>
            <p:spPr>
              <a:xfrm>
                <a:off x="1860120" y="5777280"/>
                <a:ext cx="448920" cy="156240"/>
              </a:xfrm>
              <a:custGeom>
                <a:avLst/>
                <a:gdLst/>
                <a:ahLst/>
                <a:rect l="l" t="t" r="r" b="b"/>
                <a:pathLst>
                  <a:path w="481" h="289">
                    <a:moveTo>
                      <a:pt x="96" y="48"/>
                    </a:moveTo>
                    <a:lnTo>
                      <a:pt x="96" y="0"/>
                    </a:ln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84" y="240"/>
                    </a:lnTo>
                    <a:lnTo>
                      <a:pt x="384" y="288"/>
                    </a:lnTo>
                    <a:lnTo>
                      <a:pt x="480" y="144"/>
                    </a:lnTo>
                    <a:lnTo>
                      <a:pt x="384" y="0"/>
                    </a:lnTo>
                    <a:lnTo>
                      <a:pt x="384" y="48"/>
                    </a:lnTo>
                    <a:lnTo>
                      <a:pt x="96" y="48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53360" y="5673600"/>
                <a:ext cx="1524960" cy="104400"/>
              </a:xfrm>
              <a:custGeom>
                <a:avLst/>
                <a:gdLst/>
                <a:ahLst/>
                <a:rect l="l" t="t" r="r" b="b"/>
                <a:pathLst>
                  <a:path w="1633" h="193">
                    <a:moveTo>
                      <a:pt x="0" y="0"/>
                    </a:moveTo>
                    <a:lnTo>
                      <a:pt x="0" y="192"/>
                    </a:lnTo>
                    <a:lnTo>
                      <a:pt x="336" y="192"/>
                    </a:lnTo>
                    <a:lnTo>
                      <a:pt x="336" y="144"/>
                    </a:lnTo>
                    <a:lnTo>
                      <a:pt x="1632" y="144"/>
                    </a:lnTo>
                    <a:lnTo>
                      <a:pt x="1632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2280" y="5361840"/>
                <a:ext cx="1256040" cy="312120"/>
              </a:xfrm>
              <a:custGeom>
                <a:avLst/>
                <a:gdLst/>
                <a:ahLst/>
                <a:rect l="l" t="t" r="r" b="b"/>
                <a:pathLst>
                  <a:path w="1345" h="577">
                    <a:moveTo>
                      <a:pt x="0" y="0"/>
                    </a:moveTo>
                    <a:lnTo>
                      <a:pt x="0" y="288"/>
                    </a:lnTo>
                    <a:lnTo>
                      <a:pt x="1152" y="288"/>
                    </a:lnTo>
                    <a:lnTo>
                      <a:pt x="1248" y="384"/>
                    </a:lnTo>
                    <a:lnTo>
                      <a:pt x="1344" y="576"/>
                    </a:lnTo>
                    <a:lnTo>
                      <a:pt x="1344" y="384"/>
                    </a:lnTo>
                    <a:lnTo>
                      <a:pt x="1248" y="288"/>
                    </a:lnTo>
                    <a:lnTo>
                      <a:pt x="1248" y="144"/>
                    </a:lnTo>
                    <a:lnTo>
                      <a:pt x="110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8320" y="5569560"/>
                <a:ext cx="268920" cy="10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9440" y="5543640"/>
                <a:ext cx="1748880" cy="234360"/>
              </a:xfrm>
              <a:custGeom>
                <a:avLst/>
                <a:gdLst/>
                <a:ahLst/>
                <a:rect l="l" t="t" r="r" b="b"/>
                <a:pathLst>
                  <a:path w="1873" h="433">
                    <a:moveTo>
                      <a:pt x="0" y="0"/>
                    </a:moveTo>
                    <a:lnTo>
                      <a:pt x="0" y="432"/>
                    </a:lnTo>
                    <a:lnTo>
                      <a:pt x="336" y="432"/>
                    </a:lnTo>
                    <a:lnTo>
                      <a:pt x="336" y="240"/>
                    </a:lnTo>
                    <a:lnTo>
                      <a:pt x="1680" y="240"/>
                    </a:lnTo>
                    <a:lnTo>
                      <a:pt x="1872" y="48"/>
                    </a:lnTo>
                    <a:lnTo>
                      <a:pt x="528" y="48"/>
                    </a:lnTo>
                    <a:lnTo>
                      <a:pt x="52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1446840" y="5418000"/>
                <a:ext cx="173520" cy="102240"/>
                <a:chOff x="1446840" y="5418000"/>
                <a:chExt cx="173520" cy="102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471320" y="542232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446840" y="5418000"/>
                  <a:ext cx="1504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087920" y="5703840"/>
                <a:ext cx="173880" cy="102240"/>
                <a:chOff x="1087920" y="5703840"/>
                <a:chExt cx="173880" cy="102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112760" y="570780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dc00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87920" y="5703840"/>
                  <a:ext cx="1504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44200" y="5552280"/>
                <a:ext cx="194040" cy="60480"/>
              </a:xfrm>
              <a:prstGeom prst="rect">
                <a:avLst/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4000" y="5314680"/>
                <a:ext cx="214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-i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41120" y="5289480"/>
                <a:ext cx="322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-bas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40040" y="5341680"/>
                <a:ext cx="322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07200" y="5445360"/>
                <a:ext cx="40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06480" y="5497200"/>
                <a:ext cx="325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07560" y="5600520"/>
                <a:ext cx="443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Ca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06840" y="5653080"/>
                <a:ext cx="446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DAG.PKC_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44000" y="547056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8280" y="5600520"/>
                <a:ext cx="3884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Ca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9720" y="5653080"/>
                <a:ext cx="31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23280" y="5653080"/>
                <a:ext cx="391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.DAG.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08360" y="5335920"/>
                <a:ext cx="80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770480" y="53359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008360" y="5309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08360" y="5387760"/>
                <a:ext cx="80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770480" y="53877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008360" y="5361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66920" y="5491800"/>
                <a:ext cx="44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770480" y="5465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66920" y="54918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66920" y="5543640"/>
                <a:ext cx="44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70480" y="55173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6920" y="5543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37280" y="5388120"/>
                <a:ext cx="35748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42316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423161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37280" y="5388480"/>
                <a:ext cx="35784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34" y="6886"/>
                    </a:moveTo>
                    <a:arcTo wR="10800" hR="10800" stAng="-9524970" swAng="4107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34" y="6886"/>
                    </a:moveTo>
                    <a:arcTo wR="10800" hR="10800" stAng="-9524970" swAng="41070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8720" y="5387760"/>
                <a:ext cx="17928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53360" y="54918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18720" y="5387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64720" y="541980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9080" y="53877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84440" y="53877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2908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8280" y="5547960"/>
                <a:ext cx="193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98000" y="551772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105336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098000" y="55177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53360" y="56995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053360" y="5673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232640" y="5699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6200" y="5699520"/>
                <a:ext cx="17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636200" y="5673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770480" y="5699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6840" y="5445360"/>
                <a:ext cx="3013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Degraded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8320" y="538776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53320" y="54655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63680" y="549180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18680" y="554364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353320" y="54918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2353320" y="55173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353320" y="5543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442960" y="543960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397960" y="5465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308320" y="5569560"/>
                <a:ext cx="22392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487960" y="55695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32600" y="55695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308320" y="556956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42960" y="55695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397960" y="55695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53320" y="5335920"/>
                <a:ext cx="17892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532600" y="541368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487960" y="5439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56560" y="56476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4565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770480" y="564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15480" y="5751720"/>
                <a:ext cx="538560" cy="52200"/>
              </a:xfrm>
              <a:custGeom>
                <a:avLst/>
                <a:gdLst/>
                <a:ahLst/>
                <a:rect l="l" t="t" r="r" b="b"/>
                <a:pathLst>
                  <a:path w="577" h="97">
                    <a:moveTo>
                      <a:pt x="0" y="0"/>
                    </a:moveTo>
                    <a:lnTo>
                      <a:pt x="0" y="48"/>
                    </a:lnTo>
                    <a:lnTo>
                      <a:pt x="240" y="48"/>
                    </a:lnTo>
                    <a:lnTo>
                      <a:pt x="288" y="96"/>
                    </a:lnTo>
                    <a:lnTo>
                      <a:pt x="336" y="48"/>
                    </a:lnTo>
                    <a:lnTo>
                      <a:pt x="576" y="48"/>
                    </a:lnTo>
                    <a:lnTo>
                      <a:pt x="57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5040" y="5808240"/>
                <a:ext cx="3380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ctive PK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837160" y="3886200"/>
              <a:ext cx="1641240" cy="902520"/>
              <a:chOff x="2837160" y="3886200"/>
              <a:chExt cx="1641240" cy="902520"/>
            </a:xfrm>
          </p:grpSpPr>
          <p:sp>
            <p:nvSpPr>
              <p:cNvPr id="263" name=""/>
              <p:cNvSpPr/>
              <p:nvPr/>
            </p:nvSpPr>
            <p:spPr>
              <a:xfrm>
                <a:off x="2846160" y="4141080"/>
                <a:ext cx="1434960" cy="390240"/>
              </a:xfrm>
              <a:custGeom>
                <a:avLst/>
                <a:gdLst/>
                <a:ahLst/>
                <a:rect l="l" t="t" r="r" b="b"/>
                <a:pathLst>
                  <a:path w="1537" h="721">
                    <a:moveTo>
                      <a:pt x="0" y="0"/>
                    </a:moveTo>
                    <a:lnTo>
                      <a:pt x="1536" y="0"/>
                    </a:lnTo>
                    <a:lnTo>
                      <a:pt x="1536" y="720"/>
                    </a:lnTo>
                    <a:lnTo>
                      <a:pt x="912" y="720"/>
                    </a:lnTo>
                    <a:lnTo>
                      <a:pt x="912" y="192"/>
                    </a:lnTo>
                    <a:lnTo>
                      <a:pt x="576" y="192"/>
                    </a:lnTo>
                    <a:lnTo>
                      <a:pt x="576" y="720"/>
                    </a:lnTo>
                    <a:lnTo>
                      <a:pt x="0" y="7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51440" y="4041360"/>
                <a:ext cx="211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89280" y="4041360"/>
                <a:ext cx="231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27120" y="4041360"/>
                <a:ext cx="2512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raf-1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75000" y="4146480"/>
                <a:ext cx="29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3877200" y="395928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3385080" y="3985200"/>
                <a:ext cx="313560" cy="193680"/>
                <a:chOff x="3385080" y="3985200"/>
                <a:chExt cx="313560" cy="193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519360" y="398520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385080" y="398520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418560" y="401580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966840" y="4608360"/>
                <a:ext cx="403920" cy="156240"/>
              </a:xfrm>
              <a:custGeom>
                <a:avLst/>
                <a:gdLst/>
                <a:ahLst/>
                <a:rect l="l" t="t" r="r" b="b"/>
                <a:pathLst>
                  <a:path w="433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336" y="240"/>
                    </a:lnTo>
                    <a:lnTo>
                      <a:pt x="336" y="288"/>
                    </a:lnTo>
                    <a:lnTo>
                      <a:pt x="432" y="144"/>
                    </a:lnTo>
                    <a:lnTo>
                      <a:pt x="336" y="0"/>
                    </a:lnTo>
                    <a:lnTo>
                      <a:pt x="336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922920" y="3985200"/>
                <a:ext cx="313560" cy="155520"/>
                <a:chOff x="3922920" y="3985200"/>
                <a:chExt cx="313560" cy="155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057200" y="398520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22920" y="398520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957120" y="4015800"/>
                  <a:ext cx="21168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966840" y="39592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90760" y="39592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4235760" y="40111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280400" y="39852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11760" y="388620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49720" y="41151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249720" y="43484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204720" y="41151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32200" y="4115160"/>
                <a:ext cx="0" cy="25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787560" y="43484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32200" y="41151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65080" y="4167360"/>
                <a:ext cx="26748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0440" y="41673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35720" y="4379760"/>
                <a:ext cx="452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.craf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9680" y="4379760"/>
                <a:ext cx="432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.craf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74640" y="4249800"/>
                <a:ext cx="258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73920" y="4379760"/>
                <a:ext cx="2786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73920" y="4510080"/>
                <a:ext cx="2984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39360" y="42969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39360" y="43228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339360" y="4374720"/>
                <a:ext cx="44640" cy="25920"/>
                <a:chOff x="3339360" y="4374720"/>
                <a:chExt cx="44640" cy="25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339360" y="43747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3384000" y="4374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3339360" y="4400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flipH="1">
                <a:off x="3339360" y="44269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39360" y="44524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3339360" y="4504320"/>
                <a:ext cx="44640" cy="25920"/>
                <a:chOff x="3339360" y="4504320"/>
                <a:chExt cx="44640" cy="259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339360" y="45046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3384000" y="45043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3339360" y="4530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697920" y="42969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42560" y="43228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3697920" y="4374720"/>
                <a:ext cx="44640" cy="25920"/>
                <a:chOff x="3697920" y="4374720"/>
                <a:chExt cx="44640" cy="2592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3697920" y="43747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697920" y="4374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97920" y="4400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697920" y="442692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42560" y="44524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3697920" y="4504320"/>
                <a:ext cx="44640" cy="25920"/>
                <a:chOff x="3697920" y="4504320"/>
                <a:chExt cx="44640" cy="2592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3697920" y="45046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3697920" y="45043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697920" y="4530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376800" y="4296960"/>
                <a:ext cx="276480" cy="106920"/>
                <a:chOff x="3376800" y="4296960"/>
                <a:chExt cx="276480" cy="1069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384720" y="4322880"/>
                  <a:ext cx="268560" cy="5184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384720" y="4296960"/>
                  <a:ext cx="268560" cy="5184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76800" y="4301640"/>
                  <a:ext cx="2610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76800" y="4426920"/>
                <a:ext cx="276480" cy="107640"/>
                <a:chOff x="3376800" y="4426920"/>
                <a:chExt cx="276480" cy="107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84720" y="4452480"/>
                  <a:ext cx="268560" cy="5184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84720" y="4426920"/>
                  <a:ext cx="268560" cy="5184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76800" y="4432320"/>
                  <a:ext cx="2610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2837160" y="464004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74280" y="4640040"/>
                <a:ext cx="245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001040" y="464004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APK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3093840" y="4599000"/>
                <a:ext cx="313200" cy="186840"/>
                <a:chOff x="3093840" y="4599000"/>
                <a:chExt cx="313200" cy="186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228120" y="4599000"/>
                  <a:ext cx="178920" cy="155880"/>
                </a:xfrm>
                <a:prstGeom prst="rightArrow">
                  <a:avLst>
                    <a:gd name="adj1" fmla="val 75009"/>
                    <a:gd name="adj2" fmla="val 573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093840" y="4599000"/>
                  <a:ext cx="178920" cy="155880"/>
                </a:xfrm>
                <a:prstGeom prst="leftArrow">
                  <a:avLst>
                    <a:gd name="adj1" fmla="val 75009"/>
                    <a:gd name="adj2" fmla="val 5738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107520" y="4622760"/>
                  <a:ext cx="2494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1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2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V="1">
                <a:off x="302580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15080" y="4582800"/>
                <a:ext cx="26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8400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3429000" y="4608360"/>
                <a:ext cx="44640" cy="25920"/>
                <a:chOff x="3429000" y="4608360"/>
                <a:chExt cx="44640" cy="25920"/>
              </a:xfrm>
            </p:grpSpPr>
            <p:sp>
              <p:nvSpPr>
                <p:cNvPr id="339" name=""/>
                <p:cNvSpPr/>
                <p:nvPr/>
              </p:nvSpPr>
              <p:spPr>
                <a:xfrm flipV="1">
                  <a:off x="3473640" y="460836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3429000" y="463428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3563640" y="458280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52920" y="4582800"/>
                <a:ext cx="26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3921840" y="4582800"/>
                <a:ext cx="89280" cy="51840"/>
                <a:chOff x="3921840" y="4582800"/>
                <a:chExt cx="89280" cy="518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921840" y="458280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4011120" y="4608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3966120" y="4634640"/>
                  <a:ext cx="44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625920" y="4601880"/>
                <a:ext cx="313560" cy="186840"/>
                <a:chOff x="3625920" y="4601880"/>
                <a:chExt cx="313560" cy="1868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60200" y="4601880"/>
                  <a:ext cx="179280" cy="155520"/>
                </a:xfrm>
                <a:prstGeom prst="rightArrow">
                  <a:avLst>
                    <a:gd name="adj1" fmla="val 75009"/>
                    <a:gd name="adj2" fmla="val 57644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625920" y="4601880"/>
                  <a:ext cx="179280" cy="155520"/>
                </a:xfrm>
                <a:prstGeom prst="leftArrow">
                  <a:avLst>
                    <a:gd name="adj1" fmla="val 75009"/>
                    <a:gd name="adj2" fmla="val 57633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638880" y="4625640"/>
                  <a:ext cx="2494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1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KP-2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3399120" y="4149720"/>
                <a:ext cx="28368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919440" y="3465720"/>
              <a:ext cx="1891080" cy="419400"/>
              <a:chOff x="919440" y="3465720"/>
              <a:chExt cx="1891080" cy="419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271960" y="3465720"/>
                <a:ext cx="538560" cy="156240"/>
              </a:xfrm>
              <a:custGeom>
                <a:avLst/>
                <a:gdLst/>
                <a:ahLst/>
                <a:rect l="l" t="t" r="r" b="b"/>
                <a:pathLst>
                  <a:path w="577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480" y="240"/>
                    </a:lnTo>
                    <a:lnTo>
                      <a:pt x="480" y="288"/>
                    </a:lnTo>
                    <a:lnTo>
                      <a:pt x="576" y="144"/>
                    </a:lnTo>
                    <a:lnTo>
                      <a:pt x="480" y="0"/>
                    </a:lnTo>
                    <a:lnTo>
                      <a:pt x="480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63360" y="3495240"/>
                <a:ext cx="177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11920" y="3495240"/>
                <a:ext cx="3290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63680" y="3495240"/>
                <a:ext cx="469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*.SoS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62640" y="3755880"/>
                <a:ext cx="198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11200" y="3755880"/>
                <a:ext cx="3409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os*.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48680" y="3782880"/>
                <a:ext cx="19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48320" y="354780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HC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919440" y="3569400"/>
                <a:ext cx="277200" cy="193680"/>
                <a:chOff x="919440" y="3569400"/>
                <a:chExt cx="277200" cy="193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928080" y="364716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28080" y="356940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19440" y="360000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959480" y="3595320"/>
                <a:ext cx="268920" cy="195120"/>
                <a:chOff x="1959480" y="3595320"/>
                <a:chExt cx="268920" cy="195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959480" y="3673080"/>
                  <a:ext cx="26892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59480" y="3595320"/>
                  <a:ext cx="26892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76400" y="3627360"/>
                  <a:ext cx="2376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EGFR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T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1151280" y="354348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1375560" y="3517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51280" y="3543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42640" y="3469680"/>
                <a:ext cx="22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23760" y="3543480"/>
                <a:ext cx="39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182680" y="3543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823760" y="3517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51280" y="380340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1375560" y="37774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51280" y="380340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42640" y="3730320"/>
                <a:ext cx="2206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RB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794960" y="3003480"/>
              <a:ext cx="1260360" cy="473400"/>
              <a:chOff x="1794960" y="3003480"/>
              <a:chExt cx="1260360" cy="473400"/>
            </a:xfrm>
          </p:grpSpPr>
          <p:sp>
            <p:nvSpPr>
              <p:cNvPr id="381" name=""/>
              <p:cNvSpPr/>
              <p:nvPr/>
            </p:nvSpPr>
            <p:spPr>
              <a:xfrm>
                <a:off x="2905920" y="3188520"/>
                <a:ext cx="14940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681640" y="318888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01800" y="305532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794960" y="3314520"/>
                <a:ext cx="255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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39400" y="310176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221868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03940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030040" y="302868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2255040" y="3127680"/>
                <a:ext cx="277560" cy="193680"/>
                <a:chOff x="2255040" y="3127680"/>
                <a:chExt cx="277560" cy="19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264040" y="320544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64040" y="312768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55040" y="3158280"/>
                  <a:ext cx="2376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EGFR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TP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2250720" y="3055320"/>
                <a:ext cx="2876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9400" y="33616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flipV="1">
                <a:off x="2218680" y="333540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39400" y="3361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0040" y="3288960"/>
                <a:ext cx="147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3520" y="3314520"/>
                <a:ext cx="333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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658960" y="3184200"/>
                <a:ext cx="36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P3   +  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04680" y="300348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04680" y="336636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2621880" y="3257640"/>
                <a:ext cx="89280" cy="155520"/>
                <a:chOff x="2621880" y="3257640"/>
                <a:chExt cx="89280" cy="155520"/>
              </a:xfrm>
            </p:grpSpPr>
            <p:sp>
              <p:nvSpPr>
                <p:cNvPr id="403" name=""/>
                <p:cNvSpPr/>
                <p:nvPr/>
              </p:nvSpPr>
              <p:spPr>
                <a:xfrm flipH="1" flipV="1">
                  <a:off x="2621880" y="336132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2621880" y="330948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2621880" y="325764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2666160" y="32576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11160" y="325764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621880" y="3024000"/>
                <a:ext cx="89280" cy="155880"/>
                <a:chOff x="2621880" y="3024000"/>
                <a:chExt cx="89280" cy="15588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2621880" y="302400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621880" y="307584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21880" y="3127680"/>
                  <a:ext cx="89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2666160" y="317988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2711160" y="315396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739800" y="3439800"/>
              <a:ext cx="2420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725840" y="2998080"/>
              <a:ext cx="0" cy="4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0440" y="2998080"/>
              <a:ext cx="0" cy="88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800" y="3881520"/>
              <a:ext cx="372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01520" y="3881520"/>
              <a:ext cx="0" cy="20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94440" y="4426920"/>
              <a:ext cx="2106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800" y="5258160"/>
              <a:ext cx="372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01520" y="4790520"/>
              <a:ext cx="165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74360" y="3024000"/>
              <a:ext cx="816840" cy="418320"/>
              <a:chOff x="774360" y="3024000"/>
              <a:chExt cx="816840" cy="418320"/>
            </a:xfrm>
          </p:grpSpPr>
          <p:sp>
            <p:nvSpPr>
              <p:cNvPr id="423" name=""/>
              <p:cNvSpPr/>
              <p:nvPr/>
            </p:nvSpPr>
            <p:spPr>
              <a:xfrm>
                <a:off x="1008720" y="3024000"/>
                <a:ext cx="582480" cy="311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87640" y="302400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0" y="144"/>
                    </a:lnTo>
                    <a:lnTo>
                      <a:pt x="96" y="288"/>
                    </a:lnTo>
                    <a:lnTo>
                      <a:pt x="96" y="240"/>
                    </a:lnTo>
                    <a:lnTo>
                      <a:pt x="288" y="240"/>
                    </a:lnTo>
                    <a:lnTo>
                      <a:pt x="288" y="288"/>
                    </a:lnTo>
                    <a:lnTo>
                      <a:pt x="384" y="144"/>
                    </a:lnTo>
                    <a:lnTo>
                      <a:pt x="288" y="0"/>
                    </a:lnTo>
                    <a:lnTo>
                      <a:pt x="288" y="48"/>
                    </a:lnTo>
                    <a:lnTo>
                      <a:pt x="96" y="48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23480" y="303228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4360" y="3054240"/>
                <a:ext cx="223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24000" y="3054240"/>
                <a:ext cx="264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.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47600" y="3261960"/>
                <a:ext cx="456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nternal_L.EGF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08720" y="310176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114300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0872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98280" y="3028680"/>
                <a:ext cx="11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1322280" y="31536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67280" y="315360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1367280" y="32317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54720" y="3340080"/>
                <a:ext cx="271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 = EG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85440" y="297180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15760" y="297180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50720" y="297180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440" y="343980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440" y="3881520"/>
              <a:ext cx="132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92520" y="3881520"/>
              <a:ext cx="1123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5440" y="442584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91800" y="4789440"/>
              <a:ext cx="1368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" y="5257800"/>
              <a:ext cx="1080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92160" y="5257800"/>
              <a:ext cx="1080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225600" y="3024000"/>
              <a:ext cx="1129320" cy="727560"/>
              <a:chOff x="3225600" y="3024000"/>
              <a:chExt cx="1129320" cy="727560"/>
            </a:xfrm>
          </p:grpSpPr>
          <p:sp>
            <p:nvSpPr>
              <p:cNvPr id="448" name=""/>
              <p:cNvSpPr/>
              <p:nvPr/>
            </p:nvSpPr>
            <p:spPr>
              <a:xfrm>
                <a:off x="3315600" y="3054240"/>
                <a:ext cx="37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_RN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16680" y="3236400"/>
                <a:ext cx="344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Nucleotide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269880" y="3101760"/>
                <a:ext cx="277920" cy="131760"/>
                <a:chOff x="3269880" y="3101760"/>
                <a:chExt cx="277920" cy="131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279240" y="3101760"/>
                  <a:ext cx="26856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279240" y="3153600"/>
                  <a:ext cx="26856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269880" y="3131280"/>
                  <a:ext cx="22536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3592440" y="3127680"/>
                <a:ext cx="0" cy="103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547440" y="312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92440" y="3127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85240" y="3133080"/>
                <a:ext cx="2512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Bas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transcr.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033080" y="3054240"/>
                <a:ext cx="235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32360" y="3341520"/>
                <a:ext cx="2556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95640" y="302400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995640" y="330948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95640" y="3595320"/>
                <a:ext cx="359280" cy="156240"/>
              </a:xfrm>
              <a:custGeom>
                <a:avLst/>
                <a:gdLst/>
                <a:ahLst/>
                <a:rect l="l" t="t" r="r" b="b"/>
                <a:pathLst>
                  <a:path w="385" h="289">
                    <a:moveTo>
                      <a:pt x="96" y="0"/>
                    </a:moveTo>
                    <a:lnTo>
                      <a:pt x="96" y="48"/>
                    </a:lnTo>
                    <a:lnTo>
                      <a:pt x="288" y="48"/>
                    </a:lnTo>
                    <a:lnTo>
                      <a:pt x="288" y="0"/>
                    </a:lnTo>
                    <a:lnTo>
                      <a:pt x="384" y="144"/>
                    </a:lnTo>
                    <a:lnTo>
                      <a:pt x="288" y="288"/>
                    </a:lnTo>
                    <a:lnTo>
                      <a:pt x="288" y="240"/>
                    </a:lnTo>
                    <a:lnTo>
                      <a:pt x="96" y="240"/>
                    </a:lnTo>
                    <a:lnTo>
                      <a:pt x="96" y="288"/>
                    </a:lnTo>
                    <a:lnTo>
                      <a:pt x="0" y="14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26720" y="3101760"/>
                <a:ext cx="26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3951000" y="30758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951000" y="310176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32000" y="3627360"/>
                <a:ext cx="27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MKP-1*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4041360" y="3179520"/>
                <a:ext cx="268920" cy="173880"/>
                <a:chOff x="4041360" y="3179520"/>
                <a:chExt cx="268920" cy="173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041360" y="317952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041360" y="323136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059000" y="319032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041360" y="3465360"/>
                <a:ext cx="268920" cy="173880"/>
                <a:chOff x="4041360" y="3465360"/>
                <a:chExt cx="268920" cy="173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041360" y="346536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041360" y="351720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059000" y="347616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3681720" y="3179520"/>
                <a:ext cx="313560" cy="18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225600" y="3366360"/>
                <a:ext cx="492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UBIQUITINATIO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816000" y="338724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82080" y="333540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82080" y="33613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816360" y="33613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16360" y="33872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3681720" y="3439080"/>
                <a:ext cx="313560" cy="18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82080" y="34394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82080" y="343944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36080" y="302868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Synth.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970200" y="3963960"/>
              <a:ext cx="1630440" cy="439920"/>
              <a:chOff x="970200" y="3963960"/>
              <a:chExt cx="1630440" cy="439920"/>
            </a:xfrm>
          </p:grpSpPr>
          <p:sp>
            <p:nvSpPr>
              <p:cNvPr id="487" name=""/>
              <p:cNvSpPr/>
              <p:nvPr/>
            </p:nvSpPr>
            <p:spPr>
              <a:xfrm>
                <a:off x="1860120" y="4088880"/>
                <a:ext cx="314640" cy="286200"/>
              </a:xfrm>
              <a:custGeom>
                <a:avLst/>
                <a:gdLst/>
                <a:ahLst/>
                <a:rect l="l" t="t" r="r" b="b"/>
                <a:pathLst>
                  <a:path w="337" h="529">
                    <a:moveTo>
                      <a:pt x="336" y="0"/>
                    </a:moveTo>
                    <a:lnTo>
                      <a:pt x="336" y="144"/>
                    </a:lnTo>
                    <a:lnTo>
                      <a:pt x="48" y="144"/>
                    </a:lnTo>
                    <a:lnTo>
                      <a:pt x="48" y="384"/>
                    </a:lnTo>
                    <a:lnTo>
                      <a:pt x="336" y="384"/>
                    </a:lnTo>
                    <a:lnTo>
                      <a:pt x="336" y="528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336" y="0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501560" y="4037040"/>
                <a:ext cx="268920" cy="18144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61320" y="407160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44000" y="422388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70200" y="3976200"/>
                <a:ext cx="2862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(inactive)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2331720" y="4075920"/>
                <a:ext cx="268920" cy="174240"/>
                <a:chOff x="2331720" y="4075920"/>
                <a:chExt cx="268920" cy="1742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331720" y="407592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331720" y="412776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344320" y="408708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1900080" y="4160160"/>
                <a:ext cx="268920" cy="129600"/>
                <a:chOff x="1900080" y="4160160"/>
                <a:chExt cx="268920" cy="129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900080" y="416016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00080" y="421200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11960" y="4171320"/>
                  <a:ext cx="18396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Sos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239120" y="4189320"/>
                <a:ext cx="268560" cy="189360"/>
                <a:chOff x="1239120" y="4189320"/>
                <a:chExt cx="268560" cy="1893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328400" y="4189320"/>
                  <a:ext cx="179280" cy="155880"/>
                </a:xfrm>
                <a:prstGeom prst="rightArrow">
                  <a:avLst>
                    <a:gd name="adj1" fmla="val 75009"/>
                    <a:gd name="adj2" fmla="val 57511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239120" y="4189320"/>
                  <a:ext cx="179280" cy="155880"/>
                </a:xfrm>
                <a:prstGeom prst="leftArrow">
                  <a:avLst>
                    <a:gd name="adj1" fmla="val 75009"/>
                    <a:gd name="adj2" fmla="val 57500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276920" y="421560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C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546200" y="403704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501560" y="40370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546200" y="41407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91840" y="4223880"/>
                <a:ext cx="20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447560" y="4171680"/>
                <a:ext cx="234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537200" y="4066560"/>
                <a:ext cx="11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50760" y="4093560"/>
                <a:ext cx="29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D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51120" y="4301640"/>
                <a:ext cx="29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Ra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2218320" y="4140720"/>
                <a:ext cx="134640" cy="181440"/>
                <a:chOff x="2218320" y="4140720"/>
                <a:chExt cx="134640" cy="1814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18680" y="414072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52960" y="421848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2218320" y="424440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218680" y="414072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2218680" y="41407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 flipV="1">
                <a:off x="2174040" y="416664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2129040" y="4166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74040" y="41666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1725120" y="4114800"/>
                <a:ext cx="134640" cy="233640"/>
                <a:chOff x="1725120" y="4114800"/>
                <a:chExt cx="134640" cy="233640"/>
              </a:xfrm>
            </p:grpSpPr>
            <p:sp>
              <p:nvSpPr>
                <p:cNvPr id="522" name=""/>
                <p:cNvSpPr/>
                <p:nvPr/>
              </p:nvSpPr>
              <p:spPr>
                <a:xfrm flipH="1" flipV="1">
                  <a:off x="1725120" y="427068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1725480" y="424440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1725480" y="416664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1815120" y="43484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859760" y="43225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725480" y="421848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1725480" y="419220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725480" y="4114800"/>
                  <a:ext cx="13428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859760" y="427068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1815120" y="429660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343960" y="4196880"/>
                <a:ext cx="190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AP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43240" y="4015800"/>
                <a:ext cx="209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AP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986760" y="4101840"/>
                <a:ext cx="268920" cy="173520"/>
                <a:chOff x="986760" y="4101840"/>
                <a:chExt cx="268920" cy="1735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986760" y="4101840"/>
                  <a:ext cx="268920" cy="7776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86760" y="4153680"/>
                  <a:ext cx="268920" cy="7776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999360" y="4112280"/>
                  <a:ext cx="2116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KA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1447200" y="396396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EF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70400" y="3988800"/>
                <a:ext cx="402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 = G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</a:t>
                </a: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, Ca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928600" y="4847040"/>
              <a:ext cx="1426320" cy="414720"/>
              <a:chOff x="2928600" y="4847040"/>
              <a:chExt cx="1426320" cy="414720"/>
            </a:xfrm>
          </p:grpSpPr>
          <p:sp>
            <p:nvSpPr>
              <p:cNvPr id="541" name=""/>
              <p:cNvSpPr/>
              <p:nvPr/>
            </p:nvSpPr>
            <p:spPr>
              <a:xfrm>
                <a:off x="2935800" y="4946400"/>
                <a:ext cx="1166040" cy="208080"/>
              </a:xfrm>
              <a:custGeom>
                <a:avLst/>
                <a:gdLst/>
                <a:ahLst/>
                <a:rect l="l" t="t" r="r" b="b"/>
                <a:pathLst>
                  <a:path w="1249" h="385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240"/>
                    </a:lnTo>
                    <a:lnTo>
                      <a:pt x="1248" y="240"/>
                    </a:lnTo>
                    <a:lnTo>
                      <a:pt x="1248" y="384"/>
                    </a:lnTo>
                    <a:lnTo>
                      <a:pt x="0" y="3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375000" y="4847040"/>
                <a:ext cx="173160" cy="102240"/>
                <a:chOff x="3375000" y="4847040"/>
                <a:chExt cx="173160" cy="10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375000" y="484704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399120" y="485100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375000" y="5159520"/>
                <a:ext cx="173160" cy="102240"/>
                <a:chOff x="3375000" y="5159520"/>
                <a:chExt cx="173160" cy="10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375000" y="515952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399120" y="516276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3981600" y="4980960"/>
                <a:ext cx="14940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05880" y="498096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62160" y="4873680"/>
                <a:ext cx="181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689280" y="4873680"/>
                <a:ext cx="258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28600" y="5106960"/>
                <a:ext cx="3790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Gq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1800" y="5106960"/>
                <a:ext cx="456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GTP.Gq.PL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30720" y="4951440"/>
                <a:ext cx="2678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TP.Gq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0000" y="5002200"/>
                <a:ext cx="2739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GDP.Gq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6008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16008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11544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4256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4256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36979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3256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787560" y="50763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3256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54480" y="4955040"/>
                <a:ext cx="283680" cy="11232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61160" y="4973040"/>
                <a:ext cx="358200" cy="20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2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20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85440" y="4973040"/>
                <a:ext cx="447480" cy="20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75080" y="505080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3249720" y="4894560"/>
                <a:ext cx="403200" cy="51840"/>
                <a:chOff x="3249720" y="4894560"/>
                <a:chExt cx="403200" cy="518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249720" y="4920480"/>
                  <a:ext cx="403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 flipV="1">
                  <a:off x="3607920" y="489456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49720" y="492048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3339360" y="515412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3518640" y="51541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339360" y="5127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959280" y="4976640"/>
                <a:ext cx="365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IP3   +  DA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4056480" y="4868280"/>
                <a:ext cx="44640" cy="103680"/>
                <a:chOff x="4056480" y="4868280"/>
                <a:chExt cx="44640" cy="1036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056480" y="489420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56480" y="49460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4056480" y="486828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4101120" y="494604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4056480" y="497196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4056480" y="5050080"/>
                <a:ext cx="44640" cy="103680"/>
                <a:chOff x="4056480" y="5050080"/>
                <a:chExt cx="44640" cy="103680"/>
              </a:xfrm>
            </p:grpSpPr>
            <p:sp>
              <p:nvSpPr>
                <p:cNvPr id="584" name=""/>
                <p:cNvSpPr/>
                <p:nvPr/>
              </p:nvSpPr>
              <p:spPr>
                <a:xfrm flipV="1">
                  <a:off x="4056480" y="5076000"/>
                  <a:ext cx="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4056480" y="50500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056480" y="512820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01120" y="505044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4056480" y="50504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4093200" y="484704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93200" y="5132520"/>
                <a:ext cx="1810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</a:t>
                </a:r>
                <a:r>
                  <a:rPr b="0" lang="en-US" sz="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50440" y="505080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249720" y="4946400"/>
                <a:ext cx="0" cy="1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497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204720" y="4946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3105720" y="5289480"/>
              <a:ext cx="1180440" cy="673560"/>
              <a:chOff x="3105720" y="5289480"/>
              <a:chExt cx="1180440" cy="673560"/>
            </a:xfrm>
          </p:grpSpPr>
          <p:sp>
            <p:nvSpPr>
              <p:cNvPr id="596" name=""/>
              <p:cNvSpPr/>
              <p:nvPr/>
            </p:nvSpPr>
            <p:spPr>
              <a:xfrm>
                <a:off x="3115080" y="5621400"/>
                <a:ext cx="851400" cy="23364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88760" y="586404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26240" y="5422320"/>
                <a:ext cx="149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106800" y="5361840"/>
                <a:ext cx="277560" cy="193680"/>
                <a:chOff x="3106800" y="5361840"/>
                <a:chExt cx="277560" cy="1936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115800" y="5439600"/>
                  <a:ext cx="268560" cy="103680"/>
                </a:xfrm>
                <a:prstGeom prst="downArrow">
                  <a:avLst>
                    <a:gd name="adj1" fmla="val 75009"/>
                    <a:gd name="adj2" fmla="val 5000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115800" y="5361840"/>
                  <a:ext cx="268560" cy="103680"/>
                </a:xfrm>
                <a:prstGeom prst="upArrow">
                  <a:avLst>
                    <a:gd name="adj1" fmla="val 75009"/>
                    <a:gd name="adj2" fmla="val 49995"/>
                  </a:avLst>
                </a:pr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06800" y="5392440"/>
                  <a:ext cx="23904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MAPK,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PP2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3150720" y="5314680"/>
                <a:ext cx="2253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A2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50720" y="5547960"/>
                <a:ext cx="2055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29000" y="536184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29000" y="53359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6079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43560" y="5314680"/>
                <a:ext cx="3031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A2*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43560" y="5547960"/>
                <a:ext cx="2833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29000" y="5595480"/>
                <a:ext cx="223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2900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607920" y="556956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000320" y="5418000"/>
                <a:ext cx="15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00320" y="528948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00320" y="557496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966840" y="5309640"/>
                <a:ext cx="44640" cy="129600"/>
                <a:chOff x="3966840" y="5309640"/>
                <a:chExt cx="44640" cy="12960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66840" y="533556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66840" y="54133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4011480" y="541332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3966840" y="54392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3966840" y="53096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3966840" y="5491800"/>
                <a:ext cx="44640" cy="129240"/>
                <a:chOff x="3966840" y="5491800"/>
                <a:chExt cx="44640" cy="129240"/>
              </a:xfrm>
            </p:grpSpPr>
            <p:sp>
              <p:nvSpPr>
                <p:cNvPr id="623" name=""/>
                <p:cNvSpPr/>
                <p:nvPr/>
              </p:nvSpPr>
              <p:spPr>
                <a:xfrm flipV="1">
                  <a:off x="3966840" y="551772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3966840" y="549180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011480" y="5491800"/>
                  <a:ext cx="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3966840" y="549180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966840" y="5595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3151080" y="5756400"/>
                <a:ext cx="25272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600000" y="5756400"/>
                <a:ext cx="33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.Ca.PLA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62840" y="5652720"/>
                <a:ext cx="1170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339000" y="562140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339000" y="57254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2943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42560" y="5621400"/>
                <a:ext cx="0" cy="12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3697920" y="57254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42560" y="56214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340080" y="56739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74720" y="567396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88760" y="565632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05720" y="586080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823200" y="5860800"/>
                <a:ext cx="1872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P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3204720" y="5829120"/>
                <a:ext cx="268560" cy="25920"/>
                <a:chOff x="3204720" y="5829120"/>
                <a:chExt cx="268560" cy="25920"/>
              </a:xfrm>
            </p:grpSpPr>
            <p:sp>
              <p:nvSpPr>
                <p:cNvPr id="643" name=""/>
                <p:cNvSpPr/>
                <p:nvPr/>
              </p:nvSpPr>
              <p:spPr>
                <a:xfrm flipV="1">
                  <a:off x="3204720" y="582912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49360" y="5829480"/>
                  <a:ext cx="17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428640" y="5829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3473280" y="58291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3428640" y="58550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652920" y="5829120"/>
                <a:ext cx="268200" cy="25920"/>
                <a:chOff x="3652920" y="5829120"/>
                <a:chExt cx="268200" cy="25920"/>
              </a:xfrm>
            </p:grpSpPr>
            <p:sp>
              <p:nvSpPr>
                <p:cNvPr id="649" name=""/>
                <p:cNvSpPr/>
                <p:nvPr/>
              </p:nvSpPr>
              <p:spPr>
                <a:xfrm flipH="1" flipV="1">
                  <a:off x="3876480" y="582912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697200" y="5829480"/>
                  <a:ext cx="17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3652920" y="5829480"/>
                  <a:ext cx="4464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3652920" y="5829120"/>
                  <a:ext cx="0" cy="25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652920" y="5855040"/>
                  <a:ext cx="44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464640" y="5860800"/>
                <a:ext cx="1504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3420360" y="5445000"/>
                <a:ext cx="172080" cy="102240"/>
                <a:chOff x="3420360" y="5445000"/>
                <a:chExt cx="172080" cy="102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420360" y="5445000"/>
                  <a:ext cx="14760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1400" rIns="41400" tIns="20520" bIns="205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09680"/>
                      <a:tab algn="l" pos="819000"/>
                      <a:tab algn="l" pos="1228680"/>
                      <a:tab algn="l" pos="1638360"/>
                      <a:tab algn="l" pos="2048040"/>
                      <a:tab algn="l" pos="2457360"/>
                      <a:tab algn="l" pos="2867040"/>
                      <a:tab algn="l" pos="3276720"/>
                      <a:tab algn="l" pos="3686040"/>
                      <a:tab algn="l" pos="4095720"/>
                      <a:tab algn="l" pos="4505400"/>
                      <a:tab algn="l" pos="4915080"/>
                      <a:tab algn="l" pos="5324400"/>
                      <a:tab algn="l" pos="5734080"/>
                      <a:tab algn="l" pos="6143760"/>
                      <a:tab algn="l" pos="6553080"/>
                      <a:tab algn="l" pos="6962760"/>
                      <a:tab algn="l" pos="7372440"/>
                      <a:tab algn="l" pos="7781760"/>
                      <a:tab algn="l" pos="8191440"/>
                    </a:tabLst>
                  </a:pPr>
                  <a:r>
                    <a:rPr b="0" lang="en-US" sz="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443400" y="5447880"/>
                  <a:ext cx="149040" cy="60480"/>
                </a:xfrm>
                <a:prstGeom prst="rect">
                  <a:avLst/>
                </a:prstGeom>
                <a:noFill/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3474720" y="5362200"/>
                <a:ext cx="26820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6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4720" y="5439960"/>
                <a:ext cx="26820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3652920" y="5881320"/>
                <a:ext cx="179280" cy="51840"/>
                <a:chOff x="3652920" y="5881320"/>
                <a:chExt cx="179280" cy="518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652920" y="5907240"/>
                  <a:ext cx="179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>
                  <a:off x="3787200" y="588132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3787200" y="59072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H="1">
                <a:off x="3294000" y="5907240"/>
                <a:ext cx="178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3294360" y="588132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94360" y="59072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4056120" y="5491800"/>
                <a:ext cx="88920" cy="77760"/>
                <a:chOff x="4056120" y="5491800"/>
                <a:chExt cx="88920" cy="7776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100760" y="5491800"/>
                  <a:ext cx="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100760" y="5543640"/>
                  <a:ext cx="4428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4056120" y="5543640"/>
                  <a:ext cx="44640" cy="25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"/>
              <p:cNvSpPr/>
              <p:nvPr/>
            </p:nvSpPr>
            <p:spPr>
              <a:xfrm flipV="1">
                <a:off x="4101120" y="536184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1011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0561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89160" y="5730840"/>
                <a:ext cx="297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X = DAG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IP2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4765680" y="3024360"/>
            <a:ext cx="1338120" cy="478800"/>
            <a:chOff x="4765680" y="3024360"/>
            <a:chExt cx="1338120" cy="478800"/>
          </a:xfrm>
        </p:grpSpPr>
        <p:sp>
          <p:nvSpPr>
            <p:cNvPr id="676" name=""/>
            <p:cNvSpPr/>
            <p:nvPr/>
          </p:nvSpPr>
          <p:spPr>
            <a:xfrm>
              <a:off x="5909760" y="321444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74680" y="3024360"/>
              <a:ext cx="1119600" cy="155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89800" y="3084840"/>
              <a:ext cx="417960" cy="8640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74680" y="3309840"/>
              <a:ext cx="1119600" cy="15552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89800" y="3318480"/>
              <a:ext cx="417960" cy="60120"/>
            </a:xfrm>
            <a:prstGeom prst="rect">
              <a:avLst/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33160" y="32112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10320" y="3076560"/>
              <a:ext cx="3675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04960" y="3029040"/>
              <a:ext cx="4233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 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92800" y="3392640"/>
              <a:ext cx="4806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92800" y="32112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84560" y="32112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401800" y="31021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22520" y="32317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222520" y="310212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64680" y="3102120"/>
              <a:ext cx="53676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22520" y="325800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401800" y="33876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520" y="32580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91440" y="31021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70720" y="310212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05000" y="31021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984280" y="3179520"/>
              <a:ext cx="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939640" y="32058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91440" y="328356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70720" y="338760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805000" y="328356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84280" y="328356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939640" y="32835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65680" y="3314520"/>
              <a:ext cx="481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AC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0800000">
              <a:off x="5044680" y="3335760"/>
              <a:ext cx="3574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155560" y="3089160"/>
              <a:ext cx="22392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5155560" y="3192480"/>
              <a:ext cx="44640" cy="25920"/>
              <a:chOff x="5155560" y="3192480"/>
              <a:chExt cx="44640" cy="259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155560" y="319248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55560" y="32184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20480" y="3063240"/>
              <a:ext cx="44748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1400" y="4141800"/>
            <a:ext cx="1263240" cy="289440"/>
            <a:chOff x="4721400" y="4141800"/>
            <a:chExt cx="1263240" cy="289440"/>
          </a:xfrm>
        </p:grpSpPr>
        <p:sp>
          <p:nvSpPr>
            <p:cNvPr id="712" name=""/>
            <p:cNvSpPr/>
            <p:nvPr/>
          </p:nvSpPr>
          <p:spPr>
            <a:xfrm>
              <a:off x="4730400" y="4271760"/>
              <a:ext cx="1254240" cy="155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57520" y="4271760"/>
              <a:ext cx="627120" cy="51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33600" y="4141800"/>
              <a:ext cx="851040" cy="129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48720" y="4176360"/>
              <a:ext cx="283320" cy="60480"/>
            </a:xfrm>
            <a:prstGeom prst="rect">
              <a:avLst/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2800" y="43290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21400" y="432900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1360" y="432900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909680" y="4297680"/>
              <a:ext cx="312840" cy="51840"/>
              <a:chOff x="4909680" y="4297680"/>
              <a:chExt cx="312840" cy="51840"/>
            </a:xfrm>
          </p:grpSpPr>
          <p:sp>
            <p:nvSpPr>
              <p:cNvPr id="720" name=""/>
              <p:cNvSpPr/>
              <p:nvPr/>
            </p:nvSpPr>
            <p:spPr>
              <a:xfrm flipV="1">
                <a:off x="490968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909680" y="43236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09680" y="4349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998960" y="429768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3324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447520" y="4297680"/>
              <a:ext cx="313200" cy="51840"/>
              <a:chOff x="5447520" y="4297680"/>
              <a:chExt cx="313200" cy="51840"/>
            </a:xfrm>
          </p:grpSpPr>
          <p:sp>
            <p:nvSpPr>
              <p:cNvPr id="726" name=""/>
              <p:cNvSpPr/>
              <p:nvPr/>
            </p:nvSpPr>
            <p:spPr>
              <a:xfrm flipH="1" flipV="1">
                <a:off x="567108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760720" y="43236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5716080" y="434952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536440" y="429768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5447520" y="429768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5127480" y="417204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00320" y="4224600"/>
              <a:ext cx="21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41760" y="4224600"/>
              <a:ext cx="438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PDE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33600" y="424584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5402520" y="4219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33600" y="4245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38360" y="4332240"/>
              <a:ext cx="194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246360" y="3517200"/>
            <a:ext cx="2066040" cy="714600"/>
            <a:chOff x="6246360" y="3517200"/>
            <a:chExt cx="2066040" cy="714600"/>
          </a:xfrm>
        </p:grpSpPr>
        <p:sp>
          <p:nvSpPr>
            <p:cNvPr id="739" name=""/>
            <p:cNvSpPr/>
            <p:nvPr/>
          </p:nvSpPr>
          <p:spPr>
            <a:xfrm>
              <a:off x="7106040" y="3751560"/>
              <a:ext cx="403200" cy="3117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41880" y="3708360"/>
              <a:ext cx="14940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46360" y="3704760"/>
              <a:ext cx="241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ex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16360" y="3522600"/>
              <a:ext cx="2984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pu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23560" y="3675600"/>
              <a:ext cx="358560" cy="47520"/>
              <a:chOff x="6523560" y="3675600"/>
              <a:chExt cx="358560" cy="47520"/>
            </a:xfrm>
          </p:grpSpPr>
          <p:sp>
            <p:nvSpPr>
              <p:cNvPr id="744" name=""/>
              <p:cNvSpPr/>
              <p:nvPr/>
            </p:nvSpPr>
            <p:spPr>
              <a:xfrm>
                <a:off x="6616800" y="367560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523560" y="369936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6560280" y="362592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eak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523560" y="3753720"/>
              <a:ext cx="358560" cy="47520"/>
              <a:chOff x="6523560" y="3753720"/>
              <a:chExt cx="358560" cy="47520"/>
            </a:xfrm>
          </p:grpSpPr>
          <p:sp>
            <p:nvSpPr>
              <p:cNvPr id="748" name=""/>
              <p:cNvSpPr/>
              <p:nvPr/>
            </p:nvSpPr>
            <p:spPr>
              <a:xfrm>
                <a:off x="6616800" y="375372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523560" y="37774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6473160" y="3808440"/>
              <a:ext cx="39132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pacitiv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2+ channe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18480" y="370476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388920" y="35953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792120" y="3595320"/>
              <a:ext cx="17892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68200" y="3595320"/>
              <a:ext cx="22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88920" y="36993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7151040" y="3675600"/>
              <a:ext cx="358560" cy="47520"/>
              <a:chOff x="7151040" y="3675600"/>
              <a:chExt cx="358560" cy="47520"/>
            </a:xfrm>
          </p:grpSpPr>
          <p:sp>
            <p:nvSpPr>
              <p:cNvPr id="757" name=""/>
              <p:cNvSpPr/>
              <p:nvPr/>
            </p:nvSpPr>
            <p:spPr>
              <a:xfrm>
                <a:off x="7244280" y="367560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151040" y="369936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151040" y="3753720"/>
              <a:ext cx="358560" cy="47520"/>
              <a:chOff x="7151040" y="3753720"/>
              <a:chExt cx="358560" cy="47520"/>
            </a:xfrm>
          </p:grpSpPr>
          <p:sp>
            <p:nvSpPr>
              <p:cNvPr id="760" name=""/>
              <p:cNvSpPr/>
              <p:nvPr/>
            </p:nvSpPr>
            <p:spPr>
              <a:xfrm>
                <a:off x="7244280" y="3753720"/>
                <a:ext cx="171720" cy="47520"/>
              </a:xfrm>
              <a:prstGeom prst="roundRect">
                <a:avLst>
                  <a:gd name="adj" fmla="val 12495"/>
                </a:avLst>
              </a:prstGeom>
              <a:solidFill>
                <a:srgbClr val="cce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1040" y="3777480"/>
                <a:ext cx="358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7187040" y="362592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eak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9560" y="3808440"/>
              <a:ext cx="318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P3R ope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56680" y="3704760"/>
              <a:ext cx="3121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store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72800" y="4068720"/>
              <a:ext cx="37620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p_channe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losed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88120" y="4068720"/>
              <a:ext cx="26172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P3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losed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4200" y="3938400"/>
              <a:ext cx="2541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stores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98480" y="3938400"/>
              <a:ext cx="18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3 IP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02480" y="3907440"/>
              <a:ext cx="0" cy="1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02480" y="40370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657840" y="39074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285320" y="388152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30320" y="40370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86000" y="3522600"/>
              <a:ext cx="476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2.Ca_transpor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72760" y="3861000"/>
              <a:ext cx="3715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_transpor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25240" y="365220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38440" y="3652200"/>
              <a:ext cx="27396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(cytosol)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57800" y="3595320"/>
              <a:ext cx="0" cy="25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99240" y="3517200"/>
              <a:ext cx="358200" cy="20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147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1477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791316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7440" y="3595320"/>
              <a:ext cx="0" cy="25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47440" y="3595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800280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957800" y="3829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21160" y="3942000"/>
              <a:ext cx="194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30320" y="388152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388920" y="367344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244920" y="2919600"/>
            <a:ext cx="2116080" cy="627120"/>
            <a:chOff x="6244920" y="2919600"/>
            <a:chExt cx="2116080" cy="627120"/>
          </a:xfrm>
        </p:grpSpPr>
        <p:sp>
          <p:nvSpPr>
            <p:cNvPr id="789" name=""/>
            <p:cNvSpPr/>
            <p:nvPr/>
          </p:nvSpPr>
          <p:spPr>
            <a:xfrm>
              <a:off x="6523200" y="3049560"/>
              <a:ext cx="1837800" cy="364680"/>
            </a:xfrm>
            <a:custGeom>
              <a:avLst/>
              <a:gdLst/>
              <a:ahLst/>
              <a:rect l="l" t="t" r="r" b="b"/>
              <a:pathLst>
                <a:path w="1969" h="673">
                  <a:moveTo>
                    <a:pt x="0" y="0"/>
                  </a:moveTo>
                  <a:lnTo>
                    <a:pt x="768" y="0"/>
                  </a:lnTo>
                  <a:lnTo>
                    <a:pt x="768" y="480"/>
                  </a:lnTo>
                  <a:lnTo>
                    <a:pt x="1440" y="480"/>
                  </a:lnTo>
                  <a:lnTo>
                    <a:pt x="1440" y="0"/>
                  </a:lnTo>
                  <a:lnTo>
                    <a:pt x="1968" y="0"/>
                  </a:lnTo>
                  <a:lnTo>
                    <a:pt x="1968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24280" y="3335760"/>
              <a:ext cx="267840" cy="77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4280" y="3049560"/>
              <a:ext cx="269640" cy="364680"/>
            </a:xfrm>
            <a:custGeom>
              <a:avLst/>
              <a:gdLst/>
              <a:ahLst/>
              <a:rect l="l" t="t" r="r" b="b"/>
              <a:pathLst>
                <a:path w="289" h="673">
                  <a:moveTo>
                    <a:pt x="288" y="0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288" y="672"/>
                  </a:lnTo>
                  <a:lnTo>
                    <a:pt x="288" y="480"/>
                  </a:lnTo>
                  <a:lnTo>
                    <a:pt x="144" y="480"/>
                  </a:lnTo>
                  <a:lnTo>
                    <a:pt x="144" y="192"/>
                  </a:lnTo>
                  <a:lnTo>
                    <a:pt x="288" y="192"/>
                  </a:lnTo>
                  <a:lnTo>
                    <a:pt x="28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92120" y="3179520"/>
              <a:ext cx="1568160" cy="23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39960" y="3049560"/>
              <a:ext cx="627480" cy="25992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964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306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6532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338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96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780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1520" y="3179520"/>
              <a:ext cx="328320" cy="15588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86760" y="317952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6176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2748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92840" y="3179520"/>
              <a:ext cx="492840" cy="23400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2840" y="3257640"/>
              <a:ext cx="312480" cy="14832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9284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5856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24280" y="3335760"/>
              <a:ext cx="164160" cy="77760"/>
            </a:xfrm>
            <a:prstGeom prst="line">
              <a:avLst/>
            </a:prstGeom>
            <a:ln w="255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67800" y="3049560"/>
              <a:ext cx="491760" cy="129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44920" y="3079800"/>
              <a:ext cx="278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45640" y="3340080"/>
              <a:ext cx="2725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8080" y="3079800"/>
              <a:ext cx="335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59880" y="3340080"/>
              <a:ext cx="426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.R.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55240" y="3209760"/>
              <a:ext cx="179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478560" y="315324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43356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7856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7840" y="310140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836760" y="31014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567840" y="307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67840" y="3387600"/>
              <a:ext cx="403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67840" y="3387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58560" y="3102120"/>
              <a:ext cx="35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09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6567840" y="3361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8560" y="3179520"/>
              <a:ext cx="35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16040" y="3153600"/>
              <a:ext cx="0" cy="18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97140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016040" y="3309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898760" y="3079800"/>
              <a:ext cx="385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R.GDP.G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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58200" y="3387960"/>
              <a:ext cx="178560" cy="103320"/>
              <a:chOff x="6658200" y="3387960"/>
              <a:chExt cx="178560" cy="103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658560" y="3387960"/>
                <a:ext cx="17820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419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58200" y="3387960"/>
                <a:ext cx="177840" cy="10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6737040" y="344448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12400" y="3444480"/>
              <a:ext cx="1933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87040" y="3236760"/>
              <a:ext cx="1612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.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39960" y="3101400"/>
              <a:ext cx="67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867800" y="31014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7239960" y="307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498800" y="3106440"/>
              <a:ext cx="129240" cy="102240"/>
              <a:chOff x="7498800" y="3106440"/>
              <a:chExt cx="129240" cy="10224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3640" y="3110040"/>
                <a:ext cx="104400" cy="60840"/>
              </a:xfrm>
              <a:prstGeom prst="rect">
                <a:avLst/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498800" y="3106440"/>
                <a:ext cx="1202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7464240" y="31536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329600" y="3153600"/>
              <a:ext cx="178920" cy="10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29960" y="325764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7499520" y="3209760"/>
              <a:ext cx="128520" cy="102240"/>
              <a:chOff x="7499520" y="3209760"/>
              <a:chExt cx="128520" cy="102240"/>
            </a:xfrm>
          </p:grpSpPr>
          <p:sp>
            <p:nvSpPr>
              <p:cNvPr id="846" name=""/>
              <p:cNvSpPr/>
              <p:nvPr/>
            </p:nvSpPr>
            <p:spPr>
              <a:xfrm>
                <a:off x="7523640" y="3213720"/>
                <a:ext cx="104400" cy="60480"/>
              </a:xfrm>
              <a:prstGeom prst="rect">
                <a:avLst/>
              </a:prstGeom>
              <a:noFill/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499520" y="3209760"/>
                <a:ext cx="11088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6792120" y="3205440"/>
              <a:ext cx="52056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3" y="16051"/>
                  </a:moveTo>
                  <a:arcTo wR="10800" hR="10800" stAng="9054487" swAng="99037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3" y="16051"/>
                  </a:moveTo>
                  <a:arcTo wR="10800" hR="10800" stAng="9054487" swAng="990374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17120" y="3258000"/>
              <a:ext cx="44748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42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4265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85320" y="3232080"/>
              <a:ext cx="4554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7" y="3429"/>
                  </a:moveTo>
                  <a:arcTo wR="10800" hR="10800" stAng="-8217539" swAng="2733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7" y="3429"/>
                  </a:moveTo>
                  <a:arcTo wR="10800" hR="10800" stAng="-8217539" swAng="27331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29960" y="3179520"/>
              <a:ext cx="26820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464240" y="3361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82120" y="2919600"/>
              <a:ext cx="1163880" cy="46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46720" y="3153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82960" y="3214080"/>
              <a:ext cx="14904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765680" y="3570120"/>
            <a:ext cx="1338120" cy="554760"/>
            <a:chOff x="4765680" y="3570120"/>
            <a:chExt cx="1338120" cy="554760"/>
          </a:xfrm>
        </p:grpSpPr>
        <p:sp>
          <p:nvSpPr>
            <p:cNvPr id="857" name=""/>
            <p:cNvSpPr/>
            <p:nvPr/>
          </p:nvSpPr>
          <p:spPr>
            <a:xfrm>
              <a:off x="5237640" y="357840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74680" y="3647880"/>
              <a:ext cx="1119600" cy="259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09320" y="3621960"/>
              <a:ext cx="89280" cy="5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98600" y="3673800"/>
              <a:ext cx="13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133240" y="3621960"/>
              <a:ext cx="89280" cy="5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22520" y="362196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177880" y="362196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00680" y="39636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71000" y="3963600"/>
              <a:ext cx="200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C2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12520" y="3907440"/>
              <a:ext cx="268560" cy="155520"/>
            </a:xfrm>
            <a:prstGeom prst="rightArrow">
              <a:avLst>
                <a:gd name="adj1" fmla="val 75009"/>
                <a:gd name="adj2" fmla="val 8635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33240" y="3907440"/>
              <a:ext cx="268560" cy="155520"/>
            </a:xfrm>
            <a:prstGeom prst="leftArrow">
              <a:avLst>
                <a:gd name="adj1" fmla="val 75009"/>
                <a:gd name="adj2" fmla="val 86335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13160" y="3938040"/>
              <a:ext cx="2116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KC,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10680" y="3678120"/>
              <a:ext cx="409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48160" y="3678120"/>
              <a:ext cx="42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AC2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9860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98600" y="3751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95396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1572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670720" y="3751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71572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68520" y="3803400"/>
              <a:ext cx="3682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D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.Gs</a:t>
              </a:r>
              <a:r>
                <a:rPr b="0" lang="en-US" sz="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13520" y="357480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5446800" y="3621960"/>
              <a:ext cx="312840" cy="51840"/>
              <a:chOff x="5446800" y="3621960"/>
              <a:chExt cx="312840" cy="51840"/>
            </a:xfrm>
          </p:grpSpPr>
          <p:sp>
            <p:nvSpPr>
              <p:cNvPr id="880" name=""/>
              <p:cNvSpPr/>
              <p:nvPr/>
            </p:nvSpPr>
            <p:spPr>
              <a:xfrm flipH="1">
                <a:off x="5670360" y="362196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535720" y="3673800"/>
                <a:ext cx="13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5446800" y="362196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46800" y="362196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446800" y="3621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65680" y="3570120"/>
              <a:ext cx="277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1000" y="357480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5884920" y="3834000"/>
              <a:ext cx="218880" cy="102240"/>
              <a:chOff x="5884920" y="3834000"/>
              <a:chExt cx="218880" cy="102240"/>
            </a:xfrm>
          </p:grpSpPr>
          <p:sp>
            <p:nvSpPr>
              <p:cNvPr id="888" name=""/>
              <p:cNvSpPr/>
              <p:nvPr/>
            </p:nvSpPr>
            <p:spPr>
              <a:xfrm>
                <a:off x="5909760" y="3837960"/>
                <a:ext cx="194040" cy="60480"/>
              </a:xfrm>
              <a:prstGeom prst="rect">
                <a:avLst/>
              </a:prstGeom>
              <a:noFill/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4920" y="3834000"/>
                <a:ext cx="2178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P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805000" y="3907440"/>
              <a:ext cx="89280" cy="155520"/>
              <a:chOff x="5805000" y="3907440"/>
              <a:chExt cx="89280" cy="155520"/>
            </a:xfrm>
          </p:grpSpPr>
          <p:sp>
            <p:nvSpPr>
              <p:cNvPr id="891" name=""/>
              <p:cNvSpPr/>
              <p:nvPr/>
            </p:nvSpPr>
            <p:spPr>
              <a:xfrm flipH="1" flipV="1">
                <a:off x="5805000" y="401112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5805000" y="39592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5805000" y="3907440"/>
                <a:ext cx="8928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5849280" y="3907440"/>
                <a:ext cx="4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94280" y="39074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5862960" y="4022640"/>
              <a:ext cx="181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8824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04360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508824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25720" y="3751560"/>
              <a:ext cx="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562572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5581080" y="39333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93000" y="3812040"/>
              <a:ext cx="328320" cy="8640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57520" y="3725640"/>
              <a:ext cx="35748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47160" y="3725640"/>
              <a:ext cx="17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89320" y="3725640"/>
              <a:ext cx="17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99680" y="3725640"/>
              <a:ext cx="35748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676040" y="4898880"/>
            <a:ext cx="1563480" cy="309960"/>
            <a:chOff x="4676040" y="4898880"/>
            <a:chExt cx="1563480" cy="309960"/>
          </a:xfrm>
        </p:grpSpPr>
        <p:sp>
          <p:nvSpPr>
            <p:cNvPr id="909" name=""/>
            <p:cNvSpPr/>
            <p:nvPr/>
          </p:nvSpPr>
          <p:spPr>
            <a:xfrm>
              <a:off x="510264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5084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98680" y="4928400"/>
              <a:ext cx="23868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76040" y="4924080"/>
              <a:ext cx="1886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5496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5296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6360" y="489888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9612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95640" y="489888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56200" y="492408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8600" y="497196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504288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0860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56440" y="4971960"/>
              <a:ext cx="1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549108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5644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04640" y="4971960"/>
              <a:ext cx="1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5938920" y="49456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04640" y="497196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76760" y="5106600"/>
              <a:ext cx="266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10680" y="5029200"/>
              <a:ext cx="1476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91720" y="5029200"/>
              <a:ext cx="1674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g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18960" y="4997880"/>
              <a:ext cx="0" cy="10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774320" y="49978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4818960" y="50756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4953240" y="4997880"/>
              <a:ext cx="447480" cy="194040"/>
              <a:chOff x="4953240" y="4997880"/>
              <a:chExt cx="447480" cy="194040"/>
            </a:xfrm>
          </p:grpSpPr>
          <p:sp>
            <p:nvSpPr>
              <p:cNvPr id="935" name=""/>
              <p:cNvSpPr/>
              <p:nvPr/>
            </p:nvSpPr>
            <p:spPr>
              <a:xfrm>
                <a:off x="5132160" y="4997880"/>
                <a:ext cx="268560" cy="155880"/>
              </a:xfrm>
              <a:prstGeom prst="rightArrow">
                <a:avLst>
                  <a:gd name="adj1" fmla="val 75009"/>
                  <a:gd name="adj2" fmla="val 86151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53240" y="4997880"/>
                <a:ext cx="268560" cy="155880"/>
              </a:xfrm>
              <a:prstGeom prst="leftArrow">
                <a:avLst>
                  <a:gd name="adj1" fmla="val 75009"/>
                  <a:gd name="adj2" fmla="val 8613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032800" y="5028840"/>
                <a:ext cx="2008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C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6255000" y="4219560"/>
            <a:ext cx="2150640" cy="626040"/>
            <a:chOff x="6255000" y="4219560"/>
            <a:chExt cx="2150640" cy="626040"/>
          </a:xfrm>
        </p:grpSpPr>
        <p:sp>
          <p:nvSpPr>
            <p:cNvPr id="939" name=""/>
            <p:cNvSpPr/>
            <p:nvPr/>
          </p:nvSpPr>
          <p:spPr>
            <a:xfrm>
              <a:off x="7373880" y="4245480"/>
              <a:ext cx="1031760" cy="311400"/>
            </a:xfrm>
            <a:custGeom>
              <a:avLst/>
              <a:gdLst/>
              <a:ahLst/>
              <a:rect l="l" t="t" r="r" b="b"/>
              <a:pathLst>
                <a:path w="1105" h="577">
                  <a:moveTo>
                    <a:pt x="0" y="0"/>
                  </a:moveTo>
                  <a:lnTo>
                    <a:pt x="0" y="576"/>
                  </a:lnTo>
                  <a:lnTo>
                    <a:pt x="1104" y="576"/>
                  </a:lnTo>
                  <a:lnTo>
                    <a:pt x="1104" y="432"/>
                  </a:lnTo>
                  <a:lnTo>
                    <a:pt x="768" y="432"/>
                  </a:lnTo>
                  <a:lnTo>
                    <a:pt x="768" y="144"/>
                  </a:lnTo>
                  <a:lnTo>
                    <a:pt x="1104" y="144"/>
                  </a:lnTo>
                  <a:lnTo>
                    <a:pt x="1104" y="0"/>
                  </a:lnTo>
                  <a:lnTo>
                    <a:pt x="0" y="0"/>
                  </a:lnTo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89000" y="4357800"/>
              <a:ext cx="28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67120" y="4634280"/>
              <a:ext cx="493920" cy="155880"/>
            </a:xfrm>
            <a:custGeom>
              <a:avLst/>
              <a:gdLst/>
              <a:ahLst/>
              <a:rect l="l" t="t" r="r" b="b"/>
              <a:pathLst>
                <a:path w="529" h="289">
                  <a:moveTo>
                    <a:pt x="96" y="0"/>
                  </a:move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432" y="240"/>
                  </a:lnTo>
                  <a:lnTo>
                    <a:pt x="432" y="288"/>
                  </a:lnTo>
                  <a:lnTo>
                    <a:pt x="528" y="144"/>
                  </a:lnTo>
                  <a:lnTo>
                    <a:pt x="432" y="0"/>
                  </a:lnTo>
                  <a:lnTo>
                    <a:pt x="432" y="48"/>
                  </a:lnTo>
                  <a:lnTo>
                    <a:pt x="96" y="48"/>
                  </a:lnTo>
                  <a:lnTo>
                    <a:pt x="96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298920" y="4249800"/>
              <a:ext cx="331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inac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3840" y="4249800"/>
              <a:ext cx="24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55000" y="4483080"/>
              <a:ext cx="36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aut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74640" y="4483080"/>
              <a:ext cx="353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30280" y="4249800"/>
              <a:ext cx="46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40720" y="4483080"/>
              <a:ext cx="567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50640" y="4665600"/>
              <a:ext cx="30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47080" y="4587840"/>
              <a:ext cx="46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59680" y="4638600"/>
              <a:ext cx="567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.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53560" y="4690800"/>
              <a:ext cx="353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thr28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51400" y="4743360"/>
              <a:ext cx="36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**</a:t>
              </a:r>
              <a:r>
                <a:rPr b="0" lang="en-US" sz="400" spc="-1" strike="noStrike" baseline="30000">
                  <a:solidFill>
                    <a:srgbClr val="ffffff"/>
                  </a:solidFill>
                  <a:latin typeface="Arial"/>
                </a:rPr>
                <a:t>aut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06040" y="4582440"/>
              <a:ext cx="135000" cy="233640"/>
            </a:xfrm>
            <a:custGeom>
              <a:avLst/>
              <a:gdLst/>
              <a:ahLst/>
              <a:rect l="l" t="t" r="r" b="b"/>
              <a:pathLst>
                <a:path w="145" h="433">
                  <a:moveTo>
                    <a:pt x="144" y="0"/>
                  </a:moveTo>
                  <a:lnTo>
                    <a:pt x="114" y="0"/>
                  </a:lnTo>
                  <a:lnTo>
                    <a:pt x="48" y="0"/>
                  </a:lnTo>
                  <a:lnTo>
                    <a:pt x="48" y="192"/>
                  </a:lnTo>
                  <a:lnTo>
                    <a:pt x="0" y="240"/>
                  </a:lnTo>
                  <a:lnTo>
                    <a:pt x="48" y="288"/>
                  </a:lnTo>
                  <a:lnTo>
                    <a:pt x="48" y="432"/>
                  </a:lnTo>
                  <a:lnTo>
                    <a:pt x="144" y="4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6657840" y="4452840"/>
              <a:ext cx="313560" cy="193320"/>
              <a:chOff x="6657840" y="4452840"/>
              <a:chExt cx="313560" cy="193320"/>
            </a:xfrm>
          </p:grpSpPr>
          <p:sp>
            <p:nvSpPr>
              <p:cNvPr id="955" name=""/>
              <p:cNvSpPr/>
              <p:nvPr/>
            </p:nvSpPr>
            <p:spPr>
              <a:xfrm>
                <a:off x="6792120" y="4452840"/>
                <a:ext cx="179280" cy="155520"/>
              </a:xfrm>
              <a:prstGeom prst="rightArrow">
                <a:avLst>
                  <a:gd name="adj1" fmla="val 75009"/>
                  <a:gd name="adj2" fmla="val 57644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657840" y="4452840"/>
                <a:ext cx="179280" cy="155520"/>
              </a:xfrm>
              <a:prstGeom prst="leftArrow">
                <a:avLst>
                  <a:gd name="adj1" fmla="val 75009"/>
                  <a:gd name="adj2" fmla="val 57633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691680" y="448308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6657840" y="4219560"/>
              <a:ext cx="313560" cy="193320"/>
              <a:chOff x="6657840" y="4219560"/>
              <a:chExt cx="3135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6792120" y="4219560"/>
                <a:ext cx="179280" cy="155520"/>
              </a:xfrm>
              <a:prstGeom prst="rightArrow">
                <a:avLst>
                  <a:gd name="adj1" fmla="val 75009"/>
                  <a:gd name="adj2" fmla="val 57644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657840" y="4219560"/>
                <a:ext cx="179280" cy="155520"/>
              </a:xfrm>
              <a:prstGeom prst="leftArrow">
                <a:avLst>
                  <a:gd name="adj1" fmla="val 75009"/>
                  <a:gd name="adj2" fmla="val 57633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691680" y="424980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6379560" y="4297320"/>
              <a:ext cx="277560" cy="193320"/>
              <a:chOff x="6379560" y="4297320"/>
              <a:chExt cx="277560" cy="193320"/>
            </a:xfrm>
          </p:grpSpPr>
          <p:sp>
            <p:nvSpPr>
              <p:cNvPr id="963" name=""/>
              <p:cNvSpPr/>
              <p:nvPr/>
            </p:nvSpPr>
            <p:spPr>
              <a:xfrm>
                <a:off x="638856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8856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7956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6962040" y="4297320"/>
              <a:ext cx="277920" cy="193320"/>
              <a:chOff x="6962040" y="4297320"/>
              <a:chExt cx="277920" cy="193320"/>
            </a:xfrm>
          </p:grpSpPr>
          <p:sp>
            <p:nvSpPr>
              <p:cNvPr id="967" name=""/>
              <p:cNvSpPr/>
              <p:nvPr/>
            </p:nvSpPr>
            <p:spPr>
              <a:xfrm>
                <a:off x="697140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97140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6204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7679880" y="4297320"/>
              <a:ext cx="276840" cy="193320"/>
              <a:chOff x="7679880" y="4297320"/>
              <a:chExt cx="27684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7688160" y="4375080"/>
                <a:ext cx="268560" cy="10368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88160" y="4297320"/>
                <a:ext cx="268560" cy="10368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79880" y="43275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1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7284960" y="4297320"/>
              <a:ext cx="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7240320" y="4452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7284960" y="44528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84960" y="4271400"/>
              <a:ext cx="44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284960" y="4245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7688520" y="427140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73880" y="4530600"/>
              <a:ext cx="35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7688520" y="450432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74960" y="45306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6702480" y="463428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6567840" y="455652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68200" y="4556520"/>
              <a:ext cx="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68200" y="45565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926760" y="455652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957080" y="4323240"/>
              <a:ext cx="90000" cy="155520"/>
              <a:chOff x="7957080" y="4323240"/>
              <a:chExt cx="90000" cy="155520"/>
            </a:xfrm>
          </p:grpSpPr>
          <p:sp>
            <p:nvSpPr>
              <p:cNvPr id="989" name=""/>
              <p:cNvSpPr/>
              <p:nvPr/>
            </p:nvSpPr>
            <p:spPr>
              <a:xfrm>
                <a:off x="7957440" y="432324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47080" y="4375080"/>
                <a:ext cx="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7957080" y="4426920"/>
                <a:ext cx="89640" cy="51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7957440" y="4452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957440" y="4478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>
              <a:off x="8040960" y="4373280"/>
              <a:ext cx="30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KII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68840" y="4354560"/>
              <a:ext cx="28332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510320" y="4271760"/>
              <a:ext cx="26820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1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800000">
              <a:off x="7509240" y="4323960"/>
              <a:ext cx="2674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6469200" y="4894200"/>
            <a:ext cx="1801440" cy="341640"/>
            <a:chOff x="6469200" y="4894200"/>
            <a:chExt cx="1801440" cy="341640"/>
          </a:xfrm>
        </p:grpSpPr>
        <p:sp>
          <p:nvSpPr>
            <p:cNvPr id="999" name=""/>
            <p:cNvSpPr/>
            <p:nvPr/>
          </p:nvSpPr>
          <p:spPr>
            <a:xfrm>
              <a:off x="7733160" y="4894200"/>
              <a:ext cx="537480" cy="130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747920" y="4902480"/>
              <a:ext cx="104400" cy="6084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69200" y="4925520"/>
              <a:ext cx="183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74560" y="4925520"/>
              <a:ext cx="27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13120" y="4925520"/>
              <a:ext cx="2790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905960" y="4925520"/>
              <a:ext cx="32616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.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57840" y="497232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683676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5784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95320" y="497232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737460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9532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33160" y="497232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7867800" y="4946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3160" y="49723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23080" y="4898880"/>
              <a:ext cx="117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4884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5600" y="4898880"/>
              <a:ext cx="174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2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27760" y="5028840"/>
              <a:ext cx="3438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=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49560" y="5056200"/>
              <a:ext cx="239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N_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23200" y="5024520"/>
              <a:ext cx="493560" cy="156960"/>
            </a:xfrm>
            <a:custGeom>
              <a:avLst/>
              <a:gdLst/>
              <a:ahLst/>
              <a:rect l="l" t="t" r="r" b="b"/>
              <a:pathLst>
                <a:path w="529" h="289">
                  <a:moveTo>
                    <a:pt x="96" y="0"/>
                  </a:move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432" y="240"/>
                  </a:lnTo>
                  <a:lnTo>
                    <a:pt x="432" y="288"/>
                  </a:lnTo>
                  <a:lnTo>
                    <a:pt x="528" y="144"/>
                  </a:lnTo>
                  <a:lnTo>
                    <a:pt x="432" y="0"/>
                  </a:lnTo>
                  <a:lnTo>
                    <a:pt x="432" y="48"/>
                  </a:lnTo>
                  <a:lnTo>
                    <a:pt x="96" y="48"/>
                  </a:lnTo>
                  <a:lnTo>
                    <a:pt x="96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98840" y="5056200"/>
              <a:ext cx="3261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X.Ca</a:t>
              </a:r>
              <a:r>
                <a:rPr b="0" lang="en-US" sz="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.Ca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61040" y="5050800"/>
              <a:ext cx="112680" cy="1047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96" y="0"/>
                  </a:moveTo>
                  <a:lnTo>
                    <a:pt x="48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48" y="144"/>
                  </a:lnTo>
                  <a:lnTo>
                    <a:pt x="48" y="192"/>
                  </a:lnTo>
                  <a:lnTo>
                    <a:pt x="96" y="192"/>
                  </a:lnTo>
                  <a:lnTo>
                    <a:pt x="12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7590600" y="5362560"/>
            <a:ext cx="744480" cy="556200"/>
            <a:chOff x="7590600" y="5362560"/>
            <a:chExt cx="744480" cy="556200"/>
          </a:xfrm>
        </p:grpSpPr>
        <p:sp>
          <p:nvSpPr>
            <p:cNvPr id="1023" name=""/>
            <p:cNvSpPr/>
            <p:nvPr/>
          </p:nvSpPr>
          <p:spPr>
            <a:xfrm>
              <a:off x="7858080" y="5392800"/>
              <a:ext cx="177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33160" y="5362560"/>
              <a:ext cx="448560" cy="156240"/>
            </a:xfrm>
            <a:custGeom>
              <a:avLst/>
              <a:gdLst/>
              <a:ahLst/>
              <a:rect l="l" t="t" r="r" b="b"/>
              <a:pathLst>
                <a:path w="481" h="289">
                  <a:moveTo>
                    <a:pt x="96" y="48"/>
                  </a:moveTo>
                  <a:lnTo>
                    <a:pt x="96" y="0"/>
                  </a:lnTo>
                  <a:lnTo>
                    <a:pt x="0" y="144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384" y="240"/>
                  </a:lnTo>
                  <a:lnTo>
                    <a:pt x="384" y="288"/>
                  </a:lnTo>
                  <a:lnTo>
                    <a:pt x="480" y="144"/>
                  </a:lnTo>
                  <a:lnTo>
                    <a:pt x="384" y="0"/>
                  </a:lnTo>
                  <a:lnTo>
                    <a:pt x="384" y="48"/>
                  </a:lnTo>
                  <a:lnTo>
                    <a:pt x="96" y="48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724880" y="5600520"/>
              <a:ext cx="124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7823520" y="5543640"/>
              <a:ext cx="268560" cy="192600"/>
              <a:chOff x="7823520" y="5543640"/>
              <a:chExt cx="268560" cy="192600"/>
            </a:xfrm>
          </p:grpSpPr>
          <p:sp>
            <p:nvSpPr>
              <p:cNvPr id="1027" name=""/>
              <p:cNvSpPr/>
              <p:nvPr/>
            </p:nvSpPr>
            <p:spPr>
              <a:xfrm>
                <a:off x="7913160" y="5543640"/>
                <a:ext cx="178920" cy="155520"/>
              </a:xfrm>
              <a:prstGeom prst="rightArrow">
                <a:avLst>
                  <a:gd name="adj1" fmla="val 75009"/>
                  <a:gd name="adj2" fmla="val 57528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823520" y="5543640"/>
                <a:ext cx="178920" cy="155520"/>
              </a:xfrm>
              <a:prstGeom prst="leftArrow">
                <a:avLst>
                  <a:gd name="adj1" fmla="val 75009"/>
                  <a:gd name="adj2" fmla="val 57518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857360" y="5573160"/>
                <a:ext cx="198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8082000" y="5600520"/>
              <a:ext cx="1443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90600" y="5781600"/>
              <a:ext cx="2329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.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7823520" y="5725440"/>
              <a:ext cx="268560" cy="193320"/>
              <a:chOff x="7823520" y="5725440"/>
              <a:chExt cx="268560" cy="193320"/>
            </a:xfrm>
          </p:grpSpPr>
          <p:sp>
            <p:nvSpPr>
              <p:cNvPr id="1033" name=""/>
              <p:cNvSpPr/>
              <p:nvPr/>
            </p:nvSpPr>
            <p:spPr>
              <a:xfrm>
                <a:off x="7913160" y="5725440"/>
                <a:ext cx="178920" cy="155880"/>
              </a:xfrm>
              <a:prstGeom prst="rightArrow">
                <a:avLst>
                  <a:gd name="adj1" fmla="val 75009"/>
                  <a:gd name="adj2" fmla="val 573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23520" y="5725440"/>
                <a:ext cx="178920" cy="155880"/>
              </a:xfrm>
              <a:prstGeom prst="leftArrow">
                <a:avLst>
                  <a:gd name="adj1" fmla="val 75009"/>
                  <a:gd name="adj2" fmla="val 5738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57360" y="5755680"/>
                <a:ext cx="19800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8082360" y="5782680"/>
              <a:ext cx="2527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I1*.PP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733160" y="5491800"/>
              <a:ext cx="0" cy="28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733160" y="5751000"/>
              <a:ext cx="442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688520" y="54918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225640" y="5491800"/>
              <a:ext cx="0" cy="28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25640" y="54918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flipV="1">
              <a:off x="8181000" y="575100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898160" y="5751360"/>
            <a:ext cx="916200" cy="236880"/>
            <a:chOff x="4898160" y="5751360"/>
            <a:chExt cx="916200" cy="236880"/>
          </a:xfrm>
        </p:grpSpPr>
        <p:sp>
          <p:nvSpPr>
            <p:cNvPr id="1044" name=""/>
            <p:cNvSpPr/>
            <p:nvPr/>
          </p:nvSpPr>
          <p:spPr>
            <a:xfrm>
              <a:off x="5042520" y="5751360"/>
              <a:ext cx="448200" cy="1299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1200" y="5889960"/>
              <a:ext cx="194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7280" y="5759640"/>
              <a:ext cx="14940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98160" y="5781600"/>
              <a:ext cx="159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C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33520" y="5756040"/>
              <a:ext cx="159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13520" y="5781600"/>
              <a:ext cx="2494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.GC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77800" y="588600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T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46000" y="5886000"/>
              <a:ext cx="22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25280" y="5781600"/>
              <a:ext cx="2541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PD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16360" y="5886000"/>
              <a:ext cx="198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2520" y="5829120"/>
              <a:ext cx="178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5177160" y="58032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042520" y="58291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221800" y="5855040"/>
              <a:ext cx="179280" cy="25920"/>
              <a:chOff x="5221800" y="5855040"/>
              <a:chExt cx="179280" cy="2592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522180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266440" y="5855040"/>
                <a:ext cx="8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5608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401080" y="58550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5356080" y="5880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535720" y="5855040"/>
              <a:ext cx="179280" cy="25920"/>
              <a:chOff x="5535720" y="5855040"/>
              <a:chExt cx="179280" cy="25920"/>
            </a:xfrm>
          </p:grpSpPr>
          <p:sp>
            <p:nvSpPr>
              <p:cNvPr id="1064" name=""/>
              <p:cNvSpPr/>
              <p:nvPr/>
            </p:nvSpPr>
            <p:spPr>
              <a:xfrm flipV="1">
                <a:off x="553572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80360" y="5855040"/>
                <a:ext cx="8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70000" y="585504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5715000" y="58550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5670000" y="58809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640400" y="5315040"/>
            <a:ext cx="1610640" cy="387720"/>
            <a:chOff x="4640400" y="5315040"/>
            <a:chExt cx="1610640" cy="387720"/>
          </a:xfrm>
        </p:grpSpPr>
        <p:sp>
          <p:nvSpPr>
            <p:cNvPr id="1070" name=""/>
            <p:cNvSpPr/>
            <p:nvPr/>
          </p:nvSpPr>
          <p:spPr>
            <a:xfrm>
              <a:off x="4953960" y="5361840"/>
              <a:ext cx="806400" cy="285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75480" y="5474520"/>
              <a:ext cx="149040" cy="604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68720" y="5474520"/>
              <a:ext cx="28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20320" y="5367240"/>
              <a:ext cx="1933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20320" y="5548320"/>
              <a:ext cx="21312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S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46760" y="5470920"/>
              <a:ext cx="2937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15680" y="5367240"/>
              <a:ext cx="417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NO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15680" y="5548320"/>
              <a:ext cx="437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4.CaM.NOS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640400" y="5427000"/>
              <a:ext cx="291960" cy="174960"/>
              <a:chOff x="4640400" y="5427000"/>
              <a:chExt cx="291960" cy="174960"/>
            </a:xfrm>
          </p:grpSpPr>
          <p:sp>
            <p:nvSpPr>
              <p:cNvPr id="1079" name=""/>
              <p:cNvSpPr/>
              <p:nvPr/>
            </p:nvSpPr>
            <p:spPr>
              <a:xfrm>
                <a:off x="4640400" y="5427000"/>
                <a:ext cx="291960" cy="7776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640400" y="5478840"/>
                <a:ext cx="291960" cy="7776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60920" y="5438880"/>
                <a:ext cx="26352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aMKII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953960" y="5414040"/>
              <a:ext cx="2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177880" y="54140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4953960" y="53877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3960" y="5595840"/>
              <a:ext cx="2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5177880" y="556992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953960" y="5595840"/>
              <a:ext cx="446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44320" y="5414400"/>
              <a:ext cx="26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1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044320" y="5492160"/>
              <a:ext cx="268200" cy="1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57480" y="5470920"/>
              <a:ext cx="49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NO    + L-Citrull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55320" y="5315040"/>
              <a:ext cx="309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-Argin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55320" y="5600520"/>
              <a:ext cx="3092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L-Arginin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5715720" y="5544000"/>
              <a:ext cx="44640" cy="77040"/>
              <a:chOff x="5715720" y="5544000"/>
              <a:chExt cx="44640" cy="77040"/>
            </a:xfrm>
          </p:grpSpPr>
          <p:sp>
            <p:nvSpPr>
              <p:cNvPr id="1094" name=""/>
              <p:cNvSpPr/>
              <p:nvPr/>
            </p:nvSpPr>
            <p:spPr>
              <a:xfrm flipH="1" flipV="1">
                <a:off x="5715720" y="559548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715720" y="556992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715720" y="554400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5715720" y="55440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60360" y="55440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715720" y="5361840"/>
              <a:ext cx="44640" cy="77760"/>
              <a:chOff x="5715720" y="5361840"/>
              <a:chExt cx="44640" cy="77760"/>
            </a:xfrm>
          </p:grpSpPr>
          <p:sp>
            <p:nvSpPr>
              <p:cNvPr id="1100" name=""/>
              <p:cNvSpPr/>
              <p:nvPr/>
            </p:nvSpPr>
            <p:spPr>
              <a:xfrm flipH="1">
                <a:off x="5715720" y="5361840"/>
                <a:ext cx="4464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15720" y="538740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15720" y="5413680"/>
                <a:ext cx="4464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715720" y="543960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760360" y="541368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388200" y="5315040"/>
            <a:ext cx="1064880" cy="333360"/>
            <a:chOff x="6388200" y="5315040"/>
            <a:chExt cx="1064880" cy="333360"/>
          </a:xfrm>
        </p:grpSpPr>
        <p:sp>
          <p:nvSpPr>
            <p:cNvPr id="1106" name=""/>
            <p:cNvSpPr/>
            <p:nvPr/>
          </p:nvSpPr>
          <p:spPr>
            <a:xfrm>
              <a:off x="6468840" y="5523120"/>
              <a:ext cx="211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88200" y="5491800"/>
              <a:ext cx="359280" cy="156600"/>
            </a:xfrm>
            <a:custGeom>
              <a:avLst/>
              <a:gdLst/>
              <a:ahLst/>
              <a:rect l="l" t="t" r="r" b="b"/>
              <a:pathLst>
                <a:path w="385" h="290">
                  <a:moveTo>
                    <a:pt x="96" y="49"/>
                  </a:moveTo>
                  <a:lnTo>
                    <a:pt x="96" y="1"/>
                  </a:lnTo>
                  <a:lnTo>
                    <a:pt x="0" y="145"/>
                  </a:lnTo>
                  <a:lnTo>
                    <a:pt x="96" y="289"/>
                  </a:lnTo>
                  <a:lnTo>
                    <a:pt x="96" y="241"/>
                  </a:lnTo>
                  <a:lnTo>
                    <a:pt x="288" y="240"/>
                  </a:lnTo>
                  <a:lnTo>
                    <a:pt x="288" y="288"/>
                  </a:lnTo>
                  <a:lnTo>
                    <a:pt x="384" y="144"/>
                  </a:lnTo>
                  <a:lnTo>
                    <a:pt x="288" y="0"/>
                  </a:lnTo>
                  <a:lnTo>
                    <a:pt x="288" y="48"/>
                  </a:lnTo>
                  <a:lnTo>
                    <a:pt x="96" y="49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746760" y="5569560"/>
              <a:ext cx="31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738120" y="5496120"/>
              <a:ext cx="2588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46760" y="556956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7015680" y="554364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52400" y="5523120"/>
              <a:ext cx="4006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*.PP2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38120" y="5315040"/>
              <a:ext cx="23904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G_Sub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6746760" y="5374800"/>
              <a:ext cx="292320" cy="174240"/>
              <a:chOff x="6746760" y="5374800"/>
              <a:chExt cx="292320" cy="174240"/>
            </a:xfrm>
          </p:grpSpPr>
          <p:sp>
            <p:nvSpPr>
              <p:cNvPr id="1115" name=""/>
              <p:cNvSpPr/>
              <p:nvPr/>
            </p:nvSpPr>
            <p:spPr>
              <a:xfrm>
                <a:off x="6746760" y="5374800"/>
                <a:ext cx="292320" cy="77760"/>
              </a:xfrm>
              <a:prstGeom prst="upArrow">
                <a:avLst>
                  <a:gd name="adj1" fmla="val 75009"/>
                  <a:gd name="adj2" fmla="val 4999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746760" y="5426280"/>
                <a:ext cx="292320" cy="77760"/>
              </a:xfrm>
              <a:prstGeom prst="downArrow">
                <a:avLst>
                  <a:gd name="adj1" fmla="val 75009"/>
                  <a:gd name="adj2" fmla="val 50005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793920" y="538596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G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6164280" y="2998800"/>
            <a:ext cx="0" cy="18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684680" y="41148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684680" y="4478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684680" y="48420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729320" y="3517920"/>
            <a:ext cx="36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64280" y="4192560"/>
            <a:ext cx="224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846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343560" y="4842000"/>
            <a:ext cx="0" cy="11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684680" y="5699160"/>
            <a:ext cx="291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597800" y="5257800"/>
            <a:ext cx="0" cy="70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30680" y="29718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54560" y="2971800"/>
            <a:ext cx="1080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54560" y="351792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30680" y="41148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4560" y="419256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30680" y="44784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0320" y="3517920"/>
            <a:ext cx="1627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34200" y="48420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0320" y="4842000"/>
            <a:ext cx="11844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0680" y="5257800"/>
            <a:ext cx="1123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334200" y="5257800"/>
            <a:ext cx="1368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30680" y="5699160"/>
            <a:ext cx="152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34200" y="569916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89880" y="5257800"/>
            <a:ext cx="132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0520" bIns="20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557400" y="5751360"/>
            <a:ext cx="906840" cy="157320"/>
            <a:chOff x="6557400" y="5751360"/>
            <a:chExt cx="906840" cy="157320"/>
          </a:xfrm>
        </p:grpSpPr>
        <p:sp>
          <p:nvSpPr>
            <p:cNvPr id="1143" name=""/>
            <p:cNvSpPr/>
            <p:nvPr/>
          </p:nvSpPr>
          <p:spPr>
            <a:xfrm>
              <a:off x="6557400" y="5781600"/>
              <a:ext cx="1900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KG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46760" y="5751360"/>
              <a:ext cx="717120" cy="156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06160" y="5759640"/>
              <a:ext cx="194040" cy="6084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7052040" y="5751360"/>
              <a:ext cx="412200" cy="157320"/>
              <a:chOff x="7052040" y="5751360"/>
              <a:chExt cx="412200" cy="157320"/>
            </a:xfrm>
          </p:grpSpPr>
          <p:sp>
            <p:nvSpPr>
              <p:cNvPr id="1147" name=""/>
              <p:cNvSpPr/>
              <p:nvPr/>
            </p:nvSpPr>
            <p:spPr>
              <a:xfrm>
                <a:off x="7052040" y="5781600"/>
                <a:ext cx="34416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cGMP.PK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060320" y="5751360"/>
                <a:ext cx="403920" cy="157320"/>
              </a:xfrm>
              <a:custGeom>
                <a:avLst/>
                <a:gdLst/>
                <a:ahLst/>
                <a:rect l="l" t="t" r="r" b="b"/>
                <a:pathLst>
                  <a:path w="433" h="290">
                    <a:moveTo>
                      <a:pt x="96" y="49"/>
                    </a:moveTo>
                    <a:lnTo>
                      <a:pt x="96" y="1"/>
                    </a:lnTo>
                    <a:lnTo>
                      <a:pt x="0" y="145"/>
                    </a:lnTo>
                    <a:lnTo>
                      <a:pt x="96" y="289"/>
                    </a:lnTo>
                    <a:lnTo>
                      <a:pt x="96" y="241"/>
                    </a:lnTo>
                    <a:lnTo>
                      <a:pt x="336" y="240"/>
                    </a:lnTo>
                    <a:lnTo>
                      <a:pt x="336" y="288"/>
                    </a:lnTo>
                    <a:lnTo>
                      <a:pt x="432" y="144"/>
                    </a:lnTo>
                    <a:lnTo>
                      <a:pt x="336" y="0"/>
                    </a:lnTo>
                    <a:lnTo>
                      <a:pt x="336" y="48"/>
                    </a:lnTo>
                    <a:lnTo>
                      <a:pt x="96" y="49"/>
                    </a:lnTo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 flipH="1" flipV="1">
              <a:off x="6746760" y="582948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46760" y="5829480"/>
              <a:ext cx="3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7015320" y="5803200"/>
              <a:ext cx="44640" cy="2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781680" y="5756040"/>
              <a:ext cx="2235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G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721400" y="4505400"/>
            <a:ext cx="1310760" cy="289080"/>
            <a:chOff x="4721400" y="4505400"/>
            <a:chExt cx="1310760" cy="289080"/>
          </a:xfrm>
        </p:grpSpPr>
        <p:sp>
          <p:nvSpPr>
            <p:cNvPr id="1154" name=""/>
            <p:cNvSpPr/>
            <p:nvPr/>
          </p:nvSpPr>
          <p:spPr>
            <a:xfrm>
              <a:off x="4730400" y="4635000"/>
              <a:ext cx="1297800" cy="155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57440" y="4692240"/>
              <a:ext cx="2178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c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721400" y="469224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40280" y="4692240"/>
              <a:ext cx="19188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90968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909680" y="4686840"/>
              <a:ext cx="44280" cy="25920"/>
              <a:chOff x="4909680" y="4686840"/>
              <a:chExt cx="44280" cy="25920"/>
            </a:xfrm>
          </p:grpSpPr>
          <p:sp>
            <p:nvSpPr>
              <p:cNvPr id="1160" name=""/>
              <p:cNvSpPr/>
              <p:nvPr/>
            </p:nvSpPr>
            <p:spPr>
              <a:xfrm flipV="1">
                <a:off x="4909680" y="4686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909680" y="4712760"/>
                <a:ext cx="4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5043960" y="4635000"/>
              <a:ext cx="8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3360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625360" y="4635000"/>
              <a:ext cx="8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491080" y="4635000"/>
              <a:ext cx="1342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89240" y="4562640"/>
              <a:ext cx="1872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26000" y="4562640"/>
              <a:ext cx="20700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PDE*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5178240" y="4505400"/>
              <a:ext cx="357840" cy="193320"/>
              <a:chOff x="5178240" y="4505400"/>
              <a:chExt cx="357840" cy="193320"/>
            </a:xfrm>
          </p:grpSpPr>
          <p:sp>
            <p:nvSpPr>
              <p:cNvPr id="1169" name=""/>
              <p:cNvSpPr/>
              <p:nvPr/>
            </p:nvSpPr>
            <p:spPr>
              <a:xfrm>
                <a:off x="5178240" y="4505400"/>
                <a:ext cx="203760" cy="155880"/>
              </a:xfrm>
              <a:prstGeom prst="leftArrow">
                <a:avLst>
                  <a:gd name="adj1" fmla="val 75009"/>
                  <a:gd name="adj2" fmla="val 65351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331960" y="4505400"/>
                <a:ext cx="204120" cy="155880"/>
              </a:xfrm>
              <a:prstGeom prst="rightArrow">
                <a:avLst>
                  <a:gd name="adj1" fmla="val 75009"/>
                  <a:gd name="adj2" fmla="val 65479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7840" y="4535640"/>
                <a:ext cx="21168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400" rIns="414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KA,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400" spc="-1" strike="noStrike">
                    <a:solidFill>
                      <a:srgbClr val="ffffff"/>
                    </a:solidFill>
                    <a:latin typeface="Arial"/>
                  </a:rPr>
                  <a:t>PP2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5282640" y="4695840"/>
              <a:ext cx="193680" cy="60480"/>
            </a:xfrm>
            <a:prstGeom prst="rect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5715000" y="4635000"/>
              <a:ext cx="134640" cy="77760"/>
              <a:chOff x="5715000" y="4635000"/>
              <a:chExt cx="134640" cy="77760"/>
            </a:xfrm>
          </p:grpSpPr>
          <p:sp>
            <p:nvSpPr>
              <p:cNvPr id="1174" name=""/>
              <p:cNvSpPr/>
              <p:nvPr/>
            </p:nvSpPr>
            <p:spPr>
              <a:xfrm flipV="1">
                <a:off x="5849640" y="4686840"/>
                <a:ext cx="0" cy="2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5804640" y="4712760"/>
                <a:ext cx="4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5715000" y="4635000"/>
                <a:ext cx="134280" cy="77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ODBs vs RDBM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O: Distinct classes for molecules, enzymes, reac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ed lists for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BMs: Putting into table structure is tric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ODBs vs RDBM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0" name="doqcs_str" descr=""/>
          <p:cNvPicPr/>
          <p:nvPr/>
        </p:nvPicPr>
        <p:blipFill>
          <a:blip r:embed="rId1"/>
          <a:stretch/>
        </p:blipFill>
        <p:spPr>
          <a:xfrm>
            <a:off x="952560" y="276120"/>
            <a:ext cx="7238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aming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naming for molecules and 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P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B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what messy for small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messy for same gene across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arbitrary across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ing of name equival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n databases for canonica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with long complex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with many-&gt; one mapp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ation head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 structure of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s of different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ationally diffic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ent displ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ay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charts of experiment/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mote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base du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en scra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ent display is inadequ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8" name="biocarta" descr=""/>
          <p:cNvPicPr/>
          <p:nvPr/>
        </p:nvPicPr>
        <p:blipFill>
          <a:blip r:embed="rId1"/>
          <a:srcRect l="22604" t="34189" r="0" b="0"/>
          <a:stretch/>
        </p:blipFill>
        <p:spPr>
          <a:xfrm>
            <a:off x="1600200" y="2735280"/>
            <a:ext cx="6458040" cy="4122720"/>
          </a:xfrm>
          <a:prstGeom prst="rect">
            <a:avLst/>
          </a:prstGeom>
          <a:ln w="0">
            <a:noFill/>
          </a:ln>
        </p:spPr>
      </p:pic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39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network maps are by 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ood machine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 is node-to-node as well as node-to-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y is comp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05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92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f search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s, e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 the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tion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mapk_compare" descr=""/>
          <p:cNvPicPr/>
          <p:nvPr/>
        </p:nvPicPr>
        <p:blipFill>
          <a:blip r:embed="rId1"/>
          <a:srcRect l="32227" t="0" r="14444" b="0"/>
          <a:stretch/>
        </p:blipFill>
        <p:spPr>
          <a:xfrm>
            <a:off x="4800600" y="685800"/>
            <a:ext cx="3657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5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s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/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 vs RD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,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mencl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es 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 and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46160" y="228600"/>
            <a:ext cx="6975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: navig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96" name="navigation" descr=""/>
          <p:cNvPicPr/>
          <p:nvPr/>
        </p:nvPicPr>
        <p:blipFill>
          <a:blip r:embed="rId1"/>
          <a:srcRect l="0" t="0" r="0" b="9336"/>
          <a:stretch/>
        </p:blipFill>
        <p:spPr>
          <a:xfrm>
            <a:off x="914400" y="1523880"/>
            <a:ext cx="7429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tools: Sim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53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databases and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pathway model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 &amp; test private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t on-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vcell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86840" cy="577224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2490840" y="318960"/>
            <a:ext cx="45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ell project: http://www.nrcam.uchc.edu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5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34113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s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/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ing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 vs RD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450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ing issues,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mencl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es 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na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 and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 5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databases on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oup assess 4 databases/simulation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Google and Database of Databases to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 class should rank databases according to viewpoints, one viewpoint p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highlights and special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about a signalling path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literature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igating complex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parameters for 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and completeness of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atabase featur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data: Structure, sequence, kinetics,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data: Figures, ann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: Searches, similarity,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tools: Text, graphics, applets, sim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atabase contents and focu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s to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es, t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1981080"/>
            <a:ext cx="366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,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ranspath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55240" cy="6286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1752480"/>
          </a:xfrm>
          <a:prstGeom prst="rect">
            <a:avLst/>
          </a:prstGeom>
          <a:solidFill>
            <a:srgbClr val="00dfca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9b03"/>
                </a:solidFill>
                <a:uFillTx/>
                <a:latin typeface="Arial"/>
                <a:hlinkClick r:id="rId2"/>
              </a:rPr>
              <a:t>http://transpath.gbf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omai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msy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-based tools for connectivity and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42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SNDB: http://geo.nihs.go.jp/csndb/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9200" y="1676160"/>
            <a:ext cx="35719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other database and pa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2840" y="1752480"/>
            <a:ext cx="47322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mental clickable pathway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csndb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298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EGG: www.genome.ad.jp/kegg/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3" name="kegg" descr=""/>
          <p:cNvPicPr/>
          <p:nvPr/>
        </p:nvPicPr>
        <p:blipFill>
          <a:blip r:embed="rId1"/>
          <a:srcRect l="0" t="0" r="0" b="13503"/>
          <a:stretch/>
        </p:blipFill>
        <p:spPr>
          <a:xfrm>
            <a:off x="457200" y="1488960"/>
            <a:ext cx="83660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DIP: dip.doe-mbi.ucla.edu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71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ng protein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1120" y="1600200"/>
            <a:ext cx="4427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refs to protein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K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dip" descr=""/>
          <p:cNvPicPr/>
          <p:nvPr/>
        </p:nvPicPr>
        <p:blipFill>
          <a:blip r:embed="rId1"/>
          <a:stretch/>
        </p:blipFill>
        <p:spPr>
          <a:xfrm>
            <a:off x="457200" y="2960640"/>
            <a:ext cx="83217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8T13:04:33Z</dcterms:modified>
  <cp:revision>26377</cp:revision>
  <dc:subject/>
  <dc:title>Interfacing the brain</dc:title>
</cp:coreProperties>
</file>