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253163" cy="9609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A2C9-8B62-46F9-AB74-ED4ABC418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8840" y="4130640"/>
            <a:ext cx="6977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1420-7458-4B90-AD98-395E8CB8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840" y="413064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94000" y="413064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A891-5144-4F3A-8F6E-22DCC9D2D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77920" y="198108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37000" y="198108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8840" y="413064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77920" y="413064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37000" y="413064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AE58-1C84-4711-AAD1-05085A052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1280-E076-4945-8FA5-4F16327B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0947-1DF5-45CE-B676-A15AE11C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04B8-C22E-44E1-B5B2-682FE680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B2D9-08F9-46D3-8446-B15E8E7E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46160" y="228240"/>
            <a:ext cx="697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A51D-4AA4-47E5-A548-B6020B3F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8840" y="413064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E5E5-279E-4BA6-83F4-CE71827C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94000" y="413064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1FF1-F234-4D6B-93A3-13DD1FA5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8840" y="4130640"/>
            <a:ext cx="6977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DDC4-AB34-4353-8968-5A9B0272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1100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3544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A994-E8C0-4024-A783-0AFEAF7CD4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4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e64"/>
                </a:gs>
                <a:gs pos="50000">
                  <a:srgbClr val="00dfca"/>
                </a:gs>
                <a:gs pos="100000">
                  <a:srgbClr val="006e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65f7f"/>
                </a:gs>
                <a:gs pos="50000">
                  <a:srgbClr val="d989b8"/>
                </a:gs>
                <a:gs pos="100000">
                  <a:srgbClr val="965f7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4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mputational analysis of cellular signalling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7991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566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inder S. Bhalla, NCB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us and Lect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 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Introduction, Signalling as information flow and co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Review of cellular signalling 1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Review of cellular signalling 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i 6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ignalling, genes, and cell biolo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 9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Cellular signalling datab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1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Cellular signalling as chemis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1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Modelling Cellular signal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i 1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Experiments, literature, model building and datab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25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Project demonstration and evalu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urrent flow through a channel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3038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= (V –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ern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.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= current thr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= Voltage across membra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ern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Nernst potential of chann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 = Conductance of channel (may itself be voltage-dependent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281952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2666880"/>
            <a:ext cx="380880" cy="304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81480" y="2590920"/>
            <a:ext cx="228600" cy="4572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62720" y="2590920"/>
            <a:ext cx="228600" cy="4572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22096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62720" y="1981080"/>
            <a:ext cx="228600" cy="228600"/>
          </a:xfrm>
          <a:prstGeom prst="plus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2438280"/>
            <a:ext cx="228600" cy="228600"/>
          </a:xfrm>
          <a:prstGeom prst="plus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00600" y="2438280"/>
            <a:ext cx="228600" cy="228600"/>
          </a:xfrm>
          <a:prstGeom prst="plus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8680" y="3352680"/>
            <a:ext cx="228600" cy="228600"/>
          </a:xfrm>
          <a:prstGeom prst="plus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2286000"/>
            <a:ext cx="228600" cy="228600"/>
          </a:xfrm>
          <a:prstGeom prst="plus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57800" y="4114800"/>
            <a:ext cx="0" cy="2209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5257800"/>
            <a:ext cx="3048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19920" y="48909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8000" y="37339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267080" y="4114440"/>
            <a:ext cx="2057400" cy="16765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952880" y="5334120"/>
            <a:ext cx="0" cy="914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49440" y="6262560"/>
            <a:ext cx="20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versal potent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15360" y="289548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nn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6200" y="5257800"/>
            <a:ext cx="1015920" cy="216000"/>
          </a:xfrm>
          <a:custGeom>
            <a:avLst/>
            <a:gdLst/>
            <a:ahLst/>
            <a:rect l="l" t="t" r="r" b="b"/>
            <a:pathLst>
              <a:path w="1696" h="817">
                <a:moveTo>
                  <a:pt x="1696" y="0"/>
                </a:moveTo>
                <a:cubicBezTo>
                  <a:pt x="1618" y="117"/>
                  <a:pt x="1558" y="292"/>
                  <a:pt x="1475" y="389"/>
                </a:cubicBezTo>
                <a:cubicBezTo>
                  <a:pt x="1406" y="467"/>
                  <a:pt x="1393" y="495"/>
                  <a:pt x="1320" y="544"/>
                </a:cubicBezTo>
                <a:cubicBezTo>
                  <a:pt x="1278" y="573"/>
                  <a:pt x="1184" y="661"/>
                  <a:pt x="1143" y="700"/>
                </a:cubicBezTo>
                <a:cubicBezTo>
                  <a:pt x="1074" y="768"/>
                  <a:pt x="936" y="816"/>
                  <a:pt x="936" y="816"/>
                </a:cubicBezTo>
                <a:cubicBezTo>
                  <a:pt x="840" y="792"/>
                  <a:pt x="774" y="817"/>
                  <a:pt x="701" y="778"/>
                </a:cubicBezTo>
                <a:cubicBezTo>
                  <a:pt x="627" y="739"/>
                  <a:pt x="479" y="623"/>
                  <a:pt x="479" y="623"/>
                </a:cubicBezTo>
                <a:cubicBezTo>
                  <a:pt x="430" y="558"/>
                  <a:pt x="415" y="500"/>
                  <a:pt x="384" y="448"/>
                </a:cubicBezTo>
                <a:cubicBezTo>
                  <a:pt x="353" y="396"/>
                  <a:pt x="359" y="386"/>
                  <a:pt x="295" y="311"/>
                </a:cubicBezTo>
                <a:cubicBezTo>
                  <a:pt x="166" y="136"/>
                  <a:pt x="161" y="0"/>
                  <a:pt x="0" y="0"/>
                </a:cubicBezTo>
              </a:path>
            </a:pathLst>
          </a:custGeom>
          <a:noFill/>
          <a:ln w="12600">
            <a:solidFill>
              <a:srgbClr val="00df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65800" y="4129200"/>
            <a:ext cx="10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dfca"/>
                </a:solidFill>
                <a:latin typeface="Times New Roman"/>
              </a:rPr>
              <a:t>Chann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dfca"/>
                </a:solidFill>
                <a:latin typeface="Times New Roman"/>
              </a:rPr>
              <a:t>clo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91120" y="480060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23400" y="3962520"/>
            <a:ext cx="145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Ohm’s La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onduct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Ligand-Gated channel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nel is a protein pore in a membra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be open or clos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ten highly selective for a given 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ormous flow rates for 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on flow depends on concentration gradient and potenti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ion has a 'reversal potential' at which the effect of conc and potential are equal and opposite, and no ions flo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ten channels will inactivate after a certain period of ope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nels can be phosphorylated, or bind to regulato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ly 5 subuni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Ligand-Gated channel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4333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ChR: Nicotinic Acetylcholine Recep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 pore, passes most 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ersal potential ~ -5 m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uromuscular j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sonably fa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nAChR" descr=""/>
          <p:cNvPicPr/>
          <p:nvPr/>
        </p:nvPicPr>
        <p:blipFill>
          <a:blip r:embed="rId1"/>
          <a:stretch/>
        </p:blipFill>
        <p:spPr>
          <a:xfrm>
            <a:off x="5105520" y="2438280"/>
            <a:ext cx="310824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Ligand-Gated channel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uR: Glutamate recep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PA and Kainate sub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es  mostly Na ions, some K, some forms pass a little 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 ligand-gated excitatory channel for mammalian nervou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t: tau &lt; 1ms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ersal potential ~ 0 m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Ligand-Gated channel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MDAR: N-Methyl D-Aspartate Receptor (another Glutamate recept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y receptor for memory. Passes Na ions, and also Ca when voltage stimulus is present simultaneously. This gives ASSOCIATI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ersal potl ~0 m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ow: ~100 ms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Ligand-Gated channel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BA-A receptor: Gamma-amino butyric ac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or inhibitory neurotransmitter in mammalian br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 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ersal potl ~ -70m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um speed, ~10 ms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Ligand-Gated channel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-ACh: Ligand arrives intracellularly. Possibly Gi_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G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ated by GPCRs, including mACh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ow (but fast for GPCRs: 300 mse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ersal potl ~ -70 m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Ligand-Gated channel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NG channels: Cyclic Nucleotide-Gated channels. (cGMP, cAM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and arrives intracellular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 conductance, some also 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P3R: Inositol Trisphosphate Recep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 on intracellular stores: 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and arrives intracellular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 conduc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ductance modulated by 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Voltage-gated channel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in response to voltage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ly quite fast: &lt; 1ms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ly inactivate after long open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ly obey Hodgkin-Huxley eq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d after major 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ly have 4 subunits of 6 transmembrane domai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Voltage-Gated channels: </a:t>
            </a:r>
            <a:br>
              <a:rPr sz="4400"/>
            </a:b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K Channel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5019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types. 4 subunits on different peptide chains, permu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electrical proper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, inward rectifier: opposes Na channel in action pot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Ca: Opening depends both on V and [Ca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Kchan" descr=""/>
          <p:cNvPicPr/>
          <p:nvPr/>
        </p:nvPicPr>
        <p:blipFill>
          <a:blip r:embed="rId1"/>
          <a:stretch/>
        </p:blipFill>
        <p:spPr>
          <a:xfrm>
            <a:off x="5638680" y="1905120"/>
            <a:ext cx="334980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dfca"/>
                </a:solidFill>
                <a:latin typeface="Book Antiqua"/>
              </a:rPr>
              <a:t>Lecture 2:</a:t>
            </a:r>
            <a:br>
              <a:rPr sz="4000"/>
            </a:br>
            <a:r>
              <a:rPr b="0" lang="en-US" sz="3200" spc="-1" strike="noStrike">
                <a:solidFill>
                  <a:srgbClr val="00dfca"/>
                </a:solidFill>
                <a:latin typeface="Book Antiqua"/>
              </a:rPr>
              <a:t>Review of cellular signalling: inputs</a:t>
            </a:r>
            <a:endParaRPr b="0" lang="en-US" sz="3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berts et al (Molecular Biology of the Ce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lle (Ionic Channels of Excitable membranes, chapters on signall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carta (on the intern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hn's map (Mol Biol of Cell 10:2703-2734, 1999), PDF file on ser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Voltage-Gated channels: Na and Ca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have all 4 subunits as part of one big pro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main ty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fast, rising phase of action pot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activates quickly (&lt; 5 mse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ral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ical in neurotransmi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erts voltage signals to Ca and thus interacts with signalling 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alcium Signalling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ormous concentration grad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nM inside, 1 mM outs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large dynamic range of Ca responses: 100 nM to 10 or even 100 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fast responses: mediated by channels, even protein interactions are f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y link between electrical and chemical signall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alcium Homeostasi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2057400"/>
            <a:ext cx="6019920" cy="411480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62520" y="1828800"/>
            <a:ext cx="304560" cy="380880"/>
          </a:xfrm>
          <a:prstGeom prst="can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71800" y="1981080"/>
            <a:ext cx="457200" cy="381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05520" y="1828800"/>
            <a:ext cx="304560" cy="533520"/>
          </a:xfrm>
          <a:prstGeom prst="rect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86400" y="1676520"/>
            <a:ext cx="228600" cy="228600"/>
          </a:xfrm>
          <a:prstGeom prst="diamond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167652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57800" y="1600200"/>
            <a:ext cx="0" cy="914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200400" y="175212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3733920"/>
            <a:ext cx="1523880" cy="91440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514600" y="3580560"/>
            <a:ext cx="457200" cy="381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43200" y="335268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3429000"/>
            <a:ext cx="304560" cy="53352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57600" y="3276720"/>
            <a:ext cx="228600" cy="228600"/>
          </a:xfrm>
          <a:prstGeom prst="diamond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429000" y="3200400"/>
            <a:ext cx="0" cy="914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5400000">
            <a:off x="1295280" y="4038480"/>
            <a:ext cx="304920" cy="457200"/>
          </a:xfrm>
          <a:prstGeom prst="can">
            <a:avLst>
              <a:gd name="adj" fmla="val 25000"/>
            </a:avLst>
          </a:prstGeom>
          <a:solidFill>
            <a:srgbClr val="644f8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42670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523160" y="3809880"/>
            <a:ext cx="838440" cy="228600"/>
          </a:xfrm>
          <a:custGeom>
            <a:avLst/>
            <a:gdLst>
              <a:gd name="textAreaLeft" fmla="*/ 146160 w 838440"/>
              <a:gd name="textAreaRight" fmla="*/ 607680 w 83844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251460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251460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48320" y="274320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76920" y="274320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3352680"/>
            <a:ext cx="152280" cy="1526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15000" y="3581280"/>
            <a:ext cx="152280" cy="1526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3581280"/>
            <a:ext cx="152280" cy="1526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4343400"/>
            <a:ext cx="228600" cy="228600"/>
          </a:xfrm>
          <a:custGeom>
            <a:avLst/>
            <a:gdLst>
              <a:gd name="textAreaLeft" fmla="*/ 80640 w 228600"/>
              <a:gd name="textAreaRight" fmla="*/ 147960 w 228600"/>
              <a:gd name="textAreaTop" fmla="*/ 80640 h 228600"/>
              <a:gd name="textAreaBottom" fmla="*/ 1479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arcTo wR="10800" hR="10800" stAng="0" swAng="5400000"/>
                <a:lnTo>
                  <a:pt x="0" y="10800"/>
                </a:lnTo>
                <a:arcTo wR="10800" hR="10800" stAng="16200000" swAng="5400000"/>
                <a:lnTo>
                  <a:pt x="10800" y="21600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62003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14600" y="4191120"/>
            <a:ext cx="228600" cy="228600"/>
          </a:xfrm>
          <a:custGeom>
            <a:avLst/>
            <a:gdLst>
              <a:gd name="textAreaLeft" fmla="*/ 80640 w 228600"/>
              <a:gd name="textAreaRight" fmla="*/ 147960 w 228600"/>
              <a:gd name="textAreaTop" fmla="*/ 80640 h 228600"/>
              <a:gd name="textAreaBottom" fmla="*/ 1479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arcTo wR="10800" hR="10800" stAng="0" swAng="5400000"/>
                <a:lnTo>
                  <a:pt x="0" y="10800"/>
                </a:lnTo>
                <a:arcTo wR="10800" hR="10800" stAng="16200000" swAng="5400000"/>
                <a:lnTo>
                  <a:pt x="10800" y="21600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62003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52680" y="4267080"/>
            <a:ext cx="228600" cy="228600"/>
          </a:xfrm>
          <a:custGeom>
            <a:avLst/>
            <a:gdLst>
              <a:gd name="textAreaLeft" fmla="*/ 80640 w 228600"/>
              <a:gd name="textAreaRight" fmla="*/ 147960 w 228600"/>
              <a:gd name="textAreaTop" fmla="*/ 80640 h 228600"/>
              <a:gd name="textAreaBottom" fmla="*/ 1479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arcTo wR="10800" hR="10800" stAng="0" swAng="5400000"/>
                <a:lnTo>
                  <a:pt x="0" y="10800"/>
                </a:lnTo>
                <a:arcTo wR="10800" hR="10800" stAng="16200000" swAng="5400000"/>
                <a:lnTo>
                  <a:pt x="10800" y="21600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62003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3429000"/>
            <a:ext cx="228600" cy="228600"/>
          </a:xfrm>
          <a:custGeom>
            <a:avLst/>
            <a:gdLst>
              <a:gd name="textAreaLeft" fmla="*/ 80640 w 228600"/>
              <a:gd name="textAreaRight" fmla="*/ 147960 w 228600"/>
              <a:gd name="textAreaTop" fmla="*/ 80640 h 228600"/>
              <a:gd name="textAreaBottom" fmla="*/ 1479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arcTo wR="10800" hR="10800" stAng="0" swAng="5400000"/>
                <a:lnTo>
                  <a:pt x="0" y="10800"/>
                </a:lnTo>
                <a:arcTo wR="10800" hR="10800" stAng="16200000" swAng="5400000"/>
                <a:lnTo>
                  <a:pt x="10800" y="21600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62003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24280" y="2590920"/>
            <a:ext cx="228600" cy="228600"/>
          </a:xfrm>
          <a:custGeom>
            <a:avLst/>
            <a:gdLst>
              <a:gd name="textAreaLeft" fmla="*/ 80640 w 228600"/>
              <a:gd name="textAreaRight" fmla="*/ 147960 w 228600"/>
              <a:gd name="textAreaTop" fmla="*/ 80640 h 228600"/>
              <a:gd name="textAreaBottom" fmla="*/ 1479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arcTo wR="10800" hR="10800" stAng="0" swAng="5400000"/>
                <a:lnTo>
                  <a:pt x="0" y="10800"/>
                </a:lnTo>
                <a:arcTo wR="10800" hR="10800" stAng="16200000" swAng="5400000"/>
                <a:lnTo>
                  <a:pt x="10800" y="21600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62003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91320" y="4648320"/>
            <a:ext cx="228600" cy="228600"/>
          </a:xfrm>
          <a:custGeom>
            <a:avLst/>
            <a:gdLst>
              <a:gd name="textAreaLeft" fmla="*/ 80640 w 228600"/>
              <a:gd name="textAreaRight" fmla="*/ 147960 w 228600"/>
              <a:gd name="textAreaTop" fmla="*/ 80640 h 228600"/>
              <a:gd name="textAreaBottom" fmla="*/ 1479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arcTo wR="10800" hR="10800" stAng="0" swAng="5400000"/>
                <a:lnTo>
                  <a:pt x="0" y="10800"/>
                </a:lnTo>
                <a:arcTo wR="10800" hR="10800" stAng="16200000" swAng="5400000"/>
                <a:lnTo>
                  <a:pt x="10800" y="21600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62003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19520" y="2819520"/>
            <a:ext cx="228600" cy="228600"/>
          </a:xfrm>
          <a:custGeom>
            <a:avLst/>
            <a:gdLst>
              <a:gd name="textAreaLeft" fmla="*/ 80640 w 228600"/>
              <a:gd name="textAreaRight" fmla="*/ 147960 w 228600"/>
              <a:gd name="textAreaTop" fmla="*/ 80640 h 228600"/>
              <a:gd name="textAreaBottom" fmla="*/ 1479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arcTo wR="10800" hR="10800" stAng="0" swAng="5400000"/>
                <a:lnTo>
                  <a:pt x="0" y="10800"/>
                </a:lnTo>
                <a:arcTo wR="10800" hR="10800" stAng="16200000" swAng="5400000"/>
                <a:lnTo>
                  <a:pt x="10800" y="21600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62003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419720" y="3657600"/>
            <a:ext cx="228600" cy="228600"/>
          </a:xfrm>
          <a:custGeom>
            <a:avLst/>
            <a:gdLst>
              <a:gd name="textAreaLeft" fmla="*/ 80640 w 228600"/>
              <a:gd name="textAreaRight" fmla="*/ 147960 w 228600"/>
              <a:gd name="textAreaTop" fmla="*/ 80640 h 228600"/>
              <a:gd name="textAreaBottom" fmla="*/ 1479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arcTo wR="10800" hR="10800" stAng="0" swAng="5400000"/>
                <a:lnTo>
                  <a:pt x="0" y="10800"/>
                </a:lnTo>
                <a:arcTo wR="10800" hR="10800" stAng="16200000" swAng="5400000"/>
                <a:lnTo>
                  <a:pt x="10800" y="21600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62003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2743200"/>
            <a:ext cx="228600" cy="228600"/>
          </a:xfrm>
          <a:custGeom>
            <a:avLst/>
            <a:gdLst>
              <a:gd name="textAreaLeft" fmla="*/ 80640 w 228600"/>
              <a:gd name="textAreaRight" fmla="*/ 147960 w 228600"/>
              <a:gd name="textAreaTop" fmla="*/ 80640 h 228600"/>
              <a:gd name="textAreaBottom" fmla="*/ 1479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arcTo wR="10800" hR="10800" stAng="0" swAng="5400000"/>
                <a:lnTo>
                  <a:pt x="0" y="10800"/>
                </a:lnTo>
                <a:arcTo wR="10800" hR="10800" stAng="16200000" swAng="5400000"/>
                <a:lnTo>
                  <a:pt x="10800" y="21600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62003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05320" y="411480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441972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71800" y="4495680"/>
            <a:ext cx="152280" cy="1526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43400" y="3581280"/>
            <a:ext cx="152280" cy="1526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0" y="3581280"/>
            <a:ext cx="152280" cy="1526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00400" y="259092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95680" y="3124080"/>
            <a:ext cx="152640" cy="1526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71800" y="297180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48520" y="2362320"/>
            <a:ext cx="304560" cy="533160"/>
          </a:xfrm>
          <a:prstGeom prst="rect">
            <a:avLst/>
          </a:prstGeom>
          <a:solidFill>
            <a:srgbClr val="8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2133720"/>
            <a:ext cx="0" cy="914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77120" y="2895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8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3124080"/>
            <a:ext cx="152640" cy="1526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66880" y="1905120"/>
            <a:ext cx="15264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95480" y="1600200"/>
            <a:ext cx="15264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9880" y="1676520"/>
            <a:ext cx="15264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29000" y="1752480"/>
            <a:ext cx="152280" cy="1526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57600" y="190512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1600200"/>
            <a:ext cx="15264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00600" y="182880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182880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48320" y="167652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29200" y="160020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62720" y="1981080"/>
            <a:ext cx="152280" cy="1526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72200" y="1981080"/>
            <a:ext cx="152280" cy="1526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190512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19720" y="4433760"/>
            <a:ext cx="168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ore-oper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 chann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040" y="198108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 pum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19760" y="182880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-g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nn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610480" y="1981080"/>
            <a:ext cx="304920" cy="381240"/>
          </a:xfrm>
          <a:prstGeom prst="can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763120" y="182880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1880" y="2971800"/>
            <a:ext cx="304920" cy="533520"/>
          </a:xfrm>
          <a:prstGeom prst="rect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763120" y="2819520"/>
            <a:ext cx="228600" cy="228600"/>
          </a:xfrm>
          <a:prstGeom prst="diamond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534520" y="2743200"/>
            <a:ext cx="0" cy="914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480" y="2666880"/>
            <a:ext cx="97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g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nn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46520" y="481500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uff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Things that influence Ca level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7839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tage-gated Ion channels in cell membr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and-gated ion channels in cell membr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and-gated ion channels in ER and other Ca st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cium-gated ion channels (CIC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cium pumps from cytosol to outs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cium pumps from cytosol to 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'Capacitative' calcium entry system, SOC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ses calcium levels in stores. If low, then somehow opens a channel in the plasma membrane (!). Ca comes into cytosol, and then pumped into 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cium buffers in cytosol, nucleus and 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alcium signalling following a stimulu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19200" y="1676520"/>
            <a:ext cx="799128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tage stimulus: Ca comes in from V-gated chan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mical stimulu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 comes in via ligand-gated channel,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PCR-&gt;Gq-&gt;PLCbeta-&gt;IP3-&gt;IP3R-&gt;Ca from ER,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TK-&gt;PLCgamma-&gt;IP3-&gt;IP3R-&gt;Ca from 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 may activate further rel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CR from IP3R or Ry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-&gt;PLC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PLC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&gt; IP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ffers soak up huge amounts of 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CaM is present at ~80 uM in some tissu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mps activated, both in plasma membrane and st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stores are depleted, SOCCs op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G-proteins and GPCR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4257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emely common signal transduction mechanis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PCRs  (G-protein coupled receptors) are 7-transmembrane helix stru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factory GPCRs alone account for over 1000 known genes: 3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-proteins named because all of them hydrolyze GTP, but slow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GPCR_str" descr=""/>
          <p:cNvPicPr/>
          <p:nvPr/>
        </p:nvPicPr>
        <p:blipFill>
          <a:blip r:embed="rId1"/>
          <a:stretch/>
        </p:blipFill>
        <p:spPr>
          <a:xfrm>
            <a:off x="5943600" y="2438280"/>
            <a:ext cx="2354400" cy="33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G-proteins and GPCR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230" name="GPCR1" descr=""/>
          <p:cNvPicPr/>
          <p:nvPr/>
        </p:nvPicPr>
        <p:blipFill>
          <a:blip r:embed="rId1"/>
          <a:stretch/>
        </p:blipFill>
        <p:spPr>
          <a:xfrm>
            <a:off x="76320" y="1295280"/>
            <a:ext cx="5325840" cy="5521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776920" y="161460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 + 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39760" y="3276720"/>
            <a:ext cx="102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 + R.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545600" y="1600200"/>
            <a:ext cx="56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.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468920" y="327672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.R.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35400" y="3886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T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935400" y="457200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D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452720" y="5119560"/>
            <a:ext cx="107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.R +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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TP.G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848720" y="3657600"/>
            <a:ext cx="0" cy="1447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556400" y="4102200"/>
            <a:ext cx="279360" cy="698400"/>
          </a:xfrm>
          <a:custGeom>
            <a:avLst/>
            <a:gdLst/>
            <a:ahLst/>
            <a:rect l="l" t="t" r="r" b="b"/>
            <a:pathLst>
              <a:path w="176" h="496">
                <a:moveTo>
                  <a:pt x="8" y="0"/>
                </a:moveTo>
                <a:cubicBezTo>
                  <a:pt x="34" y="9"/>
                  <a:pt x="54" y="23"/>
                  <a:pt x="80" y="32"/>
                </a:cubicBezTo>
                <a:cubicBezTo>
                  <a:pt x="106" y="71"/>
                  <a:pt x="133" y="109"/>
                  <a:pt x="152" y="152"/>
                </a:cubicBezTo>
                <a:cubicBezTo>
                  <a:pt x="159" y="167"/>
                  <a:pt x="163" y="184"/>
                  <a:pt x="168" y="200"/>
                </a:cubicBezTo>
                <a:cubicBezTo>
                  <a:pt x="171" y="208"/>
                  <a:pt x="176" y="224"/>
                  <a:pt x="176" y="224"/>
                </a:cubicBezTo>
                <a:cubicBezTo>
                  <a:pt x="167" y="305"/>
                  <a:pt x="163" y="392"/>
                  <a:pt x="96" y="448"/>
                </a:cubicBezTo>
                <a:cubicBezTo>
                  <a:pt x="68" y="472"/>
                  <a:pt x="32" y="480"/>
                  <a:pt x="0" y="496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861320" y="1955880"/>
            <a:ext cx="582480" cy="2592360"/>
          </a:xfrm>
          <a:custGeom>
            <a:avLst/>
            <a:gdLst/>
            <a:ahLst/>
            <a:rect l="l" t="t" r="r" b="b"/>
            <a:pathLst>
              <a:path w="367" h="1633">
                <a:moveTo>
                  <a:pt x="0" y="1544"/>
                </a:moveTo>
                <a:cubicBezTo>
                  <a:pt x="24" y="1593"/>
                  <a:pt x="43" y="1619"/>
                  <a:pt x="96" y="1632"/>
                </a:cubicBezTo>
                <a:cubicBezTo>
                  <a:pt x="164" y="1623"/>
                  <a:pt x="191" y="1633"/>
                  <a:pt x="240" y="1584"/>
                </a:cubicBezTo>
                <a:cubicBezTo>
                  <a:pt x="285" y="1463"/>
                  <a:pt x="310" y="1359"/>
                  <a:pt x="328" y="1232"/>
                </a:cubicBezTo>
                <a:cubicBezTo>
                  <a:pt x="335" y="1184"/>
                  <a:pt x="352" y="1088"/>
                  <a:pt x="352" y="1088"/>
                </a:cubicBezTo>
                <a:cubicBezTo>
                  <a:pt x="367" y="822"/>
                  <a:pt x="361" y="1052"/>
                  <a:pt x="352" y="848"/>
                </a:cubicBezTo>
                <a:cubicBezTo>
                  <a:pt x="348" y="755"/>
                  <a:pt x="349" y="661"/>
                  <a:pt x="344" y="568"/>
                </a:cubicBezTo>
                <a:cubicBezTo>
                  <a:pt x="342" y="533"/>
                  <a:pt x="319" y="479"/>
                  <a:pt x="312" y="448"/>
                </a:cubicBezTo>
                <a:cubicBezTo>
                  <a:pt x="295" y="368"/>
                  <a:pt x="294" y="286"/>
                  <a:pt x="272" y="208"/>
                </a:cubicBezTo>
                <a:cubicBezTo>
                  <a:pt x="254" y="144"/>
                  <a:pt x="268" y="88"/>
                  <a:pt x="208" y="48"/>
                </a:cubicBezTo>
                <a:cubicBezTo>
                  <a:pt x="197" y="32"/>
                  <a:pt x="176" y="0"/>
                  <a:pt x="176" y="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848720" y="20574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05720" y="3505320"/>
            <a:ext cx="7617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72200" y="1981080"/>
            <a:ext cx="0" cy="12956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629400" y="1828800"/>
            <a:ext cx="8380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77120" y="2376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70880" y="2590920"/>
            <a:ext cx="177840" cy="368280"/>
          </a:xfrm>
          <a:custGeom>
            <a:avLst/>
            <a:gdLst/>
            <a:ahLst/>
            <a:rect l="l" t="t" r="r" b="b"/>
            <a:pathLst>
              <a:path w="112" h="232">
                <a:moveTo>
                  <a:pt x="0" y="0"/>
                </a:moveTo>
                <a:cubicBezTo>
                  <a:pt x="68" y="23"/>
                  <a:pt x="112" y="161"/>
                  <a:pt x="112" y="232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16440" y="23623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10200" y="2576520"/>
            <a:ext cx="177840" cy="368280"/>
          </a:xfrm>
          <a:custGeom>
            <a:avLst/>
            <a:gdLst/>
            <a:ahLst/>
            <a:rect l="l" t="t" r="r" b="b"/>
            <a:pathLst>
              <a:path w="112" h="232">
                <a:moveTo>
                  <a:pt x="0" y="0"/>
                </a:moveTo>
                <a:cubicBezTo>
                  <a:pt x="68" y="23"/>
                  <a:pt x="112" y="161"/>
                  <a:pt x="112" y="232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GPCR2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121360" cy="60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G-protein signalling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7534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the G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the G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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ave signalling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ctive only in the GTP-bound for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ydrolysis of GTP increases when it binds the target. G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urned on and stays on till it activates target then its clock starts running and a precise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arget is said to be a GAP:             GTPase Activating Prote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principle we can get many permutations and combinations of G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G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G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Receptor Tyrosine Kinase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3419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w but impor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t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lif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 de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le transmembrane hel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ation by dimerization and cross-phosphory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RTK" descr=""/>
          <p:cNvPicPr/>
          <p:nvPr/>
        </p:nvPicPr>
        <p:blipFill>
          <a:blip r:embed="rId1"/>
          <a:stretch/>
        </p:blipFill>
        <p:spPr>
          <a:xfrm>
            <a:off x="3581280" y="2286000"/>
            <a:ext cx="539460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Topics for lecture 2.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143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tment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n flow and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and-gated chann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tage and voltage-gated chann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ium signa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 proteins and GPC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ptor Tyrosine Kin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Activation of RTK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256" name="PDGF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778800" cy="41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RTK signalling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3124080"/>
            <a:ext cx="6019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2743200"/>
            <a:ext cx="304920" cy="914400"/>
            <a:chOff x="1371600" y="2743200"/>
            <a:chExt cx="304920" cy="914400"/>
          </a:xfrm>
        </p:grpSpPr>
        <p:sp>
          <p:nvSpPr>
            <p:cNvPr id="260" name=""/>
            <p:cNvSpPr/>
            <p:nvPr/>
          </p:nvSpPr>
          <p:spPr>
            <a:xfrm>
              <a:off x="1371600" y="2743200"/>
              <a:ext cx="30492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76520" y="3048120"/>
              <a:ext cx="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362320" y="2743200"/>
            <a:ext cx="304560" cy="914400"/>
            <a:chOff x="2362320" y="2743200"/>
            <a:chExt cx="304560" cy="914400"/>
          </a:xfrm>
        </p:grpSpPr>
        <p:sp>
          <p:nvSpPr>
            <p:cNvPr id="263" name=""/>
            <p:cNvSpPr/>
            <p:nvPr/>
          </p:nvSpPr>
          <p:spPr>
            <a:xfrm flipH="1">
              <a:off x="2362320" y="2743200"/>
              <a:ext cx="30456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362320" y="3048120"/>
              <a:ext cx="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1752480" y="2057400"/>
            <a:ext cx="457200" cy="457200"/>
          </a:xfrm>
          <a:prstGeom prst="diamond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1676160" y="2590920"/>
            <a:ext cx="15228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057400" y="2590920"/>
            <a:ext cx="22860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352680" y="2743200"/>
            <a:ext cx="304920" cy="914400"/>
            <a:chOff x="3352680" y="2743200"/>
            <a:chExt cx="304920" cy="914400"/>
          </a:xfrm>
        </p:grpSpPr>
        <p:sp>
          <p:nvSpPr>
            <p:cNvPr id="269" name=""/>
            <p:cNvSpPr/>
            <p:nvPr/>
          </p:nvSpPr>
          <p:spPr>
            <a:xfrm>
              <a:off x="3352680" y="2743200"/>
              <a:ext cx="30492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7600" y="3048120"/>
              <a:ext cx="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809520" y="2743200"/>
            <a:ext cx="304920" cy="914400"/>
            <a:chOff x="3809520" y="2743200"/>
            <a:chExt cx="304920" cy="914400"/>
          </a:xfrm>
        </p:grpSpPr>
        <p:sp>
          <p:nvSpPr>
            <p:cNvPr id="272" name=""/>
            <p:cNvSpPr/>
            <p:nvPr/>
          </p:nvSpPr>
          <p:spPr>
            <a:xfrm flipH="1">
              <a:off x="3809520" y="2743200"/>
              <a:ext cx="30492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09520" y="3048120"/>
              <a:ext cx="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3505320" y="2514600"/>
            <a:ext cx="457200" cy="457200"/>
          </a:xfrm>
          <a:prstGeom prst="diamond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3429000"/>
            <a:ext cx="0" cy="152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9880" y="3429000"/>
            <a:ext cx="0" cy="152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52680" y="4191120"/>
            <a:ext cx="685800" cy="9144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C-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4952880" y="2514600"/>
            <a:ext cx="761760" cy="1143000"/>
            <a:chOff x="4952880" y="2514600"/>
            <a:chExt cx="761760" cy="1143000"/>
          </a:xfrm>
        </p:grpSpPr>
        <p:grpSp>
          <p:nvGrpSpPr>
            <p:cNvPr id="279" name=""/>
            <p:cNvGrpSpPr/>
            <p:nvPr/>
          </p:nvGrpSpPr>
          <p:grpSpPr>
            <a:xfrm>
              <a:off x="4952880" y="2743200"/>
              <a:ext cx="304920" cy="914400"/>
              <a:chOff x="4952880" y="2743200"/>
              <a:chExt cx="304920" cy="914400"/>
            </a:xfrm>
          </p:grpSpPr>
          <p:sp>
            <p:nvSpPr>
              <p:cNvPr id="280" name=""/>
              <p:cNvSpPr/>
              <p:nvPr/>
            </p:nvSpPr>
            <p:spPr>
              <a:xfrm>
                <a:off x="4952880" y="2743200"/>
                <a:ext cx="304920" cy="304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257800" y="3048120"/>
                <a:ext cx="0" cy="609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5409720" y="2743200"/>
              <a:ext cx="304920" cy="914400"/>
              <a:chOff x="5409720" y="2743200"/>
              <a:chExt cx="304920" cy="914400"/>
            </a:xfrm>
          </p:grpSpPr>
          <p:sp>
            <p:nvSpPr>
              <p:cNvPr id="283" name=""/>
              <p:cNvSpPr/>
              <p:nvPr/>
            </p:nvSpPr>
            <p:spPr>
              <a:xfrm flipH="1">
                <a:off x="5409720" y="2743200"/>
                <a:ext cx="304920" cy="304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409720" y="3048120"/>
                <a:ext cx="0" cy="609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5105520" y="2514600"/>
              <a:ext cx="457200" cy="457200"/>
            </a:xfrm>
            <a:prstGeom prst="diamond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57800" y="3429000"/>
              <a:ext cx="0" cy="152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10080" y="3429000"/>
              <a:ext cx="0" cy="152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5410080" y="3352680"/>
            <a:ext cx="609840" cy="609840"/>
          </a:xfrm>
          <a:prstGeom prst="parallelogram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H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67280" y="3809880"/>
            <a:ext cx="609840" cy="7621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62720" y="4648320"/>
            <a:ext cx="1218960" cy="6858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71800" y="5638680"/>
            <a:ext cx="609480" cy="3812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P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62520" y="5638680"/>
            <a:ext cx="609480" cy="3812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37339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3428640" y="5181480"/>
            <a:ext cx="15228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86200" y="5181480"/>
            <a:ext cx="15228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83560" y="3086280"/>
            <a:ext cx="1689120" cy="1688760"/>
          </a:xfrm>
          <a:custGeom>
            <a:avLst/>
            <a:gdLst/>
            <a:ahLst/>
            <a:rect l="l" t="t" r="r" b="b"/>
            <a:pathLst>
              <a:path w="1064" h="1064">
                <a:moveTo>
                  <a:pt x="0" y="26"/>
                </a:moveTo>
                <a:cubicBezTo>
                  <a:pt x="53" y="29"/>
                  <a:pt x="109" y="19"/>
                  <a:pt x="160" y="34"/>
                </a:cubicBezTo>
                <a:cubicBezTo>
                  <a:pt x="177" y="39"/>
                  <a:pt x="218" y="133"/>
                  <a:pt x="232" y="154"/>
                </a:cubicBezTo>
                <a:cubicBezTo>
                  <a:pt x="271" y="312"/>
                  <a:pt x="228" y="602"/>
                  <a:pt x="184" y="778"/>
                </a:cubicBezTo>
                <a:cubicBezTo>
                  <a:pt x="189" y="826"/>
                  <a:pt x="191" y="874"/>
                  <a:pt x="200" y="922"/>
                </a:cubicBezTo>
                <a:cubicBezTo>
                  <a:pt x="212" y="986"/>
                  <a:pt x="359" y="1028"/>
                  <a:pt x="408" y="1034"/>
                </a:cubicBezTo>
                <a:cubicBezTo>
                  <a:pt x="607" y="1028"/>
                  <a:pt x="761" y="1064"/>
                  <a:pt x="856" y="874"/>
                </a:cubicBezTo>
                <a:cubicBezTo>
                  <a:pt x="867" y="797"/>
                  <a:pt x="871" y="719"/>
                  <a:pt x="880" y="642"/>
                </a:cubicBezTo>
                <a:cubicBezTo>
                  <a:pt x="858" y="552"/>
                  <a:pt x="859" y="522"/>
                  <a:pt x="784" y="466"/>
                </a:cubicBezTo>
                <a:cubicBezTo>
                  <a:pt x="781" y="458"/>
                  <a:pt x="780" y="450"/>
                  <a:pt x="776" y="442"/>
                </a:cubicBezTo>
                <a:cubicBezTo>
                  <a:pt x="772" y="433"/>
                  <a:pt x="763" y="427"/>
                  <a:pt x="760" y="418"/>
                </a:cubicBezTo>
                <a:cubicBezTo>
                  <a:pt x="748" y="384"/>
                  <a:pt x="737" y="335"/>
                  <a:pt x="728" y="298"/>
                </a:cubicBezTo>
                <a:cubicBezTo>
                  <a:pt x="732" y="243"/>
                  <a:pt x="726" y="124"/>
                  <a:pt x="776" y="74"/>
                </a:cubicBezTo>
                <a:cubicBezTo>
                  <a:pt x="801" y="49"/>
                  <a:pt x="840" y="45"/>
                  <a:pt x="872" y="34"/>
                </a:cubicBezTo>
                <a:cubicBezTo>
                  <a:pt x="888" y="29"/>
                  <a:pt x="920" y="18"/>
                  <a:pt x="920" y="18"/>
                </a:cubicBezTo>
                <a:cubicBezTo>
                  <a:pt x="974" y="32"/>
                  <a:pt x="958" y="7"/>
                  <a:pt x="1008" y="2"/>
                </a:cubicBezTo>
                <a:cubicBezTo>
                  <a:pt x="1027" y="0"/>
                  <a:pt x="1045" y="2"/>
                  <a:pt x="1064" y="2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7340760" y="4102200"/>
            <a:ext cx="761400" cy="1143000"/>
            <a:chOff x="7340760" y="4102200"/>
            <a:chExt cx="761400" cy="1143000"/>
          </a:xfrm>
        </p:grpSpPr>
        <p:grpSp>
          <p:nvGrpSpPr>
            <p:cNvPr id="298" name=""/>
            <p:cNvGrpSpPr/>
            <p:nvPr/>
          </p:nvGrpSpPr>
          <p:grpSpPr>
            <a:xfrm>
              <a:off x="7340760" y="4330800"/>
              <a:ext cx="304560" cy="914400"/>
              <a:chOff x="7340760" y="4330800"/>
              <a:chExt cx="304560" cy="914400"/>
            </a:xfrm>
          </p:grpSpPr>
          <p:sp>
            <p:nvSpPr>
              <p:cNvPr id="299" name=""/>
              <p:cNvSpPr/>
              <p:nvPr/>
            </p:nvSpPr>
            <p:spPr>
              <a:xfrm>
                <a:off x="7340760" y="4330800"/>
                <a:ext cx="304560" cy="304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645320" y="4635720"/>
                <a:ext cx="0" cy="609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7797600" y="4330800"/>
              <a:ext cx="304560" cy="914400"/>
              <a:chOff x="7797600" y="4330800"/>
              <a:chExt cx="304560" cy="914400"/>
            </a:xfrm>
          </p:grpSpPr>
          <p:sp>
            <p:nvSpPr>
              <p:cNvPr id="302" name=""/>
              <p:cNvSpPr/>
              <p:nvPr/>
            </p:nvSpPr>
            <p:spPr>
              <a:xfrm flipH="1">
                <a:off x="7797600" y="4330800"/>
                <a:ext cx="304560" cy="304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797600" y="4635720"/>
                <a:ext cx="0" cy="609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7493040" y="4102200"/>
              <a:ext cx="456840" cy="457200"/>
            </a:xfrm>
            <a:prstGeom prst="diamond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645320" y="5016600"/>
              <a:ext cx="0" cy="152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797600" y="5016600"/>
              <a:ext cx="0" cy="152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7258680" y="270684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rnalis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Summary of Lecture 2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7120" y="1752480"/>
            <a:ext cx="6307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tment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on flow and ba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and-gated chann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tage-gated chann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ium signa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 protein signa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ptor Tyrosine Kin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mpartmentalisati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2666880"/>
            <a:ext cx="5105520" cy="34290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3360" y="2071800"/>
            <a:ext cx="31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utside = extracellular sp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2680" y="2514600"/>
            <a:ext cx="1284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Membra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29040" y="3367080"/>
            <a:ext cx="181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side = cytos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3886200"/>
            <a:ext cx="1447920" cy="18288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Nucle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81360" y="3095640"/>
            <a:ext cx="4217760" cy="2911320"/>
          </a:xfrm>
          <a:custGeom>
            <a:avLst/>
            <a:gdLst/>
            <a:ahLst/>
            <a:rect l="l" t="t" r="r" b="b"/>
            <a:pathLst>
              <a:path w="2657" h="1834">
                <a:moveTo>
                  <a:pt x="2008" y="842"/>
                </a:moveTo>
                <a:cubicBezTo>
                  <a:pt x="1937" y="771"/>
                  <a:pt x="1932" y="641"/>
                  <a:pt x="1920" y="546"/>
                </a:cubicBezTo>
                <a:cubicBezTo>
                  <a:pt x="1932" y="297"/>
                  <a:pt x="1914" y="369"/>
                  <a:pt x="2208" y="378"/>
                </a:cubicBezTo>
                <a:cubicBezTo>
                  <a:pt x="2291" y="461"/>
                  <a:pt x="2263" y="486"/>
                  <a:pt x="2272" y="618"/>
                </a:cubicBezTo>
                <a:cubicBezTo>
                  <a:pt x="2277" y="685"/>
                  <a:pt x="2266" y="715"/>
                  <a:pt x="2328" y="730"/>
                </a:cubicBezTo>
                <a:cubicBezTo>
                  <a:pt x="2354" y="670"/>
                  <a:pt x="2373" y="611"/>
                  <a:pt x="2384" y="546"/>
                </a:cubicBezTo>
                <a:cubicBezTo>
                  <a:pt x="2378" y="521"/>
                  <a:pt x="2355" y="486"/>
                  <a:pt x="2384" y="466"/>
                </a:cubicBezTo>
                <a:cubicBezTo>
                  <a:pt x="2393" y="460"/>
                  <a:pt x="2405" y="461"/>
                  <a:pt x="2416" y="458"/>
                </a:cubicBezTo>
                <a:cubicBezTo>
                  <a:pt x="2448" y="469"/>
                  <a:pt x="2461" y="482"/>
                  <a:pt x="2472" y="514"/>
                </a:cubicBezTo>
                <a:cubicBezTo>
                  <a:pt x="2465" y="569"/>
                  <a:pt x="2452" y="620"/>
                  <a:pt x="2440" y="674"/>
                </a:cubicBezTo>
                <a:cubicBezTo>
                  <a:pt x="2435" y="696"/>
                  <a:pt x="2424" y="738"/>
                  <a:pt x="2424" y="738"/>
                </a:cubicBezTo>
                <a:cubicBezTo>
                  <a:pt x="2427" y="762"/>
                  <a:pt x="2423" y="788"/>
                  <a:pt x="2432" y="810"/>
                </a:cubicBezTo>
                <a:cubicBezTo>
                  <a:pt x="2435" y="818"/>
                  <a:pt x="2448" y="818"/>
                  <a:pt x="2456" y="818"/>
                </a:cubicBezTo>
                <a:cubicBezTo>
                  <a:pt x="2490" y="818"/>
                  <a:pt x="2557" y="798"/>
                  <a:pt x="2592" y="794"/>
                </a:cubicBezTo>
                <a:cubicBezTo>
                  <a:pt x="2626" y="845"/>
                  <a:pt x="2594" y="884"/>
                  <a:pt x="2640" y="930"/>
                </a:cubicBezTo>
                <a:cubicBezTo>
                  <a:pt x="2657" y="999"/>
                  <a:pt x="2657" y="1060"/>
                  <a:pt x="2640" y="1130"/>
                </a:cubicBezTo>
                <a:cubicBezTo>
                  <a:pt x="2636" y="1146"/>
                  <a:pt x="2639" y="1170"/>
                  <a:pt x="2624" y="1178"/>
                </a:cubicBezTo>
                <a:cubicBezTo>
                  <a:pt x="2601" y="1192"/>
                  <a:pt x="2571" y="1183"/>
                  <a:pt x="2544" y="1186"/>
                </a:cubicBezTo>
                <a:cubicBezTo>
                  <a:pt x="2465" y="1179"/>
                  <a:pt x="2397" y="1169"/>
                  <a:pt x="2320" y="1154"/>
                </a:cubicBezTo>
                <a:cubicBezTo>
                  <a:pt x="2276" y="1110"/>
                  <a:pt x="2277" y="1113"/>
                  <a:pt x="2208" y="1122"/>
                </a:cubicBezTo>
                <a:cubicBezTo>
                  <a:pt x="2203" y="1133"/>
                  <a:pt x="2193" y="1142"/>
                  <a:pt x="2192" y="1154"/>
                </a:cubicBezTo>
                <a:cubicBezTo>
                  <a:pt x="2185" y="1258"/>
                  <a:pt x="2212" y="1366"/>
                  <a:pt x="2184" y="1466"/>
                </a:cubicBezTo>
                <a:cubicBezTo>
                  <a:pt x="2177" y="1492"/>
                  <a:pt x="2131" y="1471"/>
                  <a:pt x="2104" y="1474"/>
                </a:cubicBezTo>
                <a:cubicBezTo>
                  <a:pt x="2063" y="1447"/>
                  <a:pt x="2060" y="1438"/>
                  <a:pt x="2024" y="1474"/>
                </a:cubicBezTo>
                <a:cubicBezTo>
                  <a:pt x="2011" y="1550"/>
                  <a:pt x="1982" y="1600"/>
                  <a:pt x="1904" y="1626"/>
                </a:cubicBezTo>
                <a:cubicBezTo>
                  <a:pt x="1892" y="1625"/>
                  <a:pt x="1784" y="1607"/>
                  <a:pt x="1768" y="1626"/>
                </a:cubicBezTo>
                <a:cubicBezTo>
                  <a:pt x="1751" y="1647"/>
                  <a:pt x="1769" y="1681"/>
                  <a:pt x="1760" y="1706"/>
                </a:cubicBezTo>
                <a:cubicBezTo>
                  <a:pt x="1757" y="1714"/>
                  <a:pt x="1744" y="1712"/>
                  <a:pt x="1736" y="1714"/>
                </a:cubicBezTo>
                <a:cubicBezTo>
                  <a:pt x="1686" y="1725"/>
                  <a:pt x="1635" y="1732"/>
                  <a:pt x="1584" y="1738"/>
                </a:cubicBezTo>
                <a:cubicBezTo>
                  <a:pt x="1532" y="1755"/>
                  <a:pt x="1492" y="1802"/>
                  <a:pt x="1440" y="1818"/>
                </a:cubicBezTo>
                <a:cubicBezTo>
                  <a:pt x="1389" y="1834"/>
                  <a:pt x="1333" y="1829"/>
                  <a:pt x="1280" y="1834"/>
                </a:cubicBezTo>
                <a:cubicBezTo>
                  <a:pt x="1235" y="1818"/>
                  <a:pt x="1184" y="1812"/>
                  <a:pt x="1144" y="1786"/>
                </a:cubicBezTo>
                <a:cubicBezTo>
                  <a:pt x="1115" y="1768"/>
                  <a:pt x="1104" y="1730"/>
                  <a:pt x="1080" y="1706"/>
                </a:cubicBezTo>
                <a:cubicBezTo>
                  <a:pt x="1061" y="1687"/>
                  <a:pt x="1037" y="1674"/>
                  <a:pt x="1016" y="1658"/>
                </a:cubicBezTo>
                <a:cubicBezTo>
                  <a:pt x="988" y="1573"/>
                  <a:pt x="983" y="1483"/>
                  <a:pt x="968" y="1394"/>
                </a:cubicBezTo>
                <a:cubicBezTo>
                  <a:pt x="904" y="1397"/>
                  <a:pt x="838" y="1386"/>
                  <a:pt x="776" y="1402"/>
                </a:cubicBezTo>
                <a:cubicBezTo>
                  <a:pt x="739" y="1411"/>
                  <a:pt x="714" y="1449"/>
                  <a:pt x="680" y="1466"/>
                </a:cubicBezTo>
                <a:cubicBezTo>
                  <a:pt x="660" y="1476"/>
                  <a:pt x="637" y="1477"/>
                  <a:pt x="616" y="1482"/>
                </a:cubicBezTo>
                <a:cubicBezTo>
                  <a:pt x="608" y="1487"/>
                  <a:pt x="596" y="1507"/>
                  <a:pt x="592" y="1498"/>
                </a:cubicBezTo>
                <a:cubicBezTo>
                  <a:pt x="575" y="1464"/>
                  <a:pt x="578" y="1423"/>
                  <a:pt x="568" y="1386"/>
                </a:cubicBezTo>
                <a:cubicBezTo>
                  <a:pt x="554" y="1332"/>
                  <a:pt x="536" y="1279"/>
                  <a:pt x="520" y="1226"/>
                </a:cubicBezTo>
                <a:cubicBezTo>
                  <a:pt x="508" y="1090"/>
                  <a:pt x="521" y="1002"/>
                  <a:pt x="424" y="890"/>
                </a:cubicBezTo>
                <a:cubicBezTo>
                  <a:pt x="406" y="869"/>
                  <a:pt x="371" y="874"/>
                  <a:pt x="344" y="866"/>
                </a:cubicBezTo>
                <a:cubicBezTo>
                  <a:pt x="225" y="906"/>
                  <a:pt x="149" y="1013"/>
                  <a:pt x="72" y="1106"/>
                </a:cubicBezTo>
                <a:cubicBezTo>
                  <a:pt x="65" y="1134"/>
                  <a:pt x="35" y="1215"/>
                  <a:pt x="72" y="1242"/>
                </a:cubicBezTo>
                <a:cubicBezTo>
                  <a:pt x="98" y="1261"/>
                  <a:pt x="136" y="1247"/>
                  <a:pt x="168" y="1250"/>
                </a:cubicBezTo>
                <a:cubicBezTo>
                  <a:pt x="211" y="1245"/>
                  <a:pt x="257" y="1251"/>
                  <a:pt x="296" y="1234"/>
                </a:cubicBezTo>
                <a:cubicBezTo>
                  <a:pt x="311" y="1227"/>
                  <a:pt x="308" y="1202"/>
                  <a:pt x="312" y="1186"/>
                </a:cubicBezTo>
                <a:cubicBezTo>
                  <a:pt x="321" y="1146"/>
                  <a:pt x="339" y="1014"/>
                  <a:pt x="344" y="978"/>
                </a:cubicBezTo>
                <a:cubicBezTo>
                  <a:pt x="236" y="960"/>
                  <a:pt x="240" y="972"/>
                  <a:pt x="184" y="1066"/>
                </a:cubicBezTo>
                <a:cubicBezTo>
                  <a:pt x="161" y="1226"/>
                  <a:pt x="174" y="1141"/>
                  <a:pt x="144" y="1322"/>
                </a:cubicBezTo>
                <a:cubicBezTo>
                  <a:pt x="141" y="1338"/>
                  <a:pt x="136" y="1370"/>
                  <a:pt x="136" y="1370"/>
                </a:cubicBezTo>
                <a:cubicBezTo>
                  <a:pt x="112" y="1365"/>
                  <a:pt x="84" y="1368"/>
                  <a:pt x="64" y="1354"/>
                </a:cubicBezTo>
                <a:cubicBezTo>
                  <a:pt x="0" y="1310"/>
                  <a:pt x="33" y="1128"/>
                  <a:pt x="40" y="1074"/>
                </a:cubicBezTo>
                <a:cubicBezTo>
                  <a:pt x="41" y="1064"/>
                  <a:pt x="55" y="1062"/>
                  <a:pt x="64" y="1058"/>
                </a:cubicBezTo>
                <a:cubicBezTo>
                  <a:pt x="95" y="1045"/>
                  <a:pt x="160" y="1026"/>
                  <a:pt x="160" y="1026"/>
                </a:cubicBezTo>
                <a:cubicBezTo>
                  <a:pt x="168" y="1005"/>
                  <a:pt x="183" y="985"/>
                  <a:pt x="184" y="962"/>
                </a:cubicBezTo>
                <a:cubicBezTo>
                  <a:pt x="189" y="849"/>
                  <a:pt x="249" y="647"/>
                  <a:pt x="104" y="618"/>
                </a:cubicBezTo>
                <a:cubicBezTo>
                  <a:pt x="73" y="612"/>
                  <a:pt x="40" y="613"/>
                  <a:pt x="8" y="610"/>
                </a:cubicBezTo>
                <a:cubicBezTo>
                  <a:pt x="20" y="539"/>
                  <a:pt x="21" y="434"/>
                  <a:pt x="88" y="386"/>
                </a:cubicBezTo>
                <a:cubicBezTo>
                  <a:pt x="106" y="373"/>
                  <a:pt x="131" y="375"/>
                  <a:pt x="152" y="370"/>
                </a:cubicBezTo>
                <a:cubicBezTo>
                  <a:pt x="181" y="373"/>
                  <a:pt x="222" y="355"/>
                  <a:pt x="240" y="378"/>
                </a:cubicBezTo>
                <a:cubicBezTo>
                  <a:pt x="266" y="412"/>
                  <a:pt x="239" y="466"/>
                  <a:pt x="256" y="506"/>
                </a:cubicBezTo>
                <a:cubicBezTo>
                  <a:pt x="272" y="543"/>
                  <a:pt x="288" y="581"/>
                  <a:pt x="304" y="618"/>
                </a:cubicBezTo>
                <a:cubicBezTo>
                  <a:pt x="307" y="639"/>
                  <a:pt x="304" y="662"/>
                  <a:pt x="312" y="682"/>
                </a:cubicBezTo>
                <a:cubicBezTo>
                  <a:pt x="325" y="715"/>
                  <a:pt x="381" y="703"/>
                  <a:pt x="416" y="706"/>
                </a:cubicBezTo>
                <a:cubicBezTo>
                  <a:pt x="508" y="714"/>
                  <a:pt x="650" y="724"/>
                  <a:pt x="728" y="730"/>
                </a:cubicBezTo>
                <a:cubicBezTo>
                  <a:pt x="733" y="751"/>
                  <a:pt x="734" y="774"/>
                  <a:pt x="744" y="794"/>
                </a:cubicBezTo>
                <a:cubicBezTo>
                  <a:pt x="748" y="803"/>
                  <a:pt x="761" y="817"/>
                  <a:pt x="768" y="810"/>
                </a:cubicBezTo>
                <a:cubicBezTo>
                  <a:pt x="788" y="790"/>
                  <a:pt x="784" y="754"/>
                  <a:pt x="800" y="730"/>
                </a:cubicBezTo>
                <a:cubicBezTo>
                  <a:pt x="810" y="660"/>
                  <a:pt x="800" y="573"/>
                  <a:pt x="864" y="530"/>
                </a:cubicBezTo>
                <a:cubicBezTo>
                  <a:pt x="849" y="408"/>
                  <a:pt x="852" y="472"/>
                  <a:pt x="872" y="274"/>
                </a:cubicBezTo>
                <a:cubicBezTo>
                  <a:pt x="874" y="258"/>
                  <a:pt x="867" y="235"/>
                  <a:pt x="880" y="226"/>
                </a:cubicBezTo>
                <a:cubicBezTo>
                  <a:pt x="907" y="207"/>
                  <a:pt x="944" y="210"/>
                  <a:pt x="976" y="202"/>
                </a:cubicBezTo>
                <a:cubicBezTo>
                  <a:pt x="1051" y="214"/>
                  <a:pt x="1101" y="214"/>
                  <a:pt x="1160" y="258"/>
                </a:cubicBezTo>
                <a:cubicBezTo>
                  <a:pt x="1187" y="255"/>
                  <a:pt x="1215" y="261"/>
                  <a:pt x="1240" y="250"/>
                </a:cubicBezTo>
                <a:cubicBezTo>
                  <a:pt x="1310" y="219"/>
                  <a:pt x="1275" y="157"/>
                  <a:pt x="1328" y="122"/>
                </a:cubicBezTo>
                <a:cubicBezTo>
                  <a:pt x="1346" y="177"/>
                  <a:pt x="1385" y="254"/>
                  <a:pt x="1440" y="282"/>
                </a:cubicBezTo>
                <a:cubicBezTo>
                  <a:pt x="1459" y="292"/>
                  <a:pt x="1483" y="287"/>
                  <a:pt x="1504" y="290"/>
                </a:cubicBezTo>
                <a:cubicBezTo>
                  <a:pt x="1617" y="281"/>
                  <a:pt x="1625" y="262"/>
                  <a:pt x="1736" y="282"/>
                </a:cubicBezTo>
                <a:cubicBezTo>
                  <a:pt x="1747" y="293"/>
                  <a:pt x="1753" y="310"/>
                  <a:pt x="1768" y="314"/>
                </a:cubicBezTo>
                <a:cubicBezTo>
                  <a:pt x="1780" y="317"/>
                  <a:pt x="1789" y="301"/>
                  <a:pt x="1800" y="298"/>
                </a:cubicBezTo>
                <a:cubicBezTo>
                  <a:pt x="1816" y="293"/>
                  <a:pt x="1832" y="293"/>
                  <a:pt x="1848" y="290"/>
                </a:cubicBezTo>
                <a:cubicBezTo>
                  <a:pt x="1904" y="234"/>
                  <a:pt x="1924" y="194"/>
                  <a:pt x="1944" y="114"/>
                </a:cubicBezTo>
                <a:cubicBezTo>
                  <a:pt x="1872" y="42"/>
                  <a:pt x="1850" y="44"/>
                  <a:pt x="1736" y="82"/>
                </a:cubicBezTo>
                <a:cubicBezTo>
                  <a:pt x="1715" y="144"/>
                  <a:pt x="1758" y="129"/>
                  <a:pt x="1800" y="122"/>
                </a:cubicBezTo>
                <a:cubicBezTo>
                  <a:pt x="1808" y="117"/>
                  <a:pt x="1834" y="107"/>
                  <a:pt x="1824" y="106"/>
                </a:cubicBezTo>
                <a:cubicBezTo>
                  <a:pt x="1771" y="103"/>
                  <a:pt x="1717" y="115"/>
                  <a:pt x="1664" y="114"/>
                </a:cubicBezTo>
                <a:cubicBezTo>
                  <a:pt x="1581" y="112"/>
                  <a:pt x="1529" y="102"/>
                  <a:pt x="1456" y="90"/>
                </a:cubicBezTo>
                <a:cubicBezTo>
                  <a:pt x="1365" y="30"/>
                  <a:pt x="1171" y="83"/>
                  <a:pt x="1056" y="90"/>
                </a:cubicBezTo>
                <a:cubicBezTo>
                  <a:pt x="981" y="87"/>
                  <a:pt x="904" y="103"/>
                  <a:pt x="832" y="82"/>
                </a:cubicBezTo>
                <a:cubicBezTo>
                  <a:pt x="811" y="76"/>
                  <a:pt x="826" y="38"/>
                  <a:pt x="816" y="18"/>
                </a:cubicBezTo>
                <a:cubicBezTo>
                  <a:pt x="812" y="9"/>
                  <a:pt x="801" y="6"/>
                  <a:pt x="792" y="2"/>
                </a:cubicBezTo>
                <a:cubicBezTo>
                  <a:pt x="789" y="0"/>
                  <a:pt x="797" y="7"/>
                  <a:pt x="800" y="10"/>
                </a:cubicBezTo>
              </a:path>
            </a:pathLst>
          </a:custGeom>
          <a:noFill/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34480" y="4890960"/>
            <a:ext cx="5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4267080"/>
            <a:ext cx="685800" cy="381240"/>
          </a:xfrm>
          <a:prstGeom prst="ellipse">
            <a:avLst/>
          </a:prstGeom>
          <a:solidFill>
            <a:srgbClr val="99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44680" y="4305240"/>
            <a:ext cx="565200" cy="266760"/>
          </a:xfrm>
          <a:custGeom>
            <a:avLst/>
            <a:gdLst/>
            <a:ahLst/>
            <a:rect l="l" t="t" r="r" b="b"/>
            <a:pathLst>
              <a:path w="356" h="168">
                <a:moveTo>
                  <a:pt x="11" y="160"/>
                </a:moveTo>
                <a:cubicBezTo>
                  <a:pt x="0" y="127"/>
                  <a:pt x="8" y="117"/>
                  <a:pt x="27" y="88"/>
                </a:cubicBezTo>
                <a:cubicBezTo>
                  <a:pt x="35" y="91"/>
                  <a:pt x="46" y="89"/>
                  <a:pt x="51" y="96"/>
                </a:cubicBezTo>
                <a:cubicBezTo>
                  <a:pt x="66" y="117"/>
                  <a:pt x="68" y="146"/>
                  <a:pt x="83" y="168"/>
                </a:cubicBezTo>
                <a:cubicBezTo>
                  <a:pt x="115" y="120"/>
                  <a:pt x="98" y="72"/>
                  <a:pt x="147" y="40"/>
                </a:cubicBezTo>
                <a:cubicBezTo>
                  <a:pt x="177" y="85"/>
                  <a:pt x="167" y="123"/>
                  <a:pt x="211" y="152"/>
                </a:cubicBezTo>
                <a:cubicBezTo>
                  <a:pt x="250" y="94"/>
                  <a:pt x="184" y="45"/>
                  <a:pt x="251" y="0"/>
                </a:cubicBezTo>
                <a:cubicBezTo>
                  <a:pt x="305" y="54"/>
                  <a:pt x="262" y="111"/>
                  <a:pt x="323" y="152"/>
                </a:cubicBezTo>
                <a:cubicBezTo>
                  <a:pt x="356" y="103"/>
                  <a:pt x="339" y="112"/>
                  <a:pt x="339" y="56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080" y="396252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tochond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3200400"/>
            <a:ext cx="152640" cy="15228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29400" y="3352680"/>
            <a:ext cx="152280" cy="15264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0" y="3657600"/>
            <a:ext cx="76320" cy="7632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10280" y="3886200"/>
            <a:ext cx="76320" cy="7632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4114800"/>
            <a:ext cx="152280" cy="15228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3429000"/>
            <a:ext cx="152280" cy="15228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37600" y="2681280"/>
            <a:ext cx="104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sic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Diffusi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69" name="brownianmotion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3943080" cy="3943440"/>
          </a:xfrm>
          <a:prstGeom prst="rect">
            <a:avLst/>
          </a:prstGeom>
          <a:ln w="0">
            <a:noFill/>
          </a:ln>
        </p:spPr>
      </p:pic>
      <p:pic>
        <p:nvPicPr>
          <p:cNvPr id="70" name="diffusion" descr=""/>
          <p:cNvPicPr/>
          <p:nvPr/>
        </p:nvPicPr>
        <p:blipFill>
          <a:blip r:embed="rId2"/>
          <a:stretch/>
        </p:blipFill>
        <p:spPr>
          <a:xfrm>
            <a:off x="4800600" y="1600200"/>
            <a:ext cx="3886200" cy="3943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579040" y="5715000"/>
            <a:ext cx="502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ypically 1 micron/0.5msec for small molecu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r 100 microns / 5 se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onconctable" descr=""/>
          <p:cNvPicPr/>
          <p:nvPr/>
        </p:nvPicPr>
        <p:blipFill>
          <a:blip r:embed="rId1"/>
          <a:stretch/>
        </p:blipFill>
        <p:spPr>
          <a:xfrm>
            <a:off x="1523880" y="685800"/>
            <a:ext cx="6104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Ion flow and balance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rnst Equ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 = (RT/zF) ln (Co/C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 = Vin – V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 = Gas const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Temperature in 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 = Faraday’s const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 = ionic val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, Ci: outside and inside 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3581280"/>
            <a:ext cx="4267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28480" y="161460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6240" y="48769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38680" y="3048120"/>
            <a:ext cx="228600" cy="228600"/>
          </a:xfrm>
          <a:prstGeom prst="plus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43600" y="2971800"/>
            <a:ext cx="228600" cy="228600"/>
          </a:xfrm>
          <a:prstGeom prst="plus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10080" y="3276720"/>
            <a:ext cx="228600" cy="228600"/>
          </a:xfrm>
          <a:prstGeom prst="plus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72200" y="3276720"/>
            <a:ext cx="228600" cy="228600"/>
          </a:xfrm>
          <a:prstGeom prst="plus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05720" y="3276720"/>
            <a:ext cx="228600" cy="228600"/>
          </a:xfrm>
          <a:prstGeom prst="plus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53080" y="2895480"/>
            <a:ext cx="228600" cy="228600"/>
          </a:xfrm>
          <a:prstGeom prst="plus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86600" y="3276720"/>
            <a:ext cx="228600" cy="228600"/>
          </a:xfrm>
          <a:prstGeom prst="plus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62920" y="2895480"/>
            <a:ext cx="228600" cy="228600"/>
          </a:xfrm>
          <a:prstGeom prst="plus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3124080"/>
            <a:ext cx="228600" cy="228600"/>
          </a:xfrm>
          <a:prstGeom prst="plus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001000" y="3276720"/>
            <a:ext cx="228600" cy="228600"/>
          </a:xfrm>
          <a:prstGeom prst="plus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05520" y="3124080"/>
            <a:ext cx="228600" cy="228600"/>
          </a:xfrm>
          <a:prstGeom prst="plus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91320" y="3276720"/>
            <a:ext cx="228600" cy="228600"/>
          </a:xfrm>
          <a:prstGeom prst="plus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2819520"/>
            <a:ext cx="228600" cy="228600"/>
          </a:xfrm>
          <a:prstGeom prst="plus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3048120"/>
            <a:ext cx="228600" cy="228600"/>
          </a:xfrm>
          <a:prstGeom prst="plus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1320" y="3733920"/>
            <a:ext cx="228600" cy="228600"/>
          </a:xfrm>
          <a:prstGeom prst="plus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962520"/>
            <a:ext cx="228600" cy="228600"/>
          </a:xfrm>
          <a:prstGeom prst="plus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81480" y="4038480"/>
            <a:ext cx="228600" cy="228600"/>
          </a:xfrm>
          <a:prstGeom prst="plus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15200" y="3733920"/>
            <a:ext cx="228600" cy="228600"/>
          </a:xfrm>
          <a:prstGeom prst="plus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61800" y="327672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mbra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52000" y="26812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Ion pump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3114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nd energy to move ion across membrane against grad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either from other ion gradients, or from AT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3pumps" descr=""/>
          <p:cNvPicPr/>
          <p:nvPr/>
        </p:nvPicPr>
        <p:blipFill>
          <a:blip r:embed="rId1"/>
          <a:stretch/>
        </p:blipFill>
        <p:spPr>
          <a:xfrm>
            <a:off x="3897360" y="2133720"/>
            <a:ext cx="524664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Ion pumps: Na/K ATPase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102" name="Na_K_ATPase" descr=""/>
          <p:cNvPicPr/>
          <p:nvPr/>
        </p:nvPicPr>
        <p:blipFill>
          <a:blip r:embed="rId1"/>
          <a:stretch/>
        </p:blipFill>
        <p:spPr>
          <a:xfrm>
            <a:off x="152280" y="3200400"/>
            <a:ext cx="5908680" cy="3132000"/>
          </a:xfrm>
          <a:prstGeom prst="rect">
            <a:avLst/>
          </a:prstGeom>
          <a:ln w="0">
            <a:noFill/>
          </a:ln>
        </p:spPr>
      </p:pic>
      <p:pic>
        <p:nvPicPr>
          <p:cNvPr id="103" name="3pump_str" descr=""/>
          <p:cNvPicPr/>
          <p:nvPr/>
        </p:nvPicPr>
        <p:blipFill>
          <a:blip r:embed="rId2"/>
          <a:stretch/>
        </p:blipFill>
        <p:spPr>
          <a:xfrm>
            <a:off x="6172200" y="2133720"/>
            <a:ext cx="2422440" cy="4240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65040" y="1819440"/>
            <a:ext cx="41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autiful molecular moto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4T22:48:10Z</dcterms:created>
  <dc:creator>Upinder S. Bhalla and Gayatri Saberwal</dc:creator>
  <dc:description/>
  <dc:language>en-US</dc:language>
  <cp:lastModifiedBy>Upinder S. Bhalla</cp:lastModifiedBy>
  <cp:lastPrinted>1999-01-26T15:04:22Z</cp:lastPrinted>
  <dcterms:modified xsi:type="dcterms:W3CDTF">2002-09-03T17:59:45Z</dcterms:modified>
  <cp:revision>26370</cp:revision>
  <dc:subject/>
  <dc:title>Interfacing the brain</dc:title>
</cp:coreProperties>
</file>