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BD0-74A7-4AFC-B86B-79B69731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745-8C31-4DD1-BBAF-72FE1E12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032-A501-410B-850D-0166FC7A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011-2805-4187-8614-6200B902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959-72F3-4997-8C2F-18921AB8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266-680F-42ED-A6FF-433EC597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603-89C6-4A65-BA85-37DECEA4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92C-2840-4259-95DE-636C3427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4BF-1FC9-47DF-B618-CB49A836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598-6F4C-40EC-A623-09D54860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9E5-72FD-48B3-B1A2-98D83B1A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825-6DC9-4EFC-B38C-7BE371D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9414-00F4-4058-9CB9-BAEF425F5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2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Review of cellular signalling 1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s et al (Molecular Biology of the C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lle (Ionic Channels of Excitable membranes, chapters on signall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carta (on the 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hn's map (Mol Biol of Cell 10:2703-2734, 1999), PDF file on 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2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um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 flow and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nd-gated chan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tage and voltage-gated chan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proteins and GPC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y trans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artmentalis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666880"/>
            <a:ext cx="5105520" cy="3429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3360" y="207180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side = extracellular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2680" y="2514600"/>
            <a:ext cx="1284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embr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29040" y="3367080"/>
            <a:ext cx="18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ide = cytos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886200"/>
            <a:ext cx="1447920" cy="18288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81360" y="3095640"/>
            <a:ext cx="4217760" cy="2911320"/>
          </a:xfrm>
          <a:custGeom>
            <a:avLst/>
            <a:gdLst/>
            <a:ahLst/>
            <a:rect l="l" t="t" r="r" b="b"/>
            <a:pathLst>
              <a:path w="2657" h="1834">
                <a:moveTo>
                  <a:pt x="2008" y="842"/>
                </a:moveTo>
                <a:cubicBezTo>
                  <a:pt x="1937" y="771"/>
                  <a:pt x="1932" y="641"/>
                  <a:pt x="1920" y="546"/>
                </a:cubicBezTo>
                <a:cubicBezTo>
                  <a:pt x="1932" y="297"/>
                  <a:pt x="1914" y="369"/>
                  <a:pt x="2208" y="378"/>
                </a:cubicBezTo>
                <a:cubicBezTo>
                  <a:pt x="2291" y="461"/>
                  <a:pt x="2263" y="486"/>
                  <a:pt x="2272" y="618"/>
                </a:cubicBezTo>
                <a:cubicBezTo>
                  <a:pt x="2277" y="685"/>
                  <a:pt x="2266" y="715"/>
                  <a:pt x="2328" y="730"/>
                </a:cubicBezTo>
                <a:cubicBezTo>
                  <a:pt x="2354" y="670"/>
                  <a:pt x="2373" y="611"/>
                  <a:pt x="2384" y="546"/>
                </a:cubicBezTo>
                <a:cubicBezTo>
                  <a:pt x="2378" y="521"/>
                  <a:pt x="2355" y="486"/>
                  <a:pt x="2384" y="466"/>
                </a:cubicBezTo>
                <a:cubicBezTo>
                  <a:pt x="2393" y="460"/>
                  <a:pt x="2405" y="461"/>
                  <a:pt x="2416" y="458"/>
                </a:cubicBezTo>
                <a:cubicBezTo>
                  <a:pt x="2448" y="469"/>
                  <a:pt x="2461" y="482"/>
                  <a:pt x="2472" y="514"/>
                </a:cubicBezTo>
                <a:cubicBezTo>
                  <a:pt x="2465" y="569"/>
                  <a:pt x="2452" y="620"/>
                  <a:pt x="2440" y="674"/>
                </a:cubicBezTo>
                <a:cubicBezTo>
                  <a:pt x="2435" y="696"/>
                  <a:pt x="2424" y="738"/>
                  <a:pt x="2424" y="738"/>
                </a:cubicBezTo>
                <a:cubicBezTo>
                  <a:pt x="2427" y="762"/>
                  <a:pt x="2423" y="788"/>
                  <a:pt x="2432" y="810"/>
                </a:cubicBezTo>
                <a:cubicBezTo>
                  <a:pt x="2435" y="818"/>
                  <a:pt x="2448" y="818"/>
                  <a:pt x="2456" y="818"/>
                </a:cubicBezTo>
                <a:cubicBezTo>
                  <a:pt x="2490" y="818"/>
                  <a:pt x="2557" y="798"/>
                  <a:pt x="2592" y="794"/>
                </a:cubicBezTo>
                <a:cubicBezTo>
                  <a:pt x="2626" y="845"/>
                  <a:pt x="2594" y="884"/>
                  <a:pt x="2640" y="930"/>
                </a:cubicBezTo>
                <a:cubicBezTo>
                  <a:pt x="2657" y="999"/>
                  <a:pt x="2657" y="1060"/>
                  <a:pt x="2640" y="1130"/>
                </a:cubicBezTo>
                <a:cubicBezTo>
                  <a:pt x="2636" y="1146"/>
                  <a:pt x="2639" y="1170"/>
                  <a:pt x="2624" y="1178"/>
                </a:cubicBezTo>
                <a:cubicBezTo>
                  <a:pt x="2601" y="1192"/>
                  <a:pt x="2571" y="1183"/>
                  <a:pt x="2544" y="1186"/>
                </a:cubicBezTo>
                <a:cubicBezTo>
                  <a:pt x="2465" y="1179"/>
                  <a:pt x="2397" y="1169"/>
                  <a:pt x="2320" y="1154"/>
                </a:cubicBezTo>
                <a:cubicBezTo>
                  <a:pt x="2276" y="1110"/>
                  <a:pt x="2277" y="1113"/>
                  <a:pt x="2208" y="1122"/>
                </a:cubicBezTo>
                <a:cubicBezTo>
                  <a:pt x="2203" y="1133"/>
                  <a:pt x="2193" y="1142"/>
                  <a:pt x="2192" y="1154"/>
                </a:cubicBezTo>
                <a:cubicBezTo>
                  <a:pt x="2185" y="1258"/>
                  <a:pt x="2212" y="1366"/>
                  <a:pt x="2184" y="1466"/>
                </a:cubicBezTo>
                <a:cubicBezTo>
                  <a:pt x="2177" y="1492"/>
                  <a:pt x="2131" y="1471"/>
                  <a:pt x="2104" y="1474"/>
                </a:cubicBezTo>
                <a:cubicBezTo>
                  <a:pt x="2063" y="1447"/>
                  <a:pt x="2060" y="1438"/>
                  <a:pt x="2024" y="1474"/>
                </a:cubicBezTo>
                <a:cubicBezTo>
                  <a:pt x="2011" y="1550"/>
                  <a:pt x="1982" y="1600"/>
                  <a:pt x="1904" y="1626"/>
                </a:cubicBezTo>
                <a:cubicBezTo>
                  <a:pt x="1892" y="1625"/>
                  <a:pt x="1784" y="1607"/>
                  <a:pt x="1768" y="1626"/>
                </a:cubicBezTo>
                <a:cubicBezTo>
                  <a:pt x="1751" y="1647"/>
                  <a:pt x="1769" y="1681"/>
                  <a:pt x="1760" y="1706"/>
                </a:cubicBezTo>
                <a:cubicBezTo>
                  <a:pt x="1757" y="1714"/>
                  <a:pt x="1744" y="1712"/>
                  <a:pt x="1736" y="1714"/>
                </a:cubicBezTo>
                <a:cubicBezTo>
                  <a:pt x="1686" y="1725"/>
                  <a:pt x="1635" y="1732"/>
                  <a:pt x="1584" y="1738"/>
                </a:cubicBezTo>
                <a:cubicBezTo>
                  <a:pt x="1532" y="1755"/>
                  <a:pt x="1492" y="1802"/>
                  <a:pt x="1440" y="1818"/>
                </a:cubicBezTo>
                <a:cubicBezTo>
                  <a:pt x="1389" y="1834"/>
                  <a:pt x="1333" y="1829"/>
                  <a:pt x="1280" y="1834"/>
                </a:cubicBezTo>
                <a:cubicBezTo>
                  <a:pt x="1235" y="1818"/>
                  <a:pt x="1184" y="1812"/>
                  <a:pt x="1144" y="1786"/>
                </a:cubicBezTo>
                <a:cubicBezTo>
                  <a:pt x="1115" y="1768"/>
                  <a:pt x="1104" y="1730"/>
                  <a:pt x="1080" y="1706"/>
                </a:cubicBezTo>
                <a:cubicBezTo>
                  <a:pt x="1061" y="1687"/>
                  <a:pt x="1037" y="1674"/>
                  <a:pt x="1016" y="1658"/>
                </a:cubicBezTo>
                <a:cubicBezTo>
                  <a:pt x="988" y="1573"/>
                  <a:pt x="983" y="1483"/>
                  <a:pt x="968" y="1394"/>
                </a:cubicBezTo>
                <a:cubicBezTo>
                  <a:pt x="904" y="1397"/>
                  <a:pt x="838" y="1386"/>
                  <a:pt x="776" y="1402"/>
                </a:cubicBezTo>
                <a:cubicBezTo>
                  <a:pt x="739" y="1411"/>
                  <a:pt x="714" y="1449"/>
                  <a:pt x="680" y="1466"/>
                </a:cubicBezTo>
                <a:cubicBezTo>
                  <a:pt x="660" y="1476"/>
                  <a:pt x="637" y="1477"/>
                  <a:pt x="616" y="1482"/>
                </a:cubicBezTo>
                <a:cubicBezTo>
                  <a:pt x="608" y="1487"/>
                  <a:pt x="596" y="1507"/>
                  <a:pt x="592" y="1498"/>
                </a:cubicBezTo>
                <a:cubicBezTo>
                  <a:pt x="575" y="1464"/>
                  <a:pt x="578" y="1423"/>
                  <a:pt x="568" y="1386"/>
                </a:cubicBezTo>
                <a:cubicBezTo>
                  <a:pt x="554" y="1332"/>
                  <a:pt x="536" y="1279"/>
                  <a:pt x="520" y="1226"/>
                </a:cubicBezTo>
                <a:cubicBezTo>
                  <a:pt x="508" y="1090"/>
                  <a:pt x="521" y="1002"/>
                  <a:pt x="424" y="890"/>
                </a:cubicBezTo>
                <a:cubicBezTo>
                  <a:pt x="406" y="869"/>
                  <a:pt x="371" y="874"/>
                  <a:pt x="344" y="866"/>
                </a:cubicBezTo>
                <a:cubicBezTo>
                  <a:pt x="225" y="906"/>
                  <a:pt x="149" y="1013"/>
                  <a:pt x="72" y="1106"/>
                </a:cubicBezTo>
                <a:cubicBezTo>
                  <a:pt x="65" y="1134"/>
                  <a:pt x="35" y="1215"/>
                  <a:pt x="72" y="1242"/>
                </a:cubicBezTo>
                <a:cubicBezTo>
                  <a:pt x="98" y="1261"/>
                  <a:pt x="136" y="1247"/>
                  <a:pt x="168" y="1250"/>
                </a:cubicBezTo>
                <a:cubicBezTo>
                  <a:pt x="211" y="1245"/>
                  <a:pt x="257" y="1251"/>
                  <a:pt x="296" y="1234"/>
                </a:cubicBezTo>
                <a:cubicBezTo>
                  <a:pt x="311" y="1227"/>
                  <a:pt x="308" y="1202"/>
                  <a:pt x="312" y="1186"/>
                </a:cubicBezTo>
                <a:cubicBezTo>
                  <a:pt x="321" y="1146"/>
                  <a:pt x="339" y="1014"/>
                  <a:pt x="344" y="978"/>
                </a:cubicBezTo>
                <a:cubicBezTo>
                  <a:pt x="236" y="960"/>
                  <a:pt x="240" y="972"/>
                  <a:pt x="184" y="1066"/>
                </a:cubicBezTo>
                <a:cubicBezTo>
                  <a:pt x="161" y="1226"/>
                  <a:pt x="174" y="1141"/>
                  <a:pt x="144" y="1322"/>
                </a:cubicBezTo>
                <a:cubicBezTo>
                  <a:pt x="141" y="1338"/>
                  <a:pt x="136" y="1370"/>
                  <a:pt x="136" y="1370"/>
                </a:cubicBezTo>
                <a:cubicBezTo>
                  <a:pt x="112" y="1365"/>
                  <a:pt x="84" y="1368"/>
                  <a:pt x="64" y="1354"/>
                </a:cubicBezTo>
                <a:cubicBezTo>
                  <a:pt x="0" y="1310"/>
                  <a:pt x="33" y="1128"/>
                  <a:pt x="40" y="1074"/>
                </a:cubicBezTo>
                <a:cubicBezTo>
                  <a:pt x="41" y="1064"/>
                  <a:pt x="55" y="1062"/>
                  <a:pt x="64" y="1058"/>
                </a:cubicBezTo>
                <a:cubicBezTo>
                  <a:pt x="95" y="1045"/>
                  <a:pt x="160" y="1026"/>
                  <a:pt x="160" y="1026"/>
                </a:cubicBezTo>
                <a:cubicBezTo>
                  <a:pt x="168" y="1005"/>
                  <a:pt x="183" y="985"/>
                  <a:pt x="184" y="962"/>
                </a:cubicBezTo>
                <a:cubicBezTo>
                  <a:pt x="189" y="849"/>
                  <a:pt x="249" y="647"/>
                  <a:pt x="104" y="618"/>
                </a:cubicBezTo>
                <a:cubicBezTo>
                  <a:pt x="73" y="612"/>
                  <a:pt x="40" y="613"/>
                  <a:pt x="8" y="610"/>
                </a:cubicBezTo>
                <a:cubicBezTo>
                  <a:pt x="20" y="539"/>
                  <a:pt x="21" y="434"/>
                  <a:pt x="88" y="386"/>
                </a:cubicBezTo>
                <a:cubicBezTo>
                  <a:pt x="106" y="373"/>
                  <a:pt x="131" y="375"/>
                  <a:pt x="152" y="370"/>
                </a:cubicBezTo>
                <a:cubicBezTo>
                  <a:pt x="181" y="373"/>
                  <a:pt x="222" y="355"/>
                  <a:pt x="240" y="378"/>
                </a:cubicBezTo>
                <a:cubicBezTo>
                  <a:pt x="266" y="412"/>
                  <a:pt x="239" y="466"/>
                  <a:pt x="256" y="506"/>
                </a:cubicBezTo>
                <a:cubicBezTo>
                  <a:pt x="272" y="543"/>
                  <a:pt x="288" y="581"/>
                  <a:pt x="304" y="618"/>
                </a:cubicBezTo>
                <a:cubicBezTo>
                  <a:pt x="307" y="639"/>
                  <a:pt x="304" y="662"/>
                  <a:pt x="312" y="682"/>
                </a:cubicBezTo>
                <a:cubicBezTo>
                  <a:pt x="325" y="715"/>
                  <a:pt x="381" y="703"/>
                  <a:pt x="416" y="706"/>
                </a:cubicBezTo>
                <a:cubicBezTo>
                  <a:pt x="508" y="714"/>
                  <a:pt x="650" y="724"/>
                  <a:pt x="728" y="730"/>
                </a:cubicBezTo>
                <a:cubicBezTo>
                  <a:pt x="733" y="751"/>
                  <a:pt x="734" y="774"/>
                  <a:pt x="744" y="794"/>
                </a:cubicBezTo>
                <a:cubicBezTo>
                  <a:pt x="748" y="803"/>
                  <a:pt x="761" y="817"/>
                  <a:pt x="768" y="810"/>
                </a:cubicBezTo>
                <a:cubicBezTo>
                  <a:pt x="788" y="790"/>
                  <a:pt x="784" y="754"/>
                  <a:pt x="800" y="730"/>
                </a:cubicBezTo>
                <a:cubicBezTo>
                  <a:pt x="810" y="660"/>
                  <a:pt x="800" y="573"/>
                  <a:pt x="864" y="530"/>
                </a:cubicBezTo>
                <a:cubicBezTo>
                  <a:pt x="849" y="408"/>
                  <a:pt x="852" y="472"/>
                  <a:pt x="872" y="274"/>
                </a:cubicBezTo>
                <a:cubicBezTo>
                  <a:pt x="874" y="258"/>
                  <a:pt x="867" y="235"/>
                  <a:pt x="880" y="226"/>
                </a:cubicBezTo>
                <a:cubicBezTo>
                  <a:pt x="907" y="207"/>
                  <a:pt x="944" y="210"/>
                  <a:pt x="976" y="202"/>
                </a:cubicBezTo>
                <a:cubicBezTo>
                  <a:pt x="1051" y="214"/>
                  <a:pt x="1101" y="214"/>
                  <a:pt x="1160" y="258"/>
                </a:cubicBezTo>
                <a:cubicBezTo>
                  <a:pt x="1187" y="255"/>
                  <a:pt x="1215" y="261"/>
                  <a:pt x="1240" y="250"/>
                </a:cubicBezTo>
                <a:cubicBezTo>
                  <a:pt x="1310" y="219"/>
                  <a:pt x="1275" y="157"/>
                  <a:pt x="1328" y="122"/>
                </a:cubicBezTo>
                <a:cubicBezTo>
                  <a:pt x="1346" y="177"/>
                  <a:pt x="1385" y="254"/>
                  <a:pt x="1440" y="282"/>
                </a:cubicBezTo>
                <a:cubicBezTo>
                  <a:pt x="1459" y="292"/>
                  <a:pt x="1483" y="287"/>
                  <a:pt x="1504" y="290"/>
                </a:cubicBezTo>
                <a:cubicBezTo>
                  <a:pt x="1617" y="281"/>
                  <a:pt x="1625" y="262"/>
                  <a:pt x="1736" y="282"/>
                </a:cubicBezTo>
                <a:cubicBezTo>
                  <a:pt x="1747" y="293"/>
                  <a:pt x="1753" y="310"/>
                  <a:pt x="1768" y="314"/>
                </a:cubicBezTo>
                <a:cubicBezTo>
                  <a:pt x="1780" y="317"/>
                  <a:pt x="1789" y="301"/>
                  <a:pt x="1800" y="298"/>
                </a:cubicBezTo>
                <a:cubicBezTo>
                  <a:pt x="1816" y="293"/>
                  <a:pt x="1832" y="293"/>
                  <a:pt x="1848" y="290"/>
                </a:cubicBezTo>
                <a:cubicBezTo>
                  <a:pt x="1904" y="234"/>
                  <a:pt x="1924" y="194"/>
                  <a:pt x="1944" y="114"/>
                </a:cubicBezTo>
                <a:cubicBezTo>
                  <a:pt x="1872" y="42"/>
                  <a:pt x="1850" y="44"/>
                  <a:pt x="1736" y="82"/>
                </a:cubicBezTo>
                <a:cubicBezTo>
                  <a:pt x="1715" y="144"/>
                  <a:pt x="1758" y="129"/>
                  <a:pt x="1800" y="122"/>
                </a:cubicBezTo>
                <a:cubicBezTo>
                  <a:pt x="1808" y="117"/>
                  <a:pt x="1834" y="107"/>
                  <a:pt x="1824" y="106"/>
                </a:cubicBezTo>
                <a:cubicBezTo>
                  <a:pt x="1771" y="103"/>
                  <a:pt x="1717" y="115"/>
                  <a:pt x="1664" y="114"/>
                </a:cubicBezTo>
                <a:cubicBezTo>
                  <a:pt x="1581" y="112"/>
                  <a:pt x="1529" y="102"/>
                  <a:pt x="1456" y="90"/>
                </a:cubicBezTo>
                <a:cubicBezTo>
                  <a:pt x="1365" y="30"/>
                  <a:pt x="1171" y="83"/>
                  <a:pt x="1056" y="90"/>
                </a:cubicBezTo>
                <a:cubicBezTo>
                  <a:pt x="981" y="87"/>
                  <a:pt x="904" y="103"/>
                  <a:pt x="832" y="82"/>
                </a:cubicBezTo>
                <a:cubicBezTo>
                  <a:pt x="811" y="76"/>
                  <a:pt x="826" y="38"/>
                  <a:pt x="816" y="18"/>
                </a:cubicBezTo>
                <a:cubicBezTo>
                  <a:pt x="812" y="9"/>
                  <a:pt x="801" y="6"/>
                  <a:pt x="792" y="2"/>
                </a:cubicBezTo>
                <a:cubicBezTo>
                  <a:pt x="789" y="0"/>
                  <a:pt x="797" y="7"/>
                  <a:pt x="800" y="10"/>
                </a:cubicBezTo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34480" y="489096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267080"/>
            <a:ext cx="685800" cy="381240"/>
          </a:xfrm>
          <a:prstGeom prst="ellipse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44680" y="4305240"/>
            <a:ext cx="565200" cy="266760"/>
          </a:xfrm>
          <a:custGeom>
            <a:avLst/>
            <a:gdLst/>
            <a:ahLst/>
            <a:rect l="l" t="t" r="r" b="b"/>
            <a:pathLst>
              <a:path w="356" h="168">
                <a:moveTo>
                  <a:pt x="11" y="160"/>
                </a:moveTo>
                <a:cubicBezTo>
                  <a:pt x="0" y="127"/>
                  <a:pt x="8" y="117"/>
                  <a:pt x="27" y="88"/>
                </a:cubicBezTo>
                <a:cubicBezTo>
                  <a:pt x="35" y="91"/>
                  <a:pt x="46" y="89"/>
                  <a:pt x="51" y="96"/>
                </a:cubicBezTo>
                <a:cubicBezTo>
                  <a:pt x="66" y="117"/>
                  <a:pt x="68" y="146"/>
                  <a:pt x="83" y="168"/>
                </a:cubicBezTo>
                <a:cubicBezTo>
                  <a:pt x="115" y="120"/>
                  <a:pt x="98" y="72"/>
                  <a:pt x="147" y="40"/>
                </a:cubicBezTo>
                <a:cubicBezTo>
                  <a:pt x="177" y="85"/>
                  <a:pt x="167" y="123"/>
                  <a:pt x="211" y="152"/>
                </a:cubicBezTo>
                <a:cubicBezTo>
                  <a:pt x="250" y="94"/>
                  <a:pt x="184" y="45"/>
                  <a:pt x="251" y="0"/>
                </a:cubicBezTo>
                <a:cubicBezTo>
                  <a:pt x="305" y="54"/>
                  <a:pt x="262" y="111"/>
                  <a:pt x="323" y="152"/>
                </a:cubicBezTo>
                <a:cubicBezTo>
                  <a:pt x="356" y="103"/>
                  <a:pt x="339" y="112"/>
                  <a:pt x="339" y="5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080" y="39625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200400"/>
            <a:ext cx="15264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352680"/>
            <a:ext cx="152280" cy="152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3657600"/>
            <a:ext cx="76320" cy="7632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886200"/>
            <a:ext cx="76320" cy="7632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114800"/>
            <a:ext cx="15228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37600" y="268128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si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onconctable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10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iffus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70" name="brownianmotion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943080" cy="3943440"/>
          </a:xfrm>
          <a:prstGeom prst="rect">
            <a:avLst/>
          </a:prstGeom>
          <a:ln w="0">
            <a:noFill/>
          </a:ln>
        </p:spPr>
      </p:pic>
      <p:pic>
        <p:nvPicPr>
          <p:cNvPr id="71" name="diffusion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88620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79040" y="5715000"/>
            <a:ext cx="502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ypically 1 micron/0.5msec for small mole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100 microns / 5 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on flow and balanc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ummary of Lecture 2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lling as information flow and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og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lling block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0760" y="17524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n in/Fan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v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cillators/ti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al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5640" y="5653080"/>
            <a:ext cx="787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gnalling networks are complex, but analogies help to think about th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rning: These concepts are useful analogies, but all analogies are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3T13:38:19Z</dcterms:modified>
  <cp:revision>26367</cp:revision>
  <dc:subject/>
  <dc:title>Interfacing the brain</dc:title>
</cp:coreProperties>
</file>