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762B-A2F8-4F85-AF6E-268A25033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E9E1-2F9E-4029-ACD5-9B92298D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27BA-0245-4D0C-B7F7-DEDD7894B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32D7-2E65-4F00-96D8-DDC6EEB57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B9EF-DF0A-4861-B37F-E629374B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E82B-9FF0-434F-893F-AF94FB6D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B00E-9459-4380-A25C-CD312F98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734C-A888-4E9D-BB04-8B89958C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DA79-1B10-402C-B539-A4A53B38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423F-2BDC-46F7-83D7-94BAF2B3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D3A7-78F5-4FE2-AFC1-A07ACABF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C793-5E76-4394-89D4-C76D73EF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19FB-17B0-43BC-890B-8A4282F8E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14600" y="3505320"/>
            <a:ext cx="228600" cy="2057400"/>
          </a:xfrm>
          <a:prstGeom prst="can">
            <a:avLst>
              <a:gd name="adj" fmla="val 7717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4495680"/>
            <a:ext cx="1371600" cy="1371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05720" y="4724280"/>
            <a:ext cx="152280" cy="4572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10280" y="4724280"/>
            <a:ext cx="152640" cy="4572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77120" y="5181480"/>
            <a:ext cx="914400" cy="457200"/>
          </a:xfrm>
          <a:custGeom>
            <a:avLst/>
            <a:gdLst/>
            <a:ahLst/>
            <a:rect l="l" t="t" r="r" b="b"/>
            <a:pathLst>
              <a:path w="768" h="240">
                <a:moveTo>
                  <a:pt x="0" y="0"/>
                </a:moveTo>
                <a:lnTo>
                  <a:pt x="144" y="192"/>
                </a:lnTo>
                <a:lnTo>
                  <a:pt x="336" y="240"/>
                </a:lnTo>
                <a:lnTo>
                  <a:pt x="432" y="240"/>
                </a:lnTo>
                <a:lnTo>
                  <a:pt x="624" y="192"/>
                </a:lnTo>
                <a:lnTo>
                  <a:pt x="768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38440" y="25290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C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743200" y="3505320"/>
            <a:ext cx="22096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4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NCB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"/>
          <p:cNvSpPr/>
          <p:nvPr/>
        </p:nvSpPr>
        <p:spPr>
          <a:xfrm>
            <a:off x="4876920" y="3505320"/>
            <a:ext cx="228600" cy="2057400"/>
          </a:xfrm>
          <a:prstGeom prst="can">
            <a:avLst>
              <a:gd name="adj" fmla="val 7717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743200" y="4419720"/>
            <a:ext cx="20574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TIF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5:27:34Z</dcterms:created>
  <dc:creator>Upinder S. Bhalla</dc:creator>
  <dc:description/>
  <dc:language>en-US</dc:language>
  <cp:lastModifiedBy>Upinder S. Bhalla</cp:lastModifiedBy>
  <dcterms:modified xsi:type="dcterms:W3CDTF">2002-09-05T05:27:44Z</dcterms:modified>
  <cp:revision>1</cp:revision>
  <dc:subject/>
  <dc:title>PowerPoint Presentation</dc:title>
</cp:coreProperties>
</file>