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8AA-3D6B-4B86-95A1-EE26712F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B8A-D944-420F-9C9B-1FEBA6F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2B0-9B43-4252-B62E-15AE5FA0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257-BA7A-40B5-8E6B-5F317284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A23-ED4C-43D5-BA2C-5AD5DD6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293-AE55-4960-9D5A-7AFDB192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3CF-6AB9-427C-925D-840839D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117-4500-4F5D-BBA9-236CC5F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32E-7210-4242-819E-20B679D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062-C361-4D12-84C5-E568EAE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812-E60A-44E3-900C-078ACA4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B8D-FC0D-409A-983A-87D5A79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06A-6B9F-449D-B51D-018204646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yclases and PD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P-&gt; cAMP (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TP-&gt; cGMP (G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Es 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-&gt; 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GMP-&gt; G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work on both cAMP and cG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denylyl cyclase (AC)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known as adenylate cy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so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re stimulated by G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re membrane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inhibited by 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by PKC, Ca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cAMP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479680" cy="4789440"/>
          </a:xfrm>
          <a:prstGeom prst="rect">
            <a:avLst/>
          </a:prstGeom>
          <a:ln w="0">
            <a:noFill/>
          </a:ln>
        </p:spPr>
      </p:pic>
      <p:pic>
        <p:nvPicPr>
          <p:cNvPr id="100" name="AC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46069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uanylyl Cycl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GC: Soluble G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ed by NO and 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membrane b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GC: Receptor G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 as receptor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have a kinase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ptors for ANP, Atrial Natriuretic peptide involved in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diester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7 related PDE gene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1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 activ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 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GMP acts as competitive inhib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 phosphory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E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GMP inhibits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 phosphory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DE_families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50292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lip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00600" y="1828440"/>
            <a:ext cx="3411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2, Phospholipase A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achidonylphosphocholine -&gt; Arachido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can diffuse through cytoplasm and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P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 phosphory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190512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phospholipids into signalling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 is in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 activity is limited by local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hospholipase 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P2-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G + IP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 by Ca, Gq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as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 by Ca, phosphorylation by RT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P2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7722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mall G protei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GTPas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by GAPs and G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s relays signals from RTK to Raf-&gt;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ge fan-in: 4 kinases, CaM, 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RTK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 of GAPs and GEFs confer fan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ras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3322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ab and Rho/Ra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: Controls Vesicle traffi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/Rac: Control assembly of actin cytoskeleton, mo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rab" descr=""/>
          <p:cNvPicPr/>
          <p:nvPr/>
        </p:nvPicPr>
        <p:blipFill>
          <a:blip r:embed="rId1"/>
          <a:srcRect l="0" t="0" r="0" b="34675"/>
          <a:stretch/>
        </p:blipFill>
        <p:spPr>
          <a:xfrm>
            <a:off x="4105440" y="1676520"/>
            <a:ext cx="5038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ynaptic signalling exampl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ross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+ve and -ve feedbac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functional de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ustration of many concepts from Lecture 1, and many pathways from lectures 2 and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16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Synaptic signalling example</a:t>
            </a:r>
            <a:endParaRPr b="0" lang="en-US" sz="40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4240" y="1066680"/>
            <a:ext cx="8169840" cy="5789160"/>
            <a:chOff x="534240" y="1066680"/>
            <a:chExt cx="8169840" cy="5789160"/>
          </a:xfrm>
        </p:grpSpPr>
        <p:sp>
          <p:nvSpPr>
            <p:cNvPr id="125" name=""/>
            <p:cNvSpPr/>
            <p:nvPr/>
          </p:nvSpPr>
          <p:spPr>
            <a:xfrm>
              <a:off x="1867680" y="2319480"/>
              <a:ext cx="8128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00360" y="23194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440000">
              <a:off x="2662560" y="5756400"/>
              <a:ext cx="257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789640" y="5709960"/>
              <a:ext cx="97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845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6920" y="3692520"/>
              <a:ext cx="34128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782880" y="4697280"/>
              <a:ext cx="835560" cy="305640"/>
              <a:chOff x="3782880" y="4697280"/>
              <a:chExt cx="835560" cy="305640"/>
            </a:xfrm>
          </p:grpSpPr>
          <p:sp>
            <p:nvSpPr>
              <p:cNvPr id="132" name=""/>
              <p:cNvSpPr/>
              <p:nvPr/>
            </p:nvSpPr>
            <p:spPr>
              <a:xfrm>
                <a:off x="3782880" y="470376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04280" y="4697280"/>
                <a:ext cx="432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34880" y="4697280"/>
              <a:ext cx="838080" cy="305640"/>
              <a:chOff x="4934880" y="4697280"/>
              <a:chExt cx="838080" cy="3056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34880" y="4703760"/>
                <a:ext cx="83808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75280" y="4697280"/>
                <a:ext cx="52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00200" y="4986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7400" y="54435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84600" y="6053040"/>
              <a:ext cx="922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507640" y="5008320"/>
              <a:ext cx="0" cy="10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00840" y="4986360"/>
              <a:ext cx="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084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852360" y="5267160"/>
              <a:ext cx="668160" cy="371520"/>
              <a:chOff x="3852360" y="5267160"/>
              <a:chExt cx="668160" cy="371520"/>
            </a:xfrm>
          </p:grpSpPr>
          <p:sp>
            <p:nvSpPr>
              <p:cNvPr id="144" name=""/>
              <p:cNvSpPr/>
              <p:nvPr/>
            </p:nvSpPr>
            <p:spPr>
              <a:xfrm>
                <a:off x="3852360" y="5267160"/>
                <a:ext cx="655920" cy="3715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37680" y="5338800"/>
                <a:ext cx="582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782880" y="5916600"/>
              <a:ext cx="835560" cy="305640"/>
              <a:chOff x="3782880" y="5916600"/>
              <a:chExt cx="835560" cy="30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3782880" y="592308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22200" y="591660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507640" y="6053040"/>
              <a:ext cx="76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813640" y="4834080"/>
              <a:ext cx="61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250720" y="4035600"/>
              <a:ext cx="977040" cy="305640"/>
              <a:chOff x="2250720" y="4035600"/>
              <a:chExt cx="977040" cy="305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250720" y="4041720"/>
                <a:ext cx="9338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9160" y="403560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S/GE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741400" y="369108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6160" y="4834080"/>
              <a:ext cx="161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9000" y="4884840"/>
              <a:ext cx="633600" cy="19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920" y="4797360"/>
              <a:ext cx="1831680" cy="181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7860000">
              <a:off x="1185840" y="4908960"/>
              <a:ext cx="260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239840" y="4948200"/>
              <a:ext cx="10152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380000">
              <a:off x="2381400" y="4966920"/>
              <a:ext cx="2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412720" y="4963680"/>
              <a:ext cx="11232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">
              <a:off x="1349640" y="6428880"/>
              <a:ext cx="23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32080" y="6488280"/>
              <a:ext cx="1353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4740000">
              <a:off x="859320" y="581292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1720" y="5843520"/>
              <a:ext cx="2952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385280" y="4673520"/>
              <a:ext cx="831240" cy="305640"/>
              <a:chOff x="1385280" y="4673520"/>
              <a:chExt cx="831240" cy="305640"/>
            </a:xfrm>
          </p:grpSpPr>
          <p:sp>
            <p:nvSpPr>
              <p:cNvPr id="167" name=""/>
              <p:cNvSpPr/>
              <p:nvPr/>
            </p:nvSpPr>
            <p:spPr>
              <a:xfrm>
                <a:off x="1385280" y="4691160"/>
                <a:ext cx="8312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16320" y="467352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51760" y="5500800"/>
              <a:ext cx="466920" cy="550440"/>
              <a:chOff x="851760" y="5500800"/>
              <a:chExt cx="466920" cy="550440"/>
            </a:xfrm>
          </p:grpSpPr>
          <p:sp>
            <p:nvSpPr>
              <p:cNvPr id="170" name=""/>
              <p:cNvSpPr/>
              <p:nvPr/>
            </p:nvSpPr>
            <p:spPr>
              <a:xfrm>
                <a:off x="851760" y="5500800"/>
                <a:ext cx="466920" cy="36972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1560" y="5532480"/>
                <a:ext cx="423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358000" y="5100480"/>
              <a:ext cx="835200" cy="305640"/>
              <a:chOff x="2358000" y="5100480"/>
              <a:chExt cx="835200" cy="30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358000" y="511812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58880" y="5100480"/>
                <a:ext cx="45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150280" y="5896080"/>
              <a:ext cx="835560" cy="826920"/>
              <a:chOff x="2150280" y="5896080"/>
              <a:chExt cx="835560" cy="826920"/>
            </a:xfrm>
          </p:grpSpPr>
          <p:sp>
            <p:nvSpPr>
              <p:cNvPr id="176" name=""/>
              <p:cNvSpPr/>
              <p:nvPr/>
            </p:nvSpPr>
            <p:spPr>
              <a:xfrm>
                <a:off x="2150280" y="5896080"/>
                <a:ext cx="835560" cy="826920"/>
              </a:xfrm>
              <a:prstGeom prst="roundRect">
                <a:avLst>
                  <a:gd name="adj" fmla="val 24745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93120" y="6031080"/>
                <a:ext cx="69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70440" y="6238800"/>
                <a:ext cx="741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16400" y="6167520"/>
              <a:ext cx="873360" cy="334800"/>
              <a:chOff x="716400" y="6167520"/>
              <a:chExt cx="873360" cy="33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716400" y="6184800"/>
                <a:ext cx="8733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8280" y="6167520"/>
                <a:ext cx="5720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318040" y="3425760"/>
              <a:ext cx="835560" cy="305640"/>
              <a:chOff x="2318040" y="3425760"/>
              <a:chExt cx="835560" cy="305640"/>
            </a:xfrm>
          </p:grpSpPr>
          <p:sp>
            <p:nvSpPr>
              <p:cNvPr id="183" name=""/>
              <p:cNvSpPr/>
              <p:nvPr/>
            </p:nvSpPr>
            <p:spPr>
              <a:xfrm>
                <a:off x="2318040" y="343224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6160" y="3425760"/>
                <a:ext cx="462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6199200" y="422424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2920" y="4224240"/>
              <a:ext cx="299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395400" y="5307120"/>
              <a:ext cx="835200" cy="305640"/>
              <a:chOff x="6395400" y="5307120"/>
              <a:chExt cx="835200" cy="305640"/>
            </a:xfrm>
          </p:grpSpPr>
          <p:sp>
            <p:nvSpPr>
              <p:cNvPr id="188" name=""/>
              <p:cNvSpPr/>
              <p:nvPr/>
            </p:nvSpPr>
            <p:spPr>
              <a:xfrm>
                <a:off x="6395400" y="53132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65680" y="530712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813000" y="49863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300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8560" y="4834080"/>
              <a:ext cx="38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8560" y="6053040"/>
              <a:ext cx="72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395400" y="4697280"/>
              <a:ext cx="835200" cy="305640"/>
              <a:chOff x="6395400" y="4697280"/>
              <a:chExt cx="835200" cy="30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63954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64960" y="4697280"/>
                <a:ext cx="54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395400" y="5916600"/>
              <a:ext cx="835200" cy="305640"/>
              <a:chOff x="6395400" y="5916600"/>
              <a:chExt cx="835200" cy="30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6395400" y="592308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37600" y="5916600"/>
                <a:ext cx="47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8254080" y="4844880"/>
              <a:ext cx="450000" cy="444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4740000">
              <a:off x="8135640" y="497808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58400" y="5008680"/>
              <a:ext cx="2916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7624800" y="4697280"/>
              <a:ext cx="835200" cy="305640"/>
              <a:chOff x="7624800" y="4697280"/>
              <a:chExt cx="835200" cy="30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76248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41000" y="4697280"/>
                <a:ext cx="788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06512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74360" y="16336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502280" y="2014560"/>
              <a:ext cx="704160" cy="336600"/>
              <a:chOff x="1502280" y="2014560"/>
              <a:chExt cx="704160" cy="336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502280" y="2014560"/>
                <a:ext cx="704160" cy="33192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604520" y="2039760"/>
                <a:ext cx="540000" cy="311400"/>
                <a:chOff x="1604520" y="2039760"/>
                <a:chExt cx="540000" cy="311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648800" y="2057400"/>
                  <a:ext cx="45396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604520" y="203976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T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761480" y="2046240"/>
                  <a:ext cx="2988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81300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526440" y="3962520"/>
              <a:ext cx="536400" cy="371520"/>
              <a:chOff x="6526440" y="3962520"/>
              <a:chExt cx="536400" cy="371520"/>
            </a:xfrm>
          </p:grpSpPr>
          <p:sp>
            <p:nvSpPr>
              <p:cNvPr id="216" name=""/>
              <p:cNvSpPr/>
              <p:nvPr/>
            </p:nvSpPr>
            <p:spPr>
              <a:xfrm>
                <a:off x="6535080" y="3962520"/>
                <a:ext cx="52776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26440" y="40338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1707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298880" y="3692520"/>
              <a:ext cx="34164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16400" y="3425760"/>
              <a:ext cx="746640" cy="305640"/>
              <a:chOff x="716400" y="3425760"/>
              <a:chExt cx="746640" cy="305640"/>
            </a:xfrm>
          </p:grpSpPr>
          <p:sp>
            <p:nvSpPr>
              <p:cNvPr id="221" name=""/>
              <p:cNvSpPr/>
              <p:nvPr/>
            </p:nvSpPr>
            <p:spPr>
              <a:xfrm>
                <a:off x="716400" y="3432240"/>
                <a:ext cx="6969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4280" y="342576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050840" y="48340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84520" y="430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94720" y="3962520"/>
              <a:ext cx="540720" cy="371520"/>
              <a:chOff x="1494720" y="3962520"/>
              <a:chExt cx="540720" cy="371520"/>
            </a:xfrm>
          </p:grpSpPr>
          <p:sp>
            <p:nvSpPr>
              <p:cNvPr id="226" name=""/>
              <p:cNvSpPr/>
              <p:nvPr/>
            </p:nvSpPr>
            <p:spPr>
              <a:xfrm>
                <a:off x="1508040" y="3962520"/>
                <a:ext cx="5274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4720" y="4033800"/>
                <a:ext cx="514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054800" y="29289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690280" y="4319640"/>
              <a:ext cx="107280" cy="785880"/>
              <a:chOff x="2690280" y="4319640"/>
              <a:chExt cx="107280" cy="785880"/>
            </a:xfrm>
          </p:grpSpPr>
          <p:sp>
            <p:nvSpPr>
              <p:cNvPr id="230" name=""/>
              <p:cNvSpPr/>
              <p:nvPr/>
            </p:nvSpPr>
            <p:spPr>
              <a:xfrm>
                <a:off x="2741400" y="4319640"/>
                <a:ext cx="0" cy="45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41400" y="4871880"/>
                <a:ext cx="0" cy="2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690280" y="4781160"/>
                <a:ext cx="107280" cy="95400"/>
                <a:chOff x="2690280" y="4781160"/>
                <a:chExt cx="107280" cy="954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691360" y="4781520"/>
                  <a:ext cx="1062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16" y="4"/>
                      </a:moveTo>
                      <a:arcTo wR="10800" hR="10800" stAng="-5490446" swAng="54904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16" y="4"/>
                      </a:moveTo>
                      <a:arcTo wR="10800" hR="10800" stAng="-5490446" swAng="5490446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690280" y="4781160"/>
                  <a:ext cx="10584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586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58698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1573200" y="3425760"/>
              <a:ext cx="719640" cy="305640"/>
              <a:chOff x="1573200" y="3425760"/>
              <a:chExt cx="719640" cy="305640"/>
            </a:xfrm>
          </p:grpSpPr>
          <p:sp>
            <p:nvSpPr>
              <p:cNvPr id="236" name=""/>
              <p:cNvSpPr/>
              <p:nvPr/>
            </p:nvSpPr>
            <p:spPr>
              <a:xfrm>
                <a:off x="1573200" y="3432240"/>
                <a:ext cx="6134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81200" y="3425760"/>
                <a:ext cx="611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2720" y="3962520"/>
              <a:ext cx="539280" cy="371520"/>
              <a:chOff x="882720" y="3962520"/>
              <a:chExt cx="539280" cy="371520"/>
            </a:xfrm>
          </p:grpSpPr>
          <p:sp>
            <p:nvSpPr>
              <p:cNvPr id="239" name=""/>
              <p:cNvSpPr/>
              <p:nvPr/>
            </p:nvSpPr>
            <p:spPr>
              <a:xfrm>
                <a:off x="892800" y="39625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2720" y="4033800"/>
                <a:ext cx="47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P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H="1">
              <a:off x="890280" y="4376880"/>
              <a:ext cx="2044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7760" y="5367240"/>
              <a:ext cx="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3800" y="59770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54840" y="5062680"/>
              <a:ext cx="135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22520" y="5062320"/>
              <a:ext cx="0" cy="9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072960" y="6510240"/>
              <a:ext cx="27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72960" y="64342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43960" y="6396120"/>
              <a:ext cx="883080" cy="305640"/>
              <a:chOff x="3243960" y="6396120"/>
              <a:chExt cx="883080" cy="305640"/>
            </a:xfrm>
          </p:grpSpPr>
          <p:sp>
            <p:nvSpPr>
              <p:cNvPr id="249" name=""/>
              <p:cNvSpPr/>
              <p:nvPr/>
            </p:nvSpPr>
            <p:spPr>
              <a:xfrm>
                <a:off x="3243960" y="641340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7040" y="6396120"/>
                <a:ext cx="72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KP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813000" y="2395440"/>
              <a:ext cx="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0120" y="3081240"/>
              <a:ext cx="0" cy="10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80120" y="426240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561480" y="605304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561480" y="52912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290400" y="5291280"/>
              <a:ext cx="27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90400" y="521496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84080" y="37670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34240" y="4648320"/>
              <a:ext cx="536400" cy="371520"/>
              <a:chOff x="534240" y="4648320"/>
              <a:chExt cx="536400" cy="371520"/>
            </a:xfrm>
          </p:grpSpPr>
          <p:sp>
            <p:nvSpPr>
              <p:cNvPr id="260" name=""/>
              <p:cNvSpPr/>
              <p:nvPr/>
            </p:nvSpPr>
            <p:spPr>
              <a:xfrm>
                <a:off x="541440" y="4648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4240" y="47196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784080" y="506268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918600" y="2792520"/>
              <a:ext cx="835200" cy="305640"/>
              <a:chOff x="3918600" y="2792520"/>
              <a:chExt cx="835200" cy="305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918600" y="27986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33520" y="279252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019680" y="6129360"/>
              <a:ext cx="27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8440" y="308124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55040" y="3767040"/>
              <a:ext cx="2030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2683800" y="2781360"/>
              <a:ext cx="928080" cy="335880"/>
              <a:chOff x="2683800" y="2781360"/>
              <a:chExt cx="928080" cy="335880"/>
            </a:xfrm>
          </p:grpSpPr>
          <p:sp>
            <p:nvSpPr>
              <p:cNvPr id="270" name=""/>
              <p:cNvSpPr/>
              <p:nvPr/>
            </p:nvSpPr>
            <p:spPr>
              <a:xfrm>
                <a:off x="3144960" y="2781360"/>
                <a:ext cx="46692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3044880" y="2806560"/>
                <a:ext cx="519480" cy="310680"/>
                <a:chOff x="3044880" y="2806560"/>
                <a:chExt cx="519480" cy="3106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071520" y="2817720"/>
                  <a:ext cx="458280" cy="162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044880" y="2806560"/>
                  <a:ext cx="31572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81320" y="281160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2683800" y="2781360"/>
                <a:ext cx="46548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64080" y="2817720"/>
                <a:ext cx="456840" cy="16200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47520" y="280656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q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39040" y="281160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054800" y="2928960"/>
              <a:ext cx="1625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0360" y="3005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7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686680" y="2014560"/>
              <a:ext cx="828360" cy="324720"/>
              <a:chOff x="2686680" y="2014560"/>
              <a:chExt cx="828360" cy="324720"/>
            </a:xfrm>
          </p:grpSpPr>
          <p:sp>
            <p:nvSpPr>
              <p:cNvPr id="283" name=""/>
              <p:cNvSpPr/>
              <p:nvPr/>
            </p:nvSpPr>
            <p:spPr>
              <a:xfrm>
                <a:off x="268668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2760840" y="2033640"/>
                <a:ext cx="711000" cy="305640"/>
                <a:chOff x="2760840" y="2033640"/>
                <a:chExt cx="711000" cy="3056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781000" y="2044800"/>
                  <a:ext cx="535680" cy="15084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760840" y="2033640"/>
                  <a:ext cx="71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Glu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2040" y="2038320"/>
                  <a:ext cx="351000" cy="17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715400" y="2851200"/>
              <a:ext cx="154440" cy="154080"/>
              <a:chOff x="1715400" y="2851200"/>
              <a:chExt cx="154440" cy="154080"/>
            </a:xfrm>
          </p:grpSpPr>
          <p:sp>
            <p:nvSpPr>
              <p:cNvPr id="289" name=""/>
              <p:cNvSpPr/>
              <p:nvPr/>
            </p:nvSpPr>
            <p:spPr>
              <a:xfrm>
                <a:off x="1732320" y="2852640"/>
                <a:ext cx="135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715400" y="2851200"/>
                <a:ext cx="154440" cy="144000"/>
                <a:chOff x="1715400" y="2851200"/>
                <a:chExt cx="154440" cy="144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15760" y="2851200"/>
                  <a:ext cx="15408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715400" y="285300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2206440" y="2839320"/>
              <a:ext cx="229680" cy="211680"/>
              <a:chOff x="2206440" y="2839320"/>
              <a:chExt cx="229680" cy="211680"/>
            </a:xfrm>
          </p:grpSpPr>
          <p:sp>
            <p:nvSpPr>
              <p:cNvPr id="294" name=""/>
              <p:cNvSpPr/>
              <p:nvPr/>
            </p:nvSpPr>
            <p:spPr>
              <a:xfrm rot="18240000">
                <a:off x="2266200" y="2869560"/>
                <a:ext cx="1285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206440" y="2839320"/>
                <a:ext cx="229680" cy="211680"/>
                <a:chOff x="2206440" y="2839320"/>
                <a:chExt cx="229680" cy="211680"/>
              </a:xfrm>
            </p:grpSpPr>
            <p:sp>
              <p:nvSpPr>
                <p:cNvPr id="296" name=""/>
                <p:cNvSpPr/>
                <p:nvPr/>
              </p:nvSpPr>
              <p:spPr>
                <a:xfrm rot="18240000">
                  <a:off x="2258640" y="2865600"/>
                  <a:ext cx="1454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5" y="3"/>
                      </a:moveTo>
                      <a:arcTo wR="10800" hR="10800" stAng="-5474722" swAng="5410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5" y="3"/>
                      </a:moveTo>
                      <a:arcTo wR="10800" hR="10800" stAng="-5474722" swAng="541083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240000">
                  <a:off x="2237400" y="2868840"/>
                  <a:ext cx="1486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99"/>
                      </a:moveTo>
                      <a:arcTo wR="10800" hR="10800" stAng="-63856" swAng="5612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99"/>
                      </a:moveTo>
                      <a:arcTo wR="10800" hR="10800" stAng="-63856" swAng="561275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4289760" y="4146480"/>
              <a:ext cx="154440" cy="154080"/>
              <a:chOff x="4289760" y="4146480"/>
              <a:chExt cx="154440" cy="154080"/>
            </a:xfrm>
          </p:grpSpPr>
          <p:sp>
            <p:nvSpPr>
              <p:cNvPr id="299" name=""/>
              <p:cNvSpPr/>
              <p:nvPr/>
            </p:nvSpPr>
            <p:spPr>
              <a:xfrm>
                <a:off x="4306680" y="4148280"/>
                <a:ext cx="135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289760" y="4146480"/>
                <a:ext cx="154440" cy="144000"/>
                <a:chOff x="4289760" y="4146480"/>
                <a:chExt cx="154440" cy="144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290120" y="4146480"/>
                  <a:ext cx="15408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89760" y="414828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4374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906000" y="2014560"/>
              <a:ext cx="828360" cy="324720"/>
              <a:chOff x="3906000" y="2014560"/>
              <a:chExt cx="828360" cy="324720"/>
            </a:xfrm>
          </p:grpSpPr>
          <p:sp>
            <p:nvSpPr>
              <p:cNvPr id="305" name=""/>
              <p:cNvSpPr/>
              <p:nvPr/>
            </p:nvSpPr>
            <p:spPr>
              <a:xfrm>
                <a:off x="390600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3280" y="2033640"/>
                <a:ext cx="64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PC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902400" y="1066680"/>
              <a:ext cx="942480" cy="577440"/>
              <a:chOff x="3902400" y="1066680"/>
              <a:chExt cx="942480" cy="577440"/>
            </a:xfrm>
          </p:grpSpPr>
          <p:sp>
            <p:nvSpPr>
              <p:cNvPr id="308" name=""/>
              <p:cNvSpPr/>
              <p:nvPr/>
            </p:nvSpPr>
            <p:spPr>
              <a:xfrm>
                <a:off x="3908880" y="1066680"/>
                <a:ext cx="871920" cy="56700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02400" y="1125360"/>
                <a:ext cx="9424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ulator/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mo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860840" y="1633680"/>
              <a:ext cx="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502280" y="1108080"/>
              <a:ext cx="754560" cy="552600"/>
              <a:chOff x="1502280" y="1108080"/>
              <a:chExt cx="754560" cy="552600"/>
            </a:xfrm>
          </p:grpSpPr>
          <p:sp>
            <p:nvSpPr>
              <p:cNvPr id="312" name=""/>
              <p:cNvSpPr/>
              <p:nvPr/>
            </p:nvSpPr>
            <p:spPr>
              <a:xfrm>
                <a:off x="1502280" y="1108080"/>
                <a:ext cx="708120" cy="55260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526040" y="1125360"/>
                <a:ext cx="730800" cy="518760"/>
                <a:chOff x="1526040" y="1125360"/>
                <a:chExt cx="730800" cy="518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582560" y="1143000"/>
                  <a:ext cx="45648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526040" y="1125360"/>
                  <a:ext cx="730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rowth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acto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94880" y="1131840"/>
                  <a:ext cx="300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308736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844720" y="1219320"/>
              <a:ext cx="529200" cy="371520"/>
              <a:chOff x="2844720" y="1219320"/>
              <a:chExt cx="529200" cy="371520"/>
            </a:xfrm>
          </p:grpSpPr>
          <p:sp>
            <p:nvSpPr>
              <p:cNvPr id="319" name=""/>
              <p:cNvSpPr/>
              <p:nvPr/>
            </p:nvSpPr>
            <p:spPr>
              <a:xfrm>
                <a:off x="2844720" y="1219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62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344640" y="2014560"/>
              <a:ext cx="875160" cy="324720"/>
              <a:chOff x="6344640" y="2014560"/>
              <a:chExt cx="875160" cy="324720"/>
            </a:xfrm>
          </p:grpSpPr>
          <p:sp>
            <p:nvSpPr>
              <p:cNvPr id="322" name=""/>
              <p:cNvSpPr/>
              <p:nvPr/>
            </p:nvSpPr>
            <p:spPr>
              <a:xfrm>
                <a:off x="634464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39320" y="2044800"/>
                <a:ext cx="535680" cy="15084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73440" y="2033640"/>
                <a:ext cx="84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MD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70360" y="2038320"/>
                <a:ext cx="35100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681300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570720" y="1219320"/>
              <a:ext cx="528840" cy="371520"/>
              <a:chOff x="6570720" y="1219320"/>
              <a:chExt cx="528840" cy="37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6570720" y="1219320"/>
                <a:ext cx="52884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88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3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: major pathway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3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kin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/MKP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phosphat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B/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and P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 proteins and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it all together: Synaptic signall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s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2 and 3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sorted sources, both textbooks and online, to design signaling control for a single-cell organism that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move towards food, and ea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move towards mates, and not eat it. Identify mating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and avoid excessive heat, light, turbulence, and pred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 a day-night cycle of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a signal to divide at a suitable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a signal to encyst when times are 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thing else that you think would be relevant and inter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3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kin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K/MKP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/Thr phosphat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B/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ases and P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 proteins and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it all together: Synaptic signall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er/Thr Kin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O4 to Ser or Thr groups on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kinase has fairly specific target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mon: 1% of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-substrate and kinase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2971800"/>
            <a:ext cx="121932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96"/>
                </a:moveTo>
                <a:lnTo>
                  <a:pt x="432" y="96"/>
                </a:lnTo>
                <a:lnTo>
                  <a:pt x="528" y="0"/>
                </a:lnTo>
                <a:lnTo>
                  <a:pt x="624" y="96"/>
                </a:lnTo>
                <a:lnTo>
                  <a:pt x="768" y="96"/>
                </a:lnTo>
                <a:lnTo>
                  <a:pt x="768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5257800"/>
            <a:ext cx="121896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96"/>
                </a:moveTo>
                <a:lnTo>
                  <a:pt x="432" y="96"/>
                </a:lnTo>
                <a:lnTo>
                  <a:pt x="528" y="0"/>
                </a:lnTo>
                <a:lnTo>
                  <a:pt x="624" y="96"/>
                </a:lnTo>
                <a:lnTo>
                  <a:pt x="768" y="96"/>
                </a:lnTo>
                <a:lnTo>
                  <a:pt x="768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590920"/>
            <a:ext cx="144792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144" y="336"/>
                </a:moveTo>
                <a:lnTo>
                  <a:pt x="96" y="288"/>
                </a:lnTo>
                <a:lnTo>
                  <a:pt x="96" y="192"/>
                </a:lnTo>
                <a:lnTo>
                  <a:pt x="144" y="144"/>
                </a:lnTo>
                <a:lnTo>
                  <a:pt x="384" y="144"/>
                </a:lnTo>
                <a:lnTo>
                  <a:pt x="480" y="288"/>
                </a:lnTo>
                <a:lnTo>
                  <a:pt x="576" y="288"/>
                </a:lnTo>
                <a:lnTo>
                  <a:pt x="672" y="192"/>
                </a:lnTo>
                <a:lnTo>
                  <a:pt x="768" y="288"/>
                </a:lnTo>
                <a:lnTo>
                  <a:pt x="816" y="288"/>
                </a:lnTo>
                <a:lnTo>
                  <a:pt x="912" y="240"/>
                </a:lnTo>
                <a:lnTo>
                  <a:pt x="912" y="96"/>
                </a:lnTo>
                <a:lnTo>
                  <a:pt x="864" y="0"/>
                </a:lnTo>
                <a:lnTo>
                  <a:pt x="96" y="0"/>
                </a:lnTo>
                <a:lnTo>
                  <a:pt x="0" y="96"/>
                </a:lnTo>
                <a:lnTo>
                  <a:pt x="0" y="432"/>
                </a:lnTo>
                <a:lnTo>
                  <a:pt x="96" y="528"/>
                </a:lnTo>
                <a:lnTo>
                  <a:pt x="144" y="52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905080" y="445716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48" y="144"/>
                </a:moveTo>
                <a:lnTo>
                  <a:pt x="288" y="144"/>
                </a:lnTo>
                <a:lnTo>
                  <a:pt x="384" y="288"/>
                </a:lnTo>
                <a:lnTo>
                  <a:pt x="480" y="288"/>
                </a:lnTo>
                <a:lnTo>
                  <a:pt x="576" y="192"/>
                </a:lnTo>
                <a:lnTo>
                  <a:pt x="672" y="288"/>
                </a:lnTo>
                <a:lnTo>
                  <a:pt x="816" y="240"/>
                </a:lnTo>
                <a:lnTo>
                  <a:pt x="816" y="96"/>
                </a:lnTo>
                <a:lnTo>
                  <a:pt x="76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553080" y="525744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50292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324120" y="53341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5257800"/>
            <a:ext cx="30456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lnTo>
                  <a:pt x="96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67160" y="22240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eudo-subs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48769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e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360" y="4648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69757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tein Kinase A, PK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33195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cAMP + R2C2-&gt; 2cAMP.R2 + 2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 substr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sphorylase kin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s-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1 inhib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KA_path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5600520" cy="4321440"/>
          </a:xfrm>
          <a:prstGeom prst="rect">
            <a:avLst/>
          </a:prstGeom>
          <a:ln w="0">
            <a:noFill/>
          </a:ln>
        </p:spPr>
      </p:pic>
      <p:pic>
        <p:nvPicPr>
          <p:cNvPr id="67" name="PKA" descr=""/>
          <p:cNvPicPr/>
          <p:nvPr/>
        </p:nvPicPr>
        <p:blipFill>
          <a:blip r:embed="rId2"/>
          <a:stretch/>
        </p:blipFill>
        <p:spPr>
          <a:xfrm>
            <a:off x="0" y="3962520"/>
            <a:ext cx="5554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tein Kinase C, PKC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ily C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G (from PLC-be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(from PLA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is synerg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as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so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KC_path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300672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itogen-activated Protein Kinase, MAP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al phosphorylation of MAPKK and MAP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gain,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dynamic r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stable, oscillat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parallel casc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ffold 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tes proliferation, death, differentiat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ocates to nucleus, transcriptional control of many 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regulates MKP-1, which turns MAPK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mapk_cascade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7656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MKII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06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exists in a decamer/dodecamer (10 or 12 subun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alpha/beta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by Ca4.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by autophosphory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complex regulation. May be bi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in ridiculously high concentrations (~50 uM) at synap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ubstrates, including NMDA 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ed in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er/Thr phosphat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ame catalytic group complexed with different regulatory sub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7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ibited by I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1 is activated by P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CaMK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PKA subst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phosphat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2B, Calcineurin,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/CaM reg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hosphorylates I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257800"/>
            <a:ext cx="76212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57800"/>
            <a:ext cx="68580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6095880"/>
            <a:ext cx="68580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257800"/>
            <a:ext cx="609480" cy="380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4419720"/>
            <a:ext cx="6858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876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95880"/>
            <a:ext cx="114300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r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63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43200" y="54100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2578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638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6019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00200" y="63244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172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9:48:47Z</dcterms:modified>
  <cp:revision>26373</cp:revision>
  <dc:subject/>
  <dc:title>Interfacing the brain</dc:title>
</cp:coreProperties>
</file>