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047-F85A-4A9D-9FD4-A7433849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DD1-A24E-4EF1-AEAF-56DDDE3B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C51-458A-40DC-A00B-392F04EA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639-41C3-4CC5-84B0-D9505D29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5EE-D063-4E68-8FC0-BFCDC5B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6AA-F602-4E03-9936-4C7F70F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56A-44FC-4A16-B670-5F1ACA8A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3EF-ECCD-461E-9D7A-BA17383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D7D-04F6-4D70-BB25-0312CFC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DA1-B6F3-43E1-BB75-17910E6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2B8-17A1-4E9C-8908-500C8C5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C6B-4070-47CA-9FC2-2E92B1C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15DD-4052-41FB-8C1C-3E0BD3A89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ignalling by protein cleavag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ptosis is a strikin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cade of cleaved proteins: Caspases, Cystein aspartate prot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mogens well known in other con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also affected by cleav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involved in apoptosis, both as +ve and –ve reg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ved PKC may be consitutively 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ukaryotic Gene contro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possible stages of control of protein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gene_exp_control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57610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4592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ene reg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4" name="palindrome_seq_recog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3143160" cy="1165320"/>
          </a:xfrm>
          <a:prstGeom prst="rect">
            <a:avLst/>
          </a:prstGeom>
          <a:ln w="0">
            <a:noFill/>
          </a:ln>
        </p:spPr>
      </p:pic>
      <p:pic>
        <p:nvPicPr>
          <p:cNvPr id="75" name="gene_reg_summary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8580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ac oper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7" name="lac_operon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580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975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ulti-level gene contro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9" name="euk_transc_control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19360" cy="5800680"/>
          </a:xfrm>
          <a:prstGeom prst="rect">
            <a:avLst/>
          </a:prstGeom>
          <a:ln w="0">
            <a:noFill/>
          </a:ln>
        </p:spPr>
      </p:pic>
      <p:pic>
        <p:nvPicPr>
          <p:cNvPr id="80" name="integ_at_promotor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5715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Organisation of gene controlle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82" name="gene_act_distance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3222360"/>
          </a:xfrm>
          <a:prstGeom prst="rect">
            <a:avLst/>
          </a:prstGeom>
          <a:ln w="0">
            <a:noFill/>
          </a:ln>
        </p:spPr>
      </p:pic>
      <p:pic>
        <p:nvPicPr>
          <p:cNvPr id="83" name="typ_euk_gene_control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8580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gulation and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8840" y="198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scope for signalling control of tran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sig_and_gen_reg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8468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cessing eukaryotic gen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88" name="opening_DNA" descr=""/>
          <p:cNvPicPr/>
          <p:nvPr/>
        </p:nvPicPr>
        <p:blipFill>
          <a:blip r:embed="rId1"/>
          <a:stretch/>
        </p:blipFill>
        <p:spPr>
          <a:xfrm>
            <a:off x="152280" y="1657440"/>
            <a:ext cx="5715000" cy="5200560"/>
          </a:xfrm>
          <a:prstGeom prst="rect">
            <a:avLst/>
          </a:prstGeom>
          <a:ln w="0">
            <a:noFill/>
          </a:ln>
        </p:spPr>
      </p:pic>
      <p:pic>
        <p:nvPicPr>
          <p:cNvPr id="89" name="opening_chromatin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1435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2133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-ve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d +ve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FB loops in gen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91" name="lambda_gene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715000" cy="2136600"/>
          </a:xfrm>
          <a:prstGeom prst="rect">
            <a:avLst/>
          </a:prstGeom>
          <a:ln w="0">
            <a:noFill/>
          </a:ln>
        </p:spPr>
      </p:pic>
      <p:pic>
        <p:nvPicPr>
          <p:cNvPr id="92" name="pos_fb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5715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heriting DNA reg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94" name="DNA_reg_inherit1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15000" cy="2492280"/>
          </a:xfrm>
          <a:prstGeom prst="rect">
            <a:avLst/>
          </a:prstGeom>
          <a:ln w="0">
            <a:noFill/>
          </a:ln>
        </p:spPr>
      </p:pic>
      <p:pic>
        <p:nvPicPr>
          <p:cNvPr id="95" name="DNA_reg_inherit2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858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4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Signalling, Genes, and cell biology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s et al (Molecular Biology of th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ost-transcriptional regul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97" name="post_transcript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4389480"/>
          </a:xfrm>
          <a:prstGeom prst="rect">
            <a:avLst/>
          </a:prstGeom>
          <a:ln w="0">
            <a:noFill/>
          </a:ln>
        </p:spPr>
      </p:pic>
      <p:pic>
        <p:nvPicPr>
          <p:cNvPr id="98" name="reg_alt_splicing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5715000" cy="3372120"/>
          </a:xfrm>
          <a:prstGeom prst="rect">
            <a:avLst/>
          </a:prstGeom>
          <a:ln w="0">
            <a:noFill/>
          </a:ln>
        </p:spPr>
      </p:pic>
      <p:pic>
        <p:nvPicPr>
          <p:cNvPr id="99" name="reg_alt_splicing2" descr=""/>
          <p:cNvPicPr/>
          <p:nvPr/>
        </p:nvPicPr>
        <p:blipFill>
          <a:blip r:embed="rId3"/>
          <a:stretch/>
        </p:blipFill>
        <p:spPr>
          <a:xfrm>
            <a:off x="3276720" y="4514760"/>
            <a:ext cx="5715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inase regulation of eIF-2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01" name="eif_contro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150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ignalling and Gene contro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 synthesis is subject to many levels of signalling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networks can be fantastically complex: Enormous potential fan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ultimately feed back into the signalling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over is critical for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athrin endocyto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82840" y="4876920"/>
            <a:ext cx="3413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 of assembly of a coated p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clathrin_vesicle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132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athrin and recepto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08" name="vesicle_endocytosis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7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atomer vesicl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962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G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Fs mediate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F in source membrane loads ves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 in target membrane unload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coatomer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57150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NAREs and Rab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3" name="rab2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50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icrotubule moto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5" name="motors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715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otor_reg_binding" descr=""/>
          <p:cNvPicPr/>
          <p:nvPr/>
        </p:nvPicPr>
        <p:blipFill>
          <a:blip r:embed="rId1"/>
          <a:stretch/>
        </p:blipFill>
        <p:spPr>
          <a:xfrm>
            <a:off x="817560" y="353880"/>
            <a:ext cx="750888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gulation of motor bind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18" name="motor_reg_binding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55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4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adation and it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ling by protein clea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ptional control is maj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-transcriptional regulation also versa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ons and alternative splicing and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 synthesis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and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th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 by SNAREs and R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o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atile 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al adh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aptic control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trol of movemen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fficking and Motors are both highly regulated by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ovements determine access of molecules, including signalling molecules, to parts of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between compar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n cytoskelet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22" name="actin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Focal adhesion of cytoskelet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in receptor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t clu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, Talin, actinin may b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fak1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52941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FAK recruits and signal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rc and Fyn bind to tyr phosphorylated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proteins bind to F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fak2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3829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cruitment of acti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30" name="fak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922920" cy="3438360"/>
          </a:xfrm>
          <a:prstGeom prst="rect">
            <a:avLst/>
          </a:prstGeom>
          <a:ln w="0">
            <a:noFill/>
          </a:ln>
        </p:spPr>
      </p:pic>
      <p:pic>
        <p:nvPicPr>
          <p:cNvPr id="131" name="fak4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4685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MKII and synaps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33" name="CaMKII_psd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153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uilding a cel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ysical structure of the cell is also controlled by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ecap of lecture 4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adation and it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ling by protein clea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ptional control is maj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-transcriptional regulation also versa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ons and alternative splicing and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 synthesis re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and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th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 by SNAREs and R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o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atile 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al adh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aptic control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ssignment for lecture 4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123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sorted sources, both textbooks and online, to design differentiation in a simple multicellular 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berts et al have a lot of stuff abou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get an adult organism having 4 cells of type A, 2 of type B, and 1 each of type C and D from a spherical eg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maintain cell types in the resultant small org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prevent cells from dividing fur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replace cells if one dies. (Hint: Cells of type A could be stem cells, capable of differentiating into any of the other typ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out how to get A cells to be on the outside, and B, C, and D cells not to touch any other of the same kind. You can assume a 2-dimensional org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urnove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ular molecules have a short life (&lt; 30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agation of labelled proteins through rod and out takes about 10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od_turnover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6400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urnove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of a protea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roteosome_str" descr=""/>
          <p:cNvPicPr/>
          <p:nvPr/>
        </p:nvPicPr>
        <p:blipFill>
          <a:blip r:embed="rId1"/>
          <a:stretch/>
        </p:blipFill>
        <p:spPr>
          <a:xfrm>
            <a:off x="3809880" y="685800"/>
            <a:ext cx="516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Ubiquiti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58" name="ubiquitin_degrad_pathway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836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xamples of signalling and turnove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regulated upon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u is about 6 hours – very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82840" y="1981080"/>
            <a:ext cx="435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KP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criptional regulation by 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phosphorylation by MAP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s turnover from 40 min to 2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mechanism for   -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ignalling in apopto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63" name="casp_path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poptosom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311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assembles the Casp9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p9 dimerizes and gets activ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s casc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apoptosome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5029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5T19:18:18Z</dcterms:modified>
  <cp:revision>26376</cp:revision>
  <dc:subject/>
  <dc:title>Interfacing the brain</dc:title>
</cp:coreProperties>
</file>